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DF4-5DEA-4A74-9327-79D7F6AC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ED7-5D4D-4EAA-A058-E624B90E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CAB-865E-450E-95BC-BDF559FC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435-7412-4148-8739-AA9B19A9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C98-2CC3-4402-8172-157EAEEF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3D5-5EB0-4177-AF73-C23F901F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4B9-A1FC-46EE-B36C-B9E765F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A15-91F6-42F8-99A2-08FE1329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21D-1DB6-486C-B767-B529D21E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1D5-0CB3-4072-9C32-4A4B4358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673-0534-4B17-9422-E4BBD8C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403-9598-43F9-B9E3-C26BB05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2D24-0F9C-4FCF-83CA-D41191389EC5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231840" y="1968480"/>
            <a:ext cx="218268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11" descr=""/>
          <p:cNvPicPr/>
          <p:nvPr/>
        </p:nvPicPr>
        <p:blipFill>
          <a:blip r:embed="rId10"/>
          <a:stretch/>
        </p:blipFill>
        <p:spPr>
          <a:xfrm>
            <a:off x="2859120" y="5065560"/>
            <a:ext cx="571176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أولاً : العرض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200" y="1428480"/>
            <a:ext cx="850104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 fontScale="84000"/>
          </a:bodyPr>
          <a:p>
            <a:pPr marL="288000" indent="-28800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رغبة المنتجين بعرض السلع والخدمات للبيع في الاسواق مقابل ثمن معين وفي وقت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214200" y="2928960"/>
            <a:ext cx="8472600" cy="939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</a:rPr>
              <a:t>ثانياً: العرض السياح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142920" y="4071960"/>
            <a:ext cx="8643960" cy="157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3320" indent="936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رغبة المنتجين بعرض السلع والخدمات السياحية للبيع في الاسواق مقابل ثمن معين وفي وقت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1080" y="42876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concept of Supp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362160" y="314316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concept of Tourism Su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7964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00"/>
                </a:solidFill>
                <a:latin typeface="Calibri"/>
                <a:cs typeface="Arial"/>
              </a:rPr>
              <a:t>يمثل العرض السياح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71640" y="1857240"/>
            <a:ext cx="38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0000ff"/>
                </a:solidFill>
                <a:latin typeface="Calibri"/>
              </a:rPr>
              <a:t>السلع</a:t>
            </a:r>
            <a:r>
              <a:rPr b="1" lang="ar-IQ" sz="3600" spc="-1" strike="noStrike">
                <a:solidFill>
                  <a:srgbClr val="000000"/>
                </a:solidFill>
                <a:latin typeface="Calibri"/>
              </a:rPr>
              <a:t> و</a:t>
            </a:r>
            <a:r>
              <a:rPr b="1" lang="ar-IQ" sz="3600" spc="-1" strike="noStrike">
                <a:solidFill>
                  <a:srgbClr val="0000ff"/>
                </a:solidFill>
                <a:latin typeface="Calibri"/>
              </a:rPr>
              <a:t>الخدمات</a:t>
            </a:r>
            <a:r>
              <a:rPr b="1" lang="ar-IQ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290920" y="3357720"/>
            <a:ext cx="407916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7030a0"/>
                </a:solidFill>
                <a:latin typeface="Calibri"/>
              </a:rPr>
              <a:t>هناك بضائع يمكن أن تغر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7030a0"/>
                </a:solidFill>
                <a:latin typeface="Calibri"/>
              </a:rPr>
              <a:t>الناس لزيارة بلد مع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7"/>
          <p:cNvCxnSpPr/>
          <p:nvPr/>
        </p:nvCxnSpPr>
        <p:spPr>
          <a:xfrm>
            <a:off x="5428800" y="2428560"/>
            <a:ext cx="1358280" cy="8578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Rectangle 10"/>
          <p:cNvSpPr/>
          <p:nvPr/>
        </p:nvSpPr>
        <p:spPr>
          <a:xfrm>
            <a:off x="785880" y="3357720"/>
            <a:ext cx="373068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7030a0"/>
                </a:solidFill>
                <a:latin typeface="Calibri"/>
              </a:rPr>
              <a:t>هي المستلزمات التي يجب أن تتوافر في أماكن القصد السياحي لسياحها الحقيقيين أو المحتمل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12"/>
          <p:cNvCxnSpPr/>
          <p:nvPr/>
        </p:nvCxnSpPr>
        <p:spPr>
          <a:xfrm flipH="1">
            <a:off x="2785680" y="2427840"/>
            <a:ext cx="1286640" cy="85788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3" name="Down Arrow 14" descr=""/>
          <p:cNvPicPr/>
          <p:nvPr/>
        </p:nvPicPr>
        <p:blipFill>
          <a:blip r:embed="rId1"/>
          <a:stretch/>
        </p:blipFill>
        <p:spPr>
          <a:xfrm>
            <a:off x="1316160" y="4809960"/>
            <a:ext cx="694980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14200" y="571680"/>
            <a:ext cx="8643960" cy="35060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كل ما تستطيع ان تقدمه منطقة ما لقاصديها من السياح الفعليين والمتوقعين، متمثلة </a:t>
            </a:r>
            <a:r>
              <a:rPr b="1" lang="ar-IQ" sz="3200" spc="-1" strike="noStrike">
                <a:solidFill>
                  <a:srgbClr val="ff0000"/>
                </a:solidFill>
                <a:latin typeface="Calibri"/>
              </a:rPr>
              <a:t>بسلسلة متصلة ومتكاملة من المغريات والجواذب الطبيعية والبشرية ومن التسهيلات والخدمات والمنشآت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تي تترك الأثر في نفوس قاصديها للزيارتها والمكوث فيها مدة من الزمن دون غير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500040" y="3500280"/>
            <a:ext cx="8096400" cy="2310480"/>
            <a:chOff x="500040" y="3500280"/>
            <a:chExt cx="8096400" cy="2310480"/>
          </a:xfrm>
        </p:grpSpPr>
        <p:sp>
          <p:nvSpPr>
            <p:cNvPr id="66" name="Rectangle 4"/>
            <p:cNvSpPr/>
            <p:nvPr/>
          </p:nvSpPr>
          <p:spPr>
            <a:xfrm>
              <a:off x="3354840" y="3500280"/>
              <a:ext cx="2212200" cy="581400"/>
            </a:xfrm>
            <a:prstGeom prst="rect">
              <a:avLst/>
            </a:prstGeom>
            <a:solidFill>
              <a:srgbClr val="8064a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بمعنى آخ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" name="Rectangle 5"/>
            <p:cNvGrpSpPr/>
            <p:nvPr/>
          </p:nvGrpSpPr>
          <p:grpSpPr>
            <a:xfrm>
              <a:off x="500040" y="4158720"/>
              <a:ext cx="8096400" cy="1652040"/>
              <a:chOff x="500040" y="4158720"/>
              <a:chExt cx="8096400" cy="1652040"/>
            </a:xfrm>
          </p:grpSpPr>
          <p:pic>
            <p:nvPicPr>
              <p:cNvPr id="68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500040" y="4158720"/>
                <a:ext cx="8096400" cy="127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553320" y="4254480"/>
                <a:ext cx="78433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000000"/>
                    </a:solidFill>
                    <a:latin typeface="Calibri"/>
                  </a:rPr>
                  <a:t>مجموعة من المغريات والجواذب القادرة على جلب السياح الى منطقة ما وإبقائهم فيها لمدة من الزمن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" name="Down Arrow 7"/>
          <p:cNvSpPr/>
          <p:nvPr/>
        </p:nvSpPr>
        <p:spPr>
          <a:xfrm>
            <a:off x="3214800" y="5572080"/>
            <a:ext cx="2857320" cy="7146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00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own Arrow 23"/>
          <p:cNvSpPr/>
          <p:nvPr/>
        </p:nvSpPr>
        <p:spPr>
          <a:xfrm>
            <a:off x="2357280" y="3786120"/>
            <a:ext cx="6500880" cy="2857680"/>
          </a:xfrm>
          <a:prstGeom prst="downArrow">
            <a:avLst>
              <a:gd name="adj1" fmla="val 50000"/>
              <a:gd name="adj2" fmla="val 2324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57240">
            <a:solidFill>
              <a:srgbClr val="00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481120" y="500040"/>
            <a:ext cx="40183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مغريات والجواذ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564480" y="1357200"/>
            <a:ext cx="7575120" cy="1153080"/>
            <a:chOff x="564480" y="1357200"/>
            <a:chExt cx="7575120" cy="1153080"/>
          </a:xfrm>
        </p:grpSpPr>
        <p:sp>
          <p:nvSpPr>
            <p:cNvPr id="74" name="Rectangle 4"/>
            <p:cNvSpPr/>
            <p:nvPr/>
          </p:nvSpPr>
          <p:spPr>
            <a:xfrm>
              <a:off x="1187640" y="1357200"/>
              <a:ext cx="645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مثل المرتكزات الأساسية الثلاث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"/>
            <p:cNvSpPr/>
            <p:nvPr/>
          </p:nvSpPr>
          <p:spPr>
            <a:xfrm>
              <a:off x="564480" y="1928880"/>
              <a:ext cx="7575120" cy="58140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مود الفقري الدائم لظاهرة السياح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17"/>
          <p:cNvGrpSpPr/>
          <p:nvPr/>
        </p:nvGrpSpPr>
        <p:grpSpPr>
          <a:xfrm>
            <a:off x="4350240" y="2513160"/>
            <a:ext cx="4846320" cy="1643040"/>
            <a:chOff x="4350240" y="2513160"/>
            <a:chExt cx="4846320" cy="1643040"/>
          </a:xfrm>
        </p:grpSpPr>
        <p:grpSp>
          <p:nvGrpSpPr>
            <p:cNvPr id="77" name="Rectangle 7"/>
            <p:cNvGrpSpPr/>
            <p:nvPr/>
          </p:nvGrpSpPr>
          <p:grpSpPr>
            <a:xfrm>
              <a:off x="5676840" y="3328920"/>
              <a:ext cx="3519720" cy="827280"/>
              <a:chOff x="5676840" y="3328920"/>
              <a:chExt cx="3519720" cy="827280"/>
            </a:xfrm>
          </p:grpSpPr>
          <p:pic>
            <p:nvPicPr>
              <p:cNvPr id="78" name="Rectangl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6089400" y="3328920"/>
                <a:ext cx="2710080" cy="8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5676840" y="3422160"/>
                <a:ext cx="3519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المصادر الطبيعي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80" name="Straight Arrow Connector 11"/>
            <p:cNvCxnSpPr>
              <a:stCxn id="75" idx="2"/>
            </p:cNvCxnSpPr>
            <p:nvPr/>
          </p:nvCxnSpPr>
          <p:spPr>
            <a:xfrm>
              <a:off x="4350240" y="2513160"/>
              <a:ext cx="3080520" cy="84888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81" name="Group 21"/>
          <p:cNvGrpSpPr/>
          <p:nvPr/>
        </p:nvGrpSpPr>
        <p:grpSpPr>
          <a:xfrm>
            <a:off x="-314640" y="2512800"/>
            <a:ext cx="4665960" cy="3258360"/>
            <a:chOff x="-314640" y="2512800"/>
            <a:chExt cx="4665960" cy="3258360"/>
          </a:xfrm>
        </p:grpSpPr>
        <p:grpSp>
          <p:nvGrpSpPr>
            <p:cNvPr id="82" name="Group 19"/>
            <p:cNvGrpSpPr/>
            <p:nvPr/>
          </p:nvGrpSpPr>
          <p:grpSpPr>
            <a:xfrm>
              <a:off x="-314640" y="2512800"/>
              <a:ext cx="4665960" cy="1643760"/>
              <a:chOff x="-314640" y="2512800"/>
              <a:chExt cx="4665960" cy="1643760"/>
            </a:xfrm>
          </p:grpSpPr>
          <p:grpSp>
            <p:nvGrpSpPr>
              <p:cNvPr id="83" name="Rectangle 9"/>
              <p:cNvGrpSpPr/>
              <p:nvPr/>
            </p:nvGrpSpPr>
            <p:grpSpPr>
              <a:xfrm>
                <a:off x="-314640" y="3328920"/>
                <a:ext cx="4126320" cy="827640"/>
                <a:chOff x="-314640" y="3328920"/>
                <a:chExt cx="4126320" cy="827640"/>
              </a:xfrm>
            </p:grpSpPr>
            <p:pic>
              <p:nvPicPr>
                <p:cNvPr id="84" name="Rectangl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4200" y="3328920"/>
                  <a:ext cx="3083400" cy="82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" name=""/>
                <p:cNvSpPr/>
                <p:nvPr/>
              </p:nvSpPr>
              <p:spPr>
                <a:xfrm>
                  <a:off x="-314640" y="3422520"/>
                  <a:ext cx="41263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المرافق والتجهيزات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86" name="Straight Arrow Connector 15"/>
              <p:cNvCxnSpPr>
                <a:stCxn id="75" idx="2"/>
              </p:cNvCxnSpPr>
              <p:nvPr/>
            </p:nvCxnSpPr>
            <p:spPr>
              <a:xfrm flipH="1">
                <a:off x="1897920" y="2512800"/>
                <a:ext cx="2453760" cy="849240"/>
              </a:xfrm>
              <a:prstGeom prst="straightConnector1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sp>
          <p:nvSpPr>
            <p:cNvPr id="87" name="Rectangle 20"/>
            <p:cNvSpPr/>
            <p:nvPr/>
          </p:nvSpPr>
          <p:spPr>
            <a:xfrm>
              <a:off x="428760" y="4214880"/>
              <a:ext cx="2218320" cy="1556280"/>
            </a:xfrm>
            <a:prstGeom prst="rect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قومات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مساعد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والتكميل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24"/>
          <p:cNvGrpSpPr/>
          <p:nvPr/>
        </p:nvGrpSpPr>
        <p:grpSpPr>
          <a:xfrm>
            <a:off x="1761480" y="2513160"/>
            <a:ext cx="5432400" cy="3696120"/>
            <a:chOff x="1761480" y="2513160"/>
            <a:chExt cx="5432400" cy="3696120"/>
          </a:xfrm>
        </p:grpSpPr>
        <p:grpSp>
          <p:nvGrpSpPr>
            <p:cNvPr id="89" name="Group 18"/>
            <p:cNvGrpSpPr/>
            <p:nvPr/>
          </p:nvGrpSpPr>
          <p:grpSpPr>
            <a:xfrm>
              <a:off x="2999880" y="2513160"/>
              <a:ext cx="3381120" cy="1643040"/>
              <a:chOff x="2999880" y="2513160"/>
              <a:chExt cx="3381120" cy="1643040"/>
            </a:xfrm>
          </p:grpSpPr>
          <p:grpSp>
            <p:nvGrpSpPr>
              <p:cNvPr id="90" name="Rectangle 8"/>
              <p:cNvGrpSpPr/>
              <p:nvPr/>
            </p:nvGrpSpPr>
            <p:grpSpPr>
              <a:xfrm>
                <a:off x="2999880" y="3328920"/>
                <a:ext cx="3381120" cy="827280"/>
                <a:chOff x="2999880" y="3328920"/>
                <a:chExt cx="3381120" cy="827280"/>
              </a:xfrm>
            </p:grpSpPr>
            <p:pic>
              <p:nvPicPr>
                <p:cNvPr id="91" name="Rectangle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0280" y="3328920"/>
                  <a:ext cx="2377800" cy="827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" name=""/>
                <p:cNvSpPr/>
                <p:nvPr/>
              </p:nvSpPr>
              <p:spPr>
                <a:xfrm>
                  <a:off x="2999880" y="3422160"/>
                  <a:ext cx="3381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المصادر البشرية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93" name="Straight Arrow Connector 13"/>
              <p:cNvCxnSpPr>
                <a:stCxn id="75" idx="2"/>
              </p:cNvCxnSpPr>
              <p:nvPr/>
            </p:nvCxnSpPr>
            <p:spPr>
              <a:xfrm>
                <a:off x="4402440" y="2513160"/>
                <a:ext cx="188640" cy="848880"/>
              </a:xfrm>
              <a:prstGeom prst="straightConnector1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sp>
          <p:nvSpPr>
            <p:cNvPr id="94" name="Rectangle 22"/>
            <p:cNvSpPr/>
            <p:nvPr/>
          </p:nvSpPr>
          <p:spPr>
            <a:xfrm>
              <a:off x="1761480" y="4286520"/>
              <a:ext cx="5432400" cy="1922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 algn="r" rtl="1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لا تتساوى مطلقاً بالأهمية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كلها ضرورية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buClr>
                  <a:srgbClr val="000000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ليس بمقدور أي منها يكون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كافياً لتنمية سياحة ما وتحقي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7200" indent="-457200"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النجاح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09:56:44Z</dcterms:created>
  <dc:creator>Lenovo</dc:creator>
  <dc:description/>
  <dc:language>en-US</dc:language>
  <cp:lastModifiedBy>مرتضى الكربلائي</cp:lastModifiedBy>
  <dcterms:modified xsi:type="dcterms:W3CDTF">2015-06-09T22:06:52Z</dcterms:modified>
  <cp:revision>13</cp:revision>
  <dc:subject/>
  <dc:title>Slide 1</dc:title>
</cp:coreProperties>
</file>