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04A-D6F9-4F6A-9641-3DADB168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641-3733-4446-A430-7A8F03D1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F1D-5140-4B4B-9024-5CE74C51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EDD-8A7B-4625-B5BA-9DAEC2E2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F23-9FE1-4CF1-A97A-B2CF970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741-C416-4CE1-8687-206A7FA0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CB1-BADA-4381-A161-1A2267B9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B2D-8813-467D-8AD2-ED2405CB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017-EF25-4C32-AE8C-84D1950F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B91-6310-4F0E-8CE0-BD7510CD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9B4-314D-4CAF-BD18-93797952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1F0-F230-4263-8934-46E70C7E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49C2-C011-4F2E-967E-A410D46508F2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85680" y="1889280"/>
            <a:ext cx="2382840" cy="4151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822400" y="5267160"/>
            <a:ext cx="571824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000080" y="1285920"/>
            <a:ext cx="7358040" cy="1373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alibri"/>
              </a:rPr>
              <a:t>عملية التغير النسبي في الجوانب المادية والمعنوية للسلوك البشري خلال فترة زمنية معينة بغض النظر عن النقلة المكان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Content Placeholder 7"/>
          <p:cNvGrpSpPr/>
          <p:nvPr/>
        </p:nvGrpSpPr>
        <p:grpSpPr>
          <a:xfrm>
            <a:off x="6181560" y="109440"/>
            <a:ext cx="2883240" cy="1049400"/>
            <a:chOff x="6181560" y="109440"/>
            <a:chExt cx="2883240" cy="1049400"/>
          </a:xfrm>
        </p:grpSpPr>
        <p:pic>
          <p:nvPicPr>
            <p:cNvPr id="47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6181560" y="109440"/>
              <a:ext cx="28832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286680" y="285840"/>
              <a:ext cx="25430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1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تحضر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Rectangle 5"/>
          <p:cNvSpPr/>
          <p:nvPr/>
        </p:nvSpPr>
        <p:spPr>
          <a:xfrm>
            <a:off x="5916960" y="2786040"/>
            <a:ext cx="3192120" cy="1068840"/>
          </a:xfrm>
          <a:prstGeom prst="rect">
            <a:avLst/>
          </a:prstGeom>
          <a:solidFill>
            <a:srgbClr val="4bacc6"/>
          </a:solidFill>
          <a:ln w="381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زيادة سك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المدن الحضر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6"/>
          <p:cNvGrpSpPr/>
          <p:nvPr/>
        </p:nvGrpSpPr>
        <p:grpSpPr>
          <a:xfrm>
            <a:off x="3429000" y="2357280"/>
            <a:ext cx="3216600" cy="1785960"/>
            <a:chOff x="3429000" y="2357280"/>
            <a:chExt cx="3216600" cy="1785960"/>
          </a:xfrm>
        </p:grpSpPr>
        <p:sp>
          <p:nvSpPr>
            <p:cNvPr id="51" name="Left Arrow 7"/>
            <p:cNvSpPr/>
            <p:nvPr/>
          </p:nvSpPr>
          <p:spPr>
            <a:xfrm>
              <a:off x="3429000" y="2357280"/>
              <a:ext cx="2857680" cy="1785960"/>
            </a:xfrm>
            <a:prstGeom prst="leftArrow">
              <a:avLst>
                <a:gd name="adj1" fmla="val 50000"/>
                <a:gd name="adj2" fmla="val 50003"/>
              </a:avLst>
            </a:prstGeom>
            <a:solidFill>
              <a:srgbClr val="4f81bd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3826800" y="2857320"/>
              <a:ext cx="281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Calibri"/>
                </a:rPr>
                <a:t>إستخدام الوسائل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Calibri"/>
                </a:rPr>
                <a:t>والتقنيات الحديث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9"/>
          <p:cNvGrpSpPr/>
          <p:nvPr/>
        </p:nvGrpSpPr>
        <p:grpSpPr>
          <a:xfrm>
            <a:off x="-270360" y="2571840"/>
            <a:ext cx="4190400" cy="2191320"/>
            <a:chOff x="-270360" y="2571840"/>
            <a:chExt cx="4190400" cy="2191320"/>
          </a:xfrm>
        </p:grpSpPr>
        <p:sp>
          <p:nvSpPr>
            <p:cNvPr id="54" name="Rectangle 10"/>
            <p:cNvSpPr/>
            <p:nvPr/>
          </p:nvSpPr>
          <p:spPr>
            <a:xfrm>
              <a:off x="-270360" y="2571840"/>
              <a:ext cx="419040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على إحداث تغيرات سلوكية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داخل المجتم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357120" y="3571920"/>
              <a:ext cx="292752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التوسع العمراني وإزدياد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حجم المدينة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12"/>
          <p:cNvGrpSpPr/>
          <p:nvPr/>
        </p:nvGrpSpPr>
        <p:grpSpPr>
          <a:xfrm>
            <a:off x="214200" y="4572000"/>
            <a:ext cx="3286080" cy="2862000"/>
            <a:chOff x="214200" y="4572000"/>
            <a:chExt cx="3286080" cy="2862000"/>
          </a:xfrm>
        </p:grpSpPr>
        <p:grpSp>
          <p:nvGrpSpPr>
            <p:cNvPr id="57" name="Down Arrow 13"/>
            <p:cNvGrpSpPr/>
            <p:nvPr/>
          </p:nvGrpSpPr>
          <p:grpSpPr>
            <a:xfrm>
              <a:off x="1384200" y="4572000"/>
              <a:ext cx="977400" cy="725400"/>
              <a:chOff x="1384200" y="4572000"/>
              <a:chExt cx="977400" cy="725400"/>
            </a:xfrm>
          </p:grpSpPr>
          <p:pic>
            <p:nvPicPr>
              <p:cNvPr id="58" name="Down Arrow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84200" y="4572000"/>
                <a:ext cx="977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1674000" y="4664520"/>
                <a:ext cx="396000" cy="40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" name="Rectangle 14"/>
            <p:cNvGrpSpPr/>
            <p:nvPr/>
          </p:nvGrpSpPr>
          <p:grpSpPr>
            <a:xfrm>
              <a:off x="214200" y="5065920"/>
              <a:ext cx="3286080" cy="2368080"/>
              <a:chOff x="214200" y="5065920"/>
              <a:chExt cx="3286080" cy="2368080"/>
            </a:xfrm>
          </p:grpSpPr>
          <p:pic>
            <p:nvPicPr>
              <p:cNvPr id="6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200" y="5065920"/>
                <a:ext cx="3286080" cy="153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500760" y="5207040"/>
                <a:ext cx="280296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ffff00"/>
                    </a:solidFill>
                    <a:latin typeface="Calibri"/>
                  </a:rPr>
                  <a:t>دفع الأفراد  للبحث عن الراحة  والهدوء ووسائل الترفيه والمتع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" name="Rectangle 15"/>
          <p:cNvGrpSpPr/>
          <p:nvPr/>
        </p:nvGrpSpPr>
        <p:grpSpPr>
          <a:xfrm>
            <a:off x="3461760" y="5900760"/>
            <a:ext cx="2882880" cy="1049400"/>
            <a:chOff x="3461760" y="5900760"/>
            <a:chExt cx="2882880" cy="1049400"/>
          </a:xfrm>
        </p:grpSpPr>
        <p:pic>
          <p:nvPicPr>
            <p:cNvPr id="64" name="Rectangle 15" descr=""/>
            <p:cNvPicPr/>
            <p:nvPr/>
          </p:nvPicPr>
          <p:blipFill>
            <a:blip r:embed="rId4"/>
            <a:stretch/>
          </p:blipFill>
          <p:spPr>
            <a:xfrm>
              <a:off x="3670200" y="5900760"/>
              <a:ext cx="2455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461760" y="6072120"/>
              <a:ext cx="28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Content Placeholder 7"/>
          <p:cNvGrpSpPr/>
          <p:nvPr/>
        </p:nvGrpSpPr>
        <p:grpSpPr>
          <a:xfrm>
            <a:off x="5681520" y="755640"/>
            <a:ext cx="2524320" cy="1049400"/>
            <a:chOff x="5681520" y="755640"/>
            <a:chExt cx="2524320" cy="1049400"/>
          </a:xfrm>
        </p:grpSpPr>
        <p:pic>
          <p:nvPicPr>
            <p:cNvPr id="67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5681520" y="755640"/>
              <a:ext cx="25243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786280" y="928800"/>
              <a:ext cx="21862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أ) المسافة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Rectangle 4"/>
          <p:cNvSpPr/>
          <p:nvPr/>
        </p:nvSpPr>
        <p:spPr>
          <a:xfrm>
            <a:off x="357120" y="1716120"/>
            <a:ext cx="8501040" cy="2043720"/>
          </a:xfrm>
          <a:prstGeom prst="rect">
            <a:avLst/>
          </a:prstGeom>
          <a:solidFill>
            <a:srgbClr val="ffffff"/>
          </a:solidFill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لما زادت المسافة بين نقطة إنطلاق السائح وموقع الجذب قلّ الطلب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سياحي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لى ذلك الموقع والعكس صحيح مع بقاء العوامل الاخرى ثابت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357120" y="4384800"/>
            <a:ext cx="8551800" cy="1191240"/>
            <a:chOff x="357120" y="4384800"/>
            <a:chExt cx="8551800" cy="1191240"/>
          </a:xfrm>
        </p:grpSpPr>
        <p:sp>
          <p:nvSpPr>
            <p:cNvPr id="71" name="Rectangle 6"/>
            <p:cNvSpPr/>
            <p:nvPr/>
          </p:nvSpPr>
          <p:spPr>
            <a:xfrm>
              <a:off x="357120" y="4384800"/>
              <a:ext cx="7430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إنخفضت حدّة تأثير</a:t>
              </a:r>
              <a:r>
                <a:rPr b="1" lang="ar-IQ" sz="2400" spc="-1" strike="noStrike">
                  <a:solidFill>
                    <a:srgbClr val="002060"/>
                  </a:solidFill>
                  <a:latin typeface="Calibri"/>
                </a:rPr>
                <a:t> هذا العامل</a:t>
              </a: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 في العصر الحالي </a:t>
              </a:r>
              <a:r>
                <a:rPr b="1" lang="ar-SA" sz="2400" spc="-1" strike="noStrike">
                  <a:solidFill>
                    <a:srgbClr val="ff0066"/>
                  </a:solidFill>
                  <a:latin typeface="Calibri"/>
                </a:rPr>
                <a:t>بسبب</a:t>
              </a: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 تطور وسائل النقل الحديثة ما يسهل عملية الوصول مع توفر وسائل الراحة  في هذه الوسائ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7848720" y="4384800"/>
              <a:ext cx="1060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0066"/>
                  </a:solidFill>
                  <a:latin typeface="Calibri"/>
                </a:rPr>
                <a:t>ولك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8"/>
          <p:cNvGrpSpPr/>
          <p:nvPr/>
        </p:nvGrpSpPr>
        <p:grpSpPr>
          <a:xfrm>
            <a:off x="500040" y="5599080"/>
            <a:ext cx="8544960" cy="1285920"/>
            <a:chOff x="500040" y="5599080"/>
            <a:chExt cx="8544960" cy="1285920"/>
          </a:xfrm>
        </p:grpSpPr>
        <p:grpSp>
          <p:nvGrpSpPr>
            <p:cNvPr id="74" name="Rectangle 9"/>
            <p:cNvGrpSpPr/>
            <p:nvPr/>
          </p:nvGrpSpPr>
          <p:grpSpPr>
            <a:xfrm>
              <a:off x="500040" y="5599080"/>
              <a:ext cx="6526800" cy="1285920"/>
              <a:chOff x="500040" y="5599080"/>
              <a:chExt cx="6526800" cy="1285920"/>
            </a:xfrm>
          </p:grpSpPr>
          <p:pic>
            <p:nvPicPr>
              <p:cNvPr id="75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040" y="5599080"/>
                <a:ext cx="6526800" cy="83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765360" y="5693760"/>
                <a:ext cx="6080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984807"/>
                    </a:solidFill>
                    <a:latin typeface="Calibri"/>
                  </a:rPr>
                  <a:t>هل أن ساعات الطيران الطويلة التي تصل الليل بالنهار لقطع مسافات طويلة عملية مريحة للسفر وأداء السياحة أم لا</a:t>
                </a:r>
                <a:r>
                  <a:rPr b="1" lang="ar-IQ" sz="2400" spc="-1" strike="noStrike">
                    <a:solidFill>
                      <a:srgbClr val="984807"/>
                    </a:solidFill>
                    <a:latin typeface="Calibri"/>
                  </a:rPr>
                  <a:t>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Rectangle 10"/>
            <p:cNvSpPr/>
            <p:nvPr/>
          </p:nvSpPr>
          <p:spPr>
            <a:xfrm>
              <a:off x="6386400" y="5693760"/>
              <a:ext cx="26586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0066"/>
                  </a:solidFill>
                  <a:latin typeface="Calibri"/>
                </a:rPr>
                <a:t>يبقى السؤال 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1"/>
          <p:cNvGrpSpPr/>
          <p:nvPr/>
        </p:nvGrpSpPr>
        <p:grpSpPr>
          <a:xfrm>
            <a:off x="3217680" y="3395520"/>
            <a:ext cx="2980440" cy="1054080"/>
            <a:chOff x="3217680" y="3395520"/>
            <a:chExt cx="2980440" cy="1054080"/>
          </a:xfrm>
        </p:grpSpPr>
        <p:pic>
          <p:nvPicPr>
            <p:cNvPr id="79" name="Rectangle 11" descr=""/>
            <p:cNvPicPr/>
            <p:nvPr/>
          </p:nvPicPr>
          <p:blipFill>
            <a:blip r:embed="rId3"/>
            <a:stretch/>
          </p:blipFill>
          <p:spPr>
            <a:xfrm>
              <a:off x="3449520" y="3395520"/>
              <a:ext cx="25369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217680" y="3571920"/>
              <a:ext cx="298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عك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Content Placeholder 7"/>
          <p:cNvGrpSpPr/>
          <p:nvPr/>
        </p:nvGrpSpPr>
        <p:grpSpPr>
          <a:xfrm>
            <a:off x="6284880" y="42840"/>
            <a:ext cx="2882880" cy="1047600"/>
            <a:chOff x="6284880" y="42840"/>
            <a:chExt cx="2882880" cy="1047600"/>
          </a:xfrm>
        </p:grpSpPr>
        <p:pic>
          <p:nvPicPr>
            <p:cNvPr id="82" name="Content Placeholder 7" descr=""/>
            <p:cNvPicPr/>
            <p:nvPr/>
          </p:nvPicPr>
          <p:blipFill>
            <a:blip r:embed="rId4"/>
            <a:stretch/>
          </p:blipFill>
          <p:spPr>
            <a:xfrm>
              <a:off x="6284880" y="42840"/>
              <a:ext cx="28828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386400" y="214200"/>
              <a:ext cx="25434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موقع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9"/>
          <p:cNvGrpSpPr/>
          <p:nvPr/>
        </p:nvGrpSpPr>
        <p:grpSpPr>
          <a:xfrm>
            <a:off x="214200" y="0"/>
            <a:ext cx="8929800" cy="6858000"/>
            <a:chOff x="214200" y="0"/>
            <a:chExt cx="8929800" cy="6858000"/>
          </a:xfrm>
        </p:grpSpPr>
        <p:grpSp>
          <p:nvGrpSpPr>
            <p:cNvPr id="85" name="Group 13"/>
            <p:cNvGrpSpPr/>
            <p:nvPr/>
          </p:nvGrpSpPr>
          <p:grpSpPr>
            <a:xfrm>
              <a:off x="214920" y="0"/>
              <a:ext cx="8929080" cy="6858000"/>
              <a:chOff x="214920" y="0"/>
              <a:chExt cx="8929080" cy="6858000"/>
            </a:xfrm>
          </p:grpSpPr>
          <p:pic>
            <p:nvPicPr>
              <p:cNvPr id="86" name="Picture 2" descr="http://upload.wikimedia.org/wikipedia/commons/a/aa/TourEiffel(Paris).JPG"/>
              <p:cNvPicPr/>
              <p:nvPr/>
            </p:nvPicPr>
            <p:blipFill>
              <a:blip r:embed="rId1"/>
              <a:stretch/>
            </p:blipFill>
            <p:spPr>
              <a:xfrm>
                <a:off x="4000680" y="0"/>
                <a:ext cx="51433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Rectangle 15"/>
              <p:cNvSpPr/>
              <p:nvPr/>
            </p:nvSpPr>
            <p:spPr>
              <a:xfrm>
                <a:off x="214920" y="285480"/>
                <a:ext cx="4928760" cy="3993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200" spc="-1" strike="noStrike">
                    <a:solidFill>
                      <a:srgbClr val="ff0066"/>
                    </a:solidFill>
                    <a:latin typeface="Calibri"/>
                  </a:rPr>
                  <a:t>لا يمكن المقارنة</a:t>
                </a:r>
                <a:r>
                  <a:rPr b="1" lang="ar-SA" sz="3200" spc="-1" strike="noStrike">
                    <a:solidFill>
                      <a:srgbClr val="000000"/>
                    </a:solidFill>
                    <a:latin typeface="Calibri"/>
                  </a:rPr>
                  <a:t> بين الطلب السياحي لموقعين متساويين في مستوى الخدمات، أحدهما حديث العهد في السياحة والآخر له شهرة عريقة بين الأوساط السياحية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" name="Picture 4" descr="http://hotels.mebooking.com/wp-content/uploads/2011/08/052110_1422_10TopTouris2.jpg"/>
            <p:cNvPicPr/>
            <p:nvPr/>
          </p:nvPicPr>
          <p:blipFill>
            <a:blip r:embed="rId2"/>
            <a:stretch/>
          </p:blipFill>
          <p:spPr>
            <a:xfrm>
              <a:off x="214200" y="3072240"/>
              <a:ext cx="4601880" cy="323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Content Placeholder 7"/>
          <p:cNvGrpSpPr/>
          <p:nvPr/>
        </p:nvGrpSpPr>
        <p:grpSpPr>
          <a:xfrm>
            <a:off x="5541840" y="109440"/>
            <a:ext cx="3522960" cy="1049400"/>
            <a:chOff x="5541840" y="109440"/>
            <a:chExt cx="3522960" cy="1049400"/>
          </a:xfrm>
        </p:grpSpPr>
        <p:pic>
          <p:nvPicPr>
            <p:cNvPr id="90" name="Content Placeholder 7" descr=""/>
            <p:cNvPicPr/>
            <p:nvPr/>
          </p:nvPicPr>
          <p:blipFill>
            <a:blip r:embed="rId3"/>
            <a:stretch/>
          </p:blipFill>
          <p:spPr>
            <a:xfrm>
              <a:off x="5541840" y="109440"/>
              <a:ext cx="35229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643720" y="285840"/>
              <a:ext cx="3186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ب) شهرة الموقع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Content Placeholder 7"/>
          <p:cNvGrpSpPr/>
          <p:nvPr/>
        </p:nvGrpSpPr>
        <p:grpSpPr>
          <a:xfrm>
            <a:off x="5254560" y="109440"/>
            <a:ext cx="3810240" cy="1049400"/>
            <a:chOff x="5254560" y="109440"/>
            <a:chExt cx="3810240" cy="1049400"/>
          </a:xfrm>
        </p:grpSpPr>
        <p:pic>
          <p:nvPicPr>
            <p:cNvPr id="93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5254560" y="109440"/>
              <a:ext cx="38102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357880" y="285840"/>
              <a:ext cx="34718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جـ) هوية الموقع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Rectangle 4"/>
          <p:cNvSpPr/>
          <p:nvPr/>
        </p:nvSpPr>
        <p:spPr>
          <a:xfrm>
            <a:off x="642960" y="1285920"/>
            <a:ext cx="8001000" cy="1373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بعض مواقع الجذب وخاص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تمتلك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قومات سياحية تعود الى بلد آخر غير البلد التي فيه المقوم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Content Placeholder 7"/>
          <p:cNvGrpSpPr/>
          <p:nvPr/>
        </p:nvGrpSpPr>
        <p:grpSpPr>
          <a:xfrm>
            <a:off x="5254560" y="2610000"/>
            <a:ext cx="3810240" cy="1054080"/>
            <a:chOff x="5254560" y="2610000"/>
            <a:chExt cx="3810240" cy="1054080"/>
          </a:xfrm>
        </p:grpSpPr>
        <p:pic>
          <p:nvPicPr>
            <p:cNvPr id="97" name="Content Placeholder 7" descr=""/>
            <p:cNvPicPr/>
            <p:nvPr/>
          </p:nvPicPr>
          <p:blipFill>
            <a:blip r:embed="rId2"/>
            <a:stretch/>
          </p:blipFill>
          <p:spPr>
            <a:xfrm>
              <a:off x="5254560" y="2610000"/>
              <a:ext cx="38102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7880" y="2786040"/>
              <a:ext cx="34718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د) الموقع الجغرافي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Rectangle 8"/>
          <p:cNvSpPr/>
          <p:nvPr/>
        </p:nvSpPr>
        <p:spPr>
          <a:xfrm>
            <a:off x="2724840" y="350028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alibri"/>
              </a:rPr>
              <a:t>يحدد الإطار الجغرافي للمنطق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500040" y="4214880"/>
            <a:ext cx="9065880" cy="2378520"/>
            <a:chOff x="500040" y="4214880"/>
            <a:chExt cx="9065880" cy="2378520"/>
          </a:xfrm>
        </p:grpSpPr>
        <p:sp>
          <p:nvSpPr>
            <p:cNvPr id="101" name="Rectangle 5"/>
            <p:cNvSpPr/>
            <p:nvPr/>
          </p:nvSpPr>
          <p:spPr>
            <a:xfrm>
              <a:off x="1785960" y="4214880"/>
              <a:ext cx="7072560" cy="94716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الصفات الطبيعية والإجتماعية والإقتصادية للمراكز السياح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500040" y="4929480"/>
              <a:ext cx="8358480" cy="94716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المسافات الفاصلة بين أماكن إنطلاق السياح وأماكن إستقبالهم (مواقع الجذب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5709240" y="6072840"/>
              <a:ext cx="3856680" cy="52056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Calibri"/>
                </a:rPr>
                <a:t>ا</a:t>
              </a: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لوقت اللازم لقطعها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images.asiatravel.com/Hotel/2652/2652_facade.jpg"/>
          <p:cNvPicPr/>
          <p:nvPr/>
        </p:nvPicPr>
        <p:blipFill>
          <a:blip r:embed="rId1"/>
          <a:stretch/>
        </p:blipFill>
        <p:spPr>
          <a:xfrm>
            <a:off x="0" y="2928960"/>
            <a:ext cx="9144000" cy="4133880"/>
          </a:xfrm>
          <a:prstGeom prst="rect">
            <a:avLst/>
          </a:prstGeom>
          <a:ln w="0">
            <a:noFill/>
          </a:ln>
        </p:spPr>
      </p:pic>
      <p:grpSp>
        <p:nvGrpSpPr>
          <p:cNvPr id="105" name="Content Placeholder 7"/>
          <p:cNvGrpSpPr/>
          <p:nvPr/>
        </p:nvGrpSpPr>
        <p:grpSpPr>
          <a:xfrm>
            <a:off x="5254560" y="109440"/>
            <a:ext cx="3810240" cy="1049400"/>
            <a:chOff x="5254560" y="109440"/>
            <a:chExt cx="3810240" cy="1049400"/>
          </a:xfrm>
        </p:grpSpPr>
        <p:pic>
          <p:nvPicPr>
            <p:cNvPr id="106" name="Content Placeholder 7" descr=""/>
            <p:cNvPicPr/>
            <p:nvPr/>
          </p:nvPicPr>
          <p:blipFill>
            <a:blip r:embed="rId2"/>
            <a:stretch/>
          </p:blipFill>
          <p:spPr>
            <a:xfrm>
              <a:off x="5254560" y="109440"/>
              <a:ext cx="38102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357880" y="285840"/>
              <a:ext cx="34718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3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تنوع السياحي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5"/>
          <p:cNvSpPr/>
          <p:nvPr/>
        </p:nvSpPr>
        <p:spPr>
          <a:xfrm>
            <a:off x="2481120" y="1285920"/>
            <a:ext cx="668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قع الذي يملك صفة التنوع يختصر</a:t>
            </a: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 التكل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733320" y="1752480"/>
            <a:ext cx="8065800" cy="1176480"/>
            <a:chOff x="733320" y="1752480"/>
            <a:chExt cx="8065800" cy="1176480"/>
          </a:xfrm>
        </p:grpSpPr>
        <p:grpSp>
          <p:nvGrpSpPr>
            <p:cNvPr id="110" name="Rectangle 7"/>
            <p:cNvGrpSpPr/>
            <p:nvPr/>
          </p:nvGrpSpPr>
          <p:grpSpPr>
            <a:xfrm>
              <a:off x="733320" y="2279160"/>
              <a:ext cx="8065800" cy="649800"/>
              <a:chOff x="733320" y="2279160"/>
              <a:chExt cx="8065800" cy="649800"/>
            </a:xfrm>
          </p:grpSpPr>
          <p:pic>
            <p:nvPicPr>
              <p:cNvPr id="111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071800" y="2279160"/>
                <a:ext cx="5437080" cy="64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733320" y="2386800"/>
                <a:ext cx="806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يوفر على السائح كلفة الإنفاق للذهاب الى عدة مناط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" name="Down Arrow 8"/>
            <p:cNvGrpSpPr/>
            <p:nvPr/>
          </p:nvGrpSpPr>
          <p:grpSpPr>
            <a:xfrm>
              <a:off x="5123880" y="1752480"/>
              <a:ext cx="890640" cy="659520"/>
              <a:chOff x="5123880" y="1752480"/>
              <a:chExt cx="890640" cy="659520"/>
            </a:xfrm>
          </p:grpSpPr>
          <p:pic>
            <p:nvPicPr>
              <p:cNvPr id="114" name="Down Arrow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123880" y="1752480"/>
                <a:ext cx="890640" cy="65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5402160" y="1830600"/>
                <a:ext cx="336600" cy="37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6" name="Group 9"/>
          <p:cNvGrpSpPr/>
          <p:nvPr/>
        </p:nvGrpSpPr>
        <p:grpSpPr>
          <a:xfrm>
            <a:off x="-1112040" y="2928960"/>
            <a:ext cx="8791200" cy="3533760"/>
            <a:chOff x="-1112040" y="2928960"/>
            <a:chExt cx="8791200" cy="3533760"/>
          </a:xfrm>
        </p:grpSpPr>
        <p:grpSp>
          <p:nvGrpSpPr>
            <p:cNvPr id="117" name="Rectangle 10"/>
            <p:cNvGrpSpPr/>
            <p:nvPr/>
          </p:nvGrpSpPr>
          <p:grpSpPr>
            <a:xfrm>
              <a:off x="-1112040" y="5682960"/>
              <a:ext cx="8791200" cy="779760"/>
              <a:chOff x="-1112040" y="5682960"/>
              <a:chExt cx="8791200" cy="779760"/>
            </a:xfrm>
          </p:grpSpPr>
          <p:pic>
            <p:nvPicPr>
              <p:cNvPr id="118" name="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200" y="5682960"/>
                <a:ext cx="6191280" cy="77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-1112040" y="5817960"/>
                <a:ext cx="879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يؤدي الى الإنتفاع الكامل والمتنوع جراء رحلة سياحية واحدة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Down Arrow 11"/>
            <p:cNvGrpSpPr/>
            <p:nvPr/>
          </p:nvGrpSpPr>
          <p:grpSpPr>
            <a:xfrm>
              <a:off x="1936800" y="2928960"/>
              <a:ext cx="884160" cy="3019680"/>
              <a:chOff x="1936800" y="2928960"/>
              <a:chExt cx="884160" cy="3019680"/>
            </a:xfrm>
          </p:grpSpPr>
          <p:pic>
            <p:nvPicPr>
              <p:cNvPr id="121" name="Down Arrow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936800" y="2928960"/>
                <a:ext cx="884160" cy="30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2210760" y="3030840"/>
                <a:ext cx="33840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2:00:45Z</dcterms:modified>
  <cp:revision>79</cp:revision>
  <dc:subject/>
  <dc:title>Slide 1</dc:title>
</cp:coreProperties>
</file>