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50C-3B1B-4C8C-89F3-DCE2B0F4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FC1-94A9-4391-9843-043C09AA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F55-E261-446A-AAE7-66CC7E43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F5B-EDA4-4010-A37C-8647B557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1DD-EFA6-4702-A4FD-03ED4969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00F-345B-4E7C-B449-9815ABAA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E5C-7CA7-4C87-BF1D-872FDE39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327-4595-482A-9EDE-3C14B6E9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B5E-2F51-4192-8729-2BD59392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CE6-41CE-4A82-A685-8F4D8AE8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DDF-7F66-4254-A48C-3FDAEEF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3EE-EB43-4944-BC77-FDCCD123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3F9E-4516-401E-AD4A-453425E6E83C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85680" y="1889280"/>
            <a:ext cx="2382840" cy="41511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1" descr=""/>
          <p:cNvPicPr/>
          <p:nvPr/>
        </p:nvPicPr>
        <p:blipFill>
          <a:blip r:embed="rId4"/>
          <a:stretch/>
        </p:blipFill>
        <p:spPr>
          <a:xfrm>
            <a:off x="2700360" y="5267160"/>
            <a:ext cx="571176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https://encrypted-tbn0.gstatic.com/images?q=tbn:ANd9GcRperdQjdtczfVgGkke01DTQnE8MhTPoRwd35pqlqfNhrNazvP23g"/>
          <p:cNvPicPr/>
          <p:nvPr/>
        </p:nvPicPr>
        <p:blipFill>
          <a:blip r:embed="rId1"/>
          <a:stretch/>
        </p:blipFill>
        <p:spPr>
          <a:xfrm>
            <a:off x="0" y="0"/>
            <a:ext cx="9477360" cy="6648480"/>
          </a:xfrm>
          <a:prstGeom prst="rect">
            <a:avLst/>
          </a:prstGeom>
          <a:ln w="0">
            <a:noFill/>
          </a:ln>
        </p:spPr>
      </p:pic>
      <p:grpSp>
        <p:nvGrpSpPr>
          <p:cNvPr id="46" name="Content Placeholder 7"/>
          <p:cNvGrpSpPr/>
          <p:nvPr/>
        </p:nvGrpSpPr>
        <p:grpSpPr>
          <a:xfrm>
            <a:off x="5162400" y="182520"/>
            <a:ext cx="3902400" cy="1049400"/>
            <a:chOff x="5162400" y="182520"/>
            <a:chExt cx="3902400" cy="1049400"/>
          </a:xfrm>
        </p:grpSpPr>
        <p:pic>
          <p:nvPicPr>
            <p:cNvPr id="47" name="Content Placeholder 7" descr=""/>
            <p:cNvPicPr/>
            <p:nvPr/>
          </p:nvPicPr>
          <p:blipFill>
            <a:blip r:embed="rId2"/>
            <a:stretch/>
          </p:blipFill>
          <p:spPr>
            <a:xfrm>
              <a:off x="5162400" y="182520"/>
              <a:ext cx="39024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286240" y="357120"/>
              <a:ext cx="354348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9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سعر صرف العملة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Rectangle 5" descr=""/>
          <p:cNvPicPr/>
          <p:nvPr/>
        </p:nvPicPr>
        <p:blipFill>
          <a:blip r:embed="rId3"/>
          <a:stretch/>
        </p:blipFill>
        <p:spPr>
          <a:xfrm>
            <a:off x="5724360" y="1243080"/>
            <a:ext cx="3048120" cy="10126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"/>
          <p:cNvGrpSpPr/>
          <p:nvPr/>
        </p:nvGrpSpPr>
        <p:grpSpPr>
          <a:xfrm>
            <a:off x="1565640" y="1285920"/>
            <a:ext cx="4219200" cy="911880"/>
            <a:chOff x="1565640" y="1285920"/>
            <a:chExt cx="4219200" cy="911880"/>
          </a:xfrm>
        </p:grpSpPr>
        <p:sp>
          <p:nvSpPr>
            <p:cNvPr id="51" name="Rectangle 6"/>
            <p:cNvSpPr/>
            <p:nvPr/>
          </p:nvSpPr>
          <p:spPr>
            <a:xfrm>
              <a:off x="1565640" y="1372320"/>
              <a:ext cx="3975480" cy="82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ملية إنفاق السائح تجري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بالعملة الوطنية المتداول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Rectangle 8" descr=""/>
            <p:cNvPicPr/>
            <p:nvPr/>
          </p:nvPicPr>
          <p:blipFill>
            <a:blip r:embed="rId4"/>
            <a:stretch/>
          </p:blipFill>
          <p:spPr>
            <a:xfrm>
              <a:off x="4689720" y="1285920"/>
              <a:ext cx="1095120" cy="83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Rectangle 10" descr=""/>
          <p:cNvPicPr/>
          <p:nvPr/>
        </p:nvPicPr>
        <p:blipFill>
          <a:blip r:embed="rId5"/>
          <a:stretch/>
        </p:blipFill>
        <p:spPr>
          <a:xfrm>
            <a:off x="6066000" y="2457360"/>
            <a:ext cx="2657160" cy="101124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3"/>
          <p:cNvGrpSpPr/>
          <p:nvPr/>
        </p:nvGrpSpPr>
        <p:grpSpPr>
          <a:xfrm>
            <a:off x="1400040" y="2571840"/>
            <a:ext cx="4579920" cy="707760"/>
            <a:chOff x="1400040" y="2571840"/>
            <a:chExt cx="4579920" cy="707760"/>
          </a:xfrm>
        </p:grpSpPr>
        <p:sp>
          <p:nvSpPr>
            <p:cNvPr id="55" name="Rectangle 11"/>
            <p:cNvSpPr/>
            <p:nvPr/>
          </p:nvSpPr>
          <p:spPr>
            <a:xfrm>
              <a:off x="1400040" y="2781720"/>
              <a:ext cx="423000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لى القوة الشرائية للسياح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" name="Rectangle 12" descr=""/>
            <p:cNvPicPr/>
            <p:nvPr/>
          </p:nvPicPr>
          <p:blipFill>
            <a:blip r:embed="rId6"/>
            <a:stretch/>
          </p:blipFill>
          <p:spPr>
            <a:xfrm>
              <a:off x="4684680" y="2571840"/>
              <a:ext cx="1295280" cy="70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Rectangle 14"/>
          <p:cNvGrpSpPr/>
          <p:nvPr/>
        </p:nvGrpSpPr>
        <p:grpSpPr>
          <a:xfrm>
            <a:off x="1968480" y="3456000"/>
            <a:ext cx="6956280" cy="3573000"/>
            <a:chOff x="1968480" y="3456000"/>
            <a:chExt cx="6956280" cy="3573000"/>
          </a:xfrm>
        </p:grpSpPr>
        <p:pic>
          <p:nvPicPr>
            <p:cNvPr id="58" name="Rectangle 14" descr=""/>
            <p:cNvPicPr/>
            <p:nvPr/>
          </p:nvPicPr>
          <p:blipFill>
            <a:blip r:embed="rId7"/>
            <a:stretch/>
          </p:blipFill>
          <p:spPr>
            <a:xfrm>
              <a:off x="1968480" y="3456000"/>
              <a:ext cx="695628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071800" y="3643200"/>
              <a:ext cx="657216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2060"/>
                  </a:solidFill>
                  <a:latin typeface="Calibri"/>
                </a:rPr>
                <a:t>كلما انخفض سعر صرف العملة بالنسبة للبلدان المستضيفة للسياح زادت القوة الشرائية للسياح الوافدين إليها، وبالتالي يزداد الطلب السياحي عليها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Rectangle 4"/>
          <p:cNvGrpSpPr/>
          <p:nvPr/>
        </p:nvGrpSpPr>
        <p:grpSpPr>
          <a:xfrm>
            <a:off x="322200" y="5394240"/>
            <a:ext cx="2980440" cy="1055880"/>
            <a:chOff x="322200" y="5394240"/>
            <a:chExt cx="2980440" cy="1055880"/>
          </a:xfrm>
        </p:grpSpPr>
        <p:pic>
          <p:nvPicPr>
            <p:cNvPr id="61" name="Rectangle 4" descr=""/>
            <p:cNvPicPr/>
            <p:nvPr/>
          </p:nvPicPr>
          <p:blipFill>
            <a:blip r:embed="rId8"/>
            <a:stretch/>
          </p:blipFill>
          <p:spPr>
            <a:xfrm>
              <a:off x="554040" y="5394240"/>
              <a:ext cx="253692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2200" y="5572080"/>
              <a:ext cx="298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لاقة عكس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1"/>
          <p:cNvGrpSpPr/>
          <p:nvPr/>
        </p:nvGrpSpPr>
        <p:grpSpPr>
          <a:xfrm>
            <a:off x="469800" y="75960"/>
            <a:ext cx="7967880" cy="1424160"/>
            <a:chOff x="469800" y="75960"/>
            <a:chExt cx="7967880" cy="1424160"/>
          </a:xfrm>
        </p:grpSpPr>
        <p:pic>
          <p:nvPicPr>
            <p:cNvPr id="64" name="Rectangle 1" descr=""/>
            <p:cNvPicPr/>
            <p:nvPr/>
          </p:nvPicPr>
          <p:blipFill>
            <a:blip r:embed="rId1"/>
            <a:stretch/>
          </p:blipFill>
          <p:spPr>
            <a:xfrm>
              <a:off x="469800" y="133200"/>
              <a:ext cx="796788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85880" y="75960"/>
              <a:ext cx="7429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IQ" sz="2800" spc="-1" strike="noStrike" u="sng">
                  <a:solidFill>
                    <a:srgbClr val="ffc000"/>
                  </a:solidFill>
                  <a:uFillTx/>
                  <a:latin typeface="Calibri"/>
                  <a:cs typeface="Calibri"/>
                </a:rPr>
                <a:t>مثال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 : نفرض أن كل (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1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) دينار عراقي يعادل (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2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) تومان إيراني، أي إن قيمة الدينار العراقي = 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2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 تومان ايراني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5"/>
          <p:cNvGrpSpPr/>
          <p:nvPr/>
        </p:nvGrpSpPr>
        <p:grpSpPr>
          <a:xfrm>
            <a:off x="3067200" y="4114800"/>
            <a:ext cx="6040440" cy="3189960"/>
            <a:chOff x="3067200" y="4114800"/>
            <a:chExt cx="6040440" cy="3189960"/>
          </a:xfrm>
        </p:grpSpPr>
        <p:pic>
          <p:nvPicPr>
            <p:cNvPr id="67" name="Rectangle 5" descr=""/>
            <p:cNvPicPr/>
            <p:nvPr/>
          </p:nvPicPr>
          <p:blipFill>
            <a:blip r:embed="rId2"/>
            <a:stretch/>
          </p:blipFill>
          <p:spPr>
            <a:xfrm>
              <a:off x="3067200" y="4114800"/>
              <a:ext cx="604044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429000" y="4286160"/>
              <a:ext cx="54291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0066"/>
                  </a:solidFill>
                  <a:latin typeface="Calibri"/>
                  <a:ea typeface="Calibri"/>
                </a:rPr>
                <a:t> ولو كانت كلفة اليوم الواحد من السياحة بإيران (</a:t>
              </a:r>
              <a:r>
                <a:rPr b="1" lang="ar-IQ" sz="32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200000</a:t>
              </a:r>
              <a:r>
                <a:rPr b="1" lang="ar-IQ" sz="3200" spc="-1" strike="noStrike">
                  <a:solidFill>
                    <a:srgbClr val="ff0066"/>
                  </a:solidFill>
                  <a:latin typeface="Calibri"/>
                  <a:ea typeface="Calibri"/>
                </a:rPr>
                <a:t>) تومان ايراني، يعني السائح العراقي يستطيع أن يبقى في ايران مدة (</a:t>
              </a:r>
              <a:r>
                <a:rPr b="1" lang="ar-IQ" sz="3200" spc="-1" strike="noStrike">
                  <a:solidFill>
                    <a:srgbClr val="002060"/>
                  </a:solidFill>
                  <a:latin typeface="Calibri"/>
                  <a:cs typeface="Calibri"/>
                </a:rPr>
                <a:t>عشرة</a:t>
              </a:r>
              <a:r>
                <a:rPr b="1" lang="ar-IQ" sz="3200" spc="-1" strike="noStrike">
                  <a:solidFill>
                    <a:srgbClr val="ff0066"/>
                  </a:solidFill>
                  <a:latin typeface="Calibri"/>
                  <a:ea typeface="Calibri"/>
                </a:rPr>
                <a:t>) أيام سياحة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6"/>
          <p:cNvGrpSpPr/>
          <p:nvPr/>
        </p:nvGrpSpPr>
        <p:grpSpPr>
          <a:xfrm>
            <a:off x="214200" y="1095840"/>
            <a:ext cx="8643960" cy="5119200"/>
            <a:chOff x="214200" y="1095840"/>
            <a:chExt cx="8643960" cy="5119200"/>
          </a:xfrm>
        </p:grpSpPr>
        <p:sp>
          <p:nvSpPr>
            <p:cNvPr id="70" name="Rectangle 2"/>
            <p:cNvSpPr/>
            <p:nvPr/>
          </p:nvSpPr>
          <p:spPr>
            <a:xfrm>
              <a:off x="3357360" y="1095840"/>
              <a:ext cx="55008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6600"/>
                  </a:solidFill>
                  <a:latin typeface="Calibri"/>
                </a:rPr>
                <a:t>    فلو فرضنا أن هناك سائح عراقي يخصص مبلغ قدره (</a:t>
              </a:r>
              <a:r>
                <a:rPr b="1" lang="ar-IQ" sz="3200" spc="-1" strike="noStrike">
                  <a:solidFill>
                    <a:srgbClr val="002060"/>
                  </a:solidFill>
                  <a:latin typeface="Calibri"/>
                </a:rPr>
                <a:t>مليون</a:t>
              </a:r>
              <a:r>
                <a:rPr b="1" lang="ar-IQ" sz="3200" spc="-1" strike="noStrike">
                  <a:solidFill>
                    <a:srgbClr val="006600"/>
                  </a:solidFill>
                  <a:latin typeface="Calibri"/>
                </a:rPr>
                <a:t>) دينار عراقي لرحلة سياحية الى إيران. وهذا يعني أنه عند التحويل سوف يصبح المبلغ (</a:t>
              </a:r>
              <a:r>
                <a:rPr b="1" lang="ar-IQ" sz="3200" spc="-1" strike="noStrike">
                  <a:solidFill>
                    <a:srgbClr val="002060"/>
                  </a:solidFill>
                  <a:latin typeface="Calibri"/>
                </a:rPr>
                <a:t>مليونين</a:t>
              </a:r>
              <a:r>
                <a:rPr b="1" lang="ar-IQ" sz="3200" spc="-1" strike="noStrike">
                  <a:solidFill>
                    <a:srgbClr val="006600"/>
                  </a:solidFill>
                  <a:latin typeface="Calibri"/>
                </a:rPr>
                <a:t>) تومان إيراني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Picture 4" descr="http://www.muraslon.com/pctr/artcl/pctr/4912.jpg"/>
            <p:cNvPicPr/>
            <p:nvPr/>
          </p:nvPicPr>
          <p:blipFill>
            <a:blip r:embed="rId3"/>
            <a:stretch/>
          </p:blipFill>
          <p:spPr>
            <a:xfrm>
              <a:off x="285480" y="1500120"/>
              <a:ext cx="303588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https://encrypted-tbn3.gstatic.com/images?q=tbn:ANd9GcSOYvKvVTxHikik7nmcyA8e1-oe2tMMRMLMbR7ul13gaoJ5yTi3"/>
            <p:cNvPicPr/>
            <p:nvPr/>
          </p:nvPicPr>
          <p:blipFill>
            <a:blip r:embed="rId4"/>
            <a:stretch/>
          </p:blipFill>
          <p:spPr>
            <a:xfrm>
              <a:off x="214200" y="3929040"/>
              <a:ext cx="30636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500040" y="3913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2060"/>
                </a:solidFill>
                <a:latin typeface="Calibri"/>
              </a:rPr>
              <a:t>     ولو فرضنا أنه حدث إنخفاض سعر صرف التومان الإيراني بمقدار (- </a:t>
            </a:r>
            <a:r>
              <a:rPr b="1" lang="ar-IQ" sz="2400" spc="-1" strike="noStrike">
                <a:solidFill>
                  <a:srgbClr val="002060"/>
                </a:solidFill>
                <a:latin typeface="Calibri"/>
              </a:rPr>
              <a:t>50</a:t>
            </a:r>
            <a:r>
              <a:rPr b="1" lang="ar-IQ" sz="2400" spc="-1" strike="noStrike">
                <a:solidFill>
                  <a:srgbClr val="002060"/>
                </a:solidFill>
                <a:latin typeface="Calibri"/>
              </a:rPr>
              <a:t>%) فإن المعادلة سوف تتغير وفق الحسابات التالي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Rectangle 2"/>
          <p:cNvGrpSpPr/>
          <p:nvPr/>
        </p:nvGrpSpPr>
        <p:grpSpPr>
          <a:xfrm>
            <a:off x="-804960" y="1355400"/>
            <a:ext cx="9279000" cy="2288520"/>
            <a:chOff x="-804960" y="1355400"/>
            <a:chExt cx="9279000" cy="2288520"/>
          </a:xfrm>
        </p:grpSpPr>
        <p:pic>
          <p:nvPicPr>
            <p:cNvPr id="75" name="Rectangle 2" descr=""/>
            <p:cNvPicPr/>
            <p:nvPr/>
          </p:nvPicPr>
          <p:blipFill>
            <a:blip r:embed="rId1"/>
            <a:stretch/>
          </p:blipFill>
          <p:spPr>
            <a:xfrm>
              <a:off x="-804960" y="1584360"/>
              <a:ext cx="92790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928800" y="1355400"/>
              <a:ext cx="7358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                                                 نسبة الدينار العراق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cs typeface="Calibri"/>
                </a:rPr>
                <a:t>قيمة الدينار العراقي = قيمة التومان الايراني × ــــــــــــــــــــــــــــــــــ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                                               نسبة التومان الايراني     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Rectangle 5"/>
          <p:cNvGrpSpPr/>
          <p:nvPr/>
        </p:nvGrpSpPr>
        <p:grpSpPr>
          <a:xfrm>
            <a:off x="895320" y="3578400"/>
            <a:ext cx="7443720" cy="1693440"/>
            <a:chOff x="895320" y="3578400"/>
            <a:chExt cx="7443720" cy="1693440"/>
          </a:xfrm>
        </p:grpSpPr>
        <p:pic>
          <p:nvPicPr>
            <p:cNvPr id="78" name="Rectangle 5" descr=""/>
            <p:cNvPicPr/>
            <p:nvPr/>
          </p:nvPicPr>
          <p:blipFill>
            <a:blip r:embed="rId2"/>
            <a:stretch/>
          </p:blipFill>
          <p:spPr>
            <a:xfrm>
              <a:off x="895320" y="3578400"/>
              <a:ext cx="744372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000080" y="3714840"/>
              <a:ext cx="7143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                      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× 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0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%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=                               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cs typeface="Calibri"/>
                </a:rPr>
                <a:t>ــــــــــــــــــــــــ  = </a:t>
              </a:r>
              <a:r>
                <a:rPr b="1" lang="ar-IQ" sz="2400" spc="-1" strike="noStrike">
                  <a:solidFill>
                    <a:srgbClr val="ff0066"/>
                  </a:solidFill>
                  <a:latin typeface="Calibri"/>
                  <a:ea typeface="Calibri"/>
                </a:rPr>
                <a:t>4</a:t>
              </a:r>
              <a:r>
                <a:rPr b="1" lang="ar-IQ" sz="2400" spc="-1" strike="noStrike">
                  <a:solidFill>
                    <a:srgbClr val="ff0066"/>
                  </a:solidFill>
                  <a:latin typeface="Calibri"/>
                  <a:ea typeface="Calibri"/>
                </a:rPr>
                <a:t> تومان إيراني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                           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50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6"/>
          <p:cNvGrpSpPr/>
          <p:nvPr/>
        </p:nvGrpSpPr>
        <p:grpSpPr>
          <a:xfrm>
            <a:off x="1928880" y="5286240"/>
            <a:ext cx="5913360" cy="978120"/>
            <a:chOff x="1928880" y="5286240"/>
            <a:chExt cx="5913360" cy="978120"/>
          </a:xfrm>
        </p:grpSpPr>
        <p:sp>
          <p:nvSpPr>
            <p:cNvPr id="81" name="Down Arrow 7"/>
            <p:cNvSpPr/>
            <p:nvPr/>
          </p:nvSpPr>
          <p:spPr>
            <a:xfrm>
              <a:off x="1928880" y="5286240"/>
              <a:ext cx="5913360" cy="978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>
              <a:off x="3924720" y="5428800"/>
              <a:ext cx="191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00"/>
                  </a:solidFill>
                  <a:latin typeface="Calibri"/>
                </a:rPr>
                <a:t>يعني هذا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785880" y="571680"/>
            <a:ext cx="7358040" cy="2531160"/>
          </a:xfrm>
          <a:prstGeom prst="rect">
            <a:avLst/>
          </a:prstGeom>
          <a:solidFill>
            <a:srgbClr val="9bbb59"/>
          </a:solidFill>
          <a:ln w="381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2060"/>
                </a:solidFill>
                <a:latin typeface="Calibri"/>
              </a:rPr>
              <a:t>المبلغ المخصص للرحلة والبالغ (مليون) دينار عراقي سوف يتضاعف ليصل الى (أربعة) ملايين تومان إيراني بدلاً من (مليونان) تومان ايراني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071720" y="242892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0066"/>
                </a:solidFill>
                <a:latin typeface="Calibri"/>
              </a:rPr>
              <a:t>على فرض أن أسعار المنتوج السياحي في ايران ثابت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928800" y="3214800"/>
            <a:ext cx="7286400" cy="1373760"/>
          </a:xfrm>
          <a:prstGeom prst="rect">
            <a:avLst/>
          </a:prstGeom>
          <a:solidFill>
            <a:srgbClr val="8064a2"/>
          </a:solidFill>
          <a:ln w="381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00"/>
                </a:solidFill>
                <a:latin typeface="Calibri"/>
              </a:rPr>
              <a:t>بإمكان السائح العراقي أن يبقى ضعف المدة أي يبقى (عشرون) يوماً بنفس المبل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Group 8"/>
          <p:cNvGrpSpPr/>
          <p:nvPr/>
        </p:nvGrpSpPr>
        <p:grpSpPr>
          <a:xfrm>
            <a:off x="785880" y="4214880"/>
            <a:ext cx="8121240" cy="2443320"/>
            <a:chOff x="785880" y="4214880"/>
            <a:chExt cx="8121240" cy="2443320"/>
          </a:xfrm>
        </p:grpSpPr>
        <p:sp>
          <p:nvSpPr>
            <p:cNvPr id="87" name="Rectangle 9"/>
            <p:cNvSpPr/>
            <p:nvPr/>
          </p:nvSpPr>
          <p:spPr>
            <a:xfrm>
              <a:off x="785880" y="4857840"/>
              <a:ext cx="7405920" cy="1800360"/>
            </a:xfrm>
            <a:prstGeom prst="rect">
              <a:avLst/>
            </a:prstGeom>
            <a:solidFill>
              <a:srgbClr val="8064a2"/>
            </a:solidFill>
            <a:ln w="381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ffff00"/>
                  </a:solidFill>
                  <a:latin typeface="Calibri"/>
                </a:rPr>
                <a:t>يفضل البقاء فقط (عشرة) أيام وهذا يعني أن معدل إنفاقه اليومي سوف يتضاعف ويصل الى (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</a:rPr>
                <a:t>400000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</a:rPr>
                <a:t>) تومان إيراني باليوم الواحد بدلاً عن (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</a:rPr>
                <a:t>200000</a:t>
              </a:r>
              <a:r>
                <a:rPr b="1" lang="ar-IQ" sz="2800" spc="-1" strike="noStrike">
                  <a:solidFill>
                    <a:srgbClr val="ffff00"/>
                  </a:solidFill>
                  <a:latin typeface="Calibri"/>
                </a:rPr>
                <a:t>) تومان إيراني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0"/>
            <p:cNvSpPr/>
            <p:nvPr/>
          </p:nvSpPr>
          <p:spPr>
            <a:xfrm>
              <a:off x="8220600" y="4214880"/>
              <a:ext cx="6865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 u="sng">
                  <a:solidFill>
                    <a:srgbClr val="ff0066"/>
                  </a:solidFill>
                  <a:uFillTx/>
                  <a:latin typeface="Calibri"/>
                </a:rPr>
                <a:t>أو</a:t>
              </a:r>
              <a:r>
                <a:rPr b="1" lang="ar-IQ" sz="3200" spc="-1" strike="noStrike">
                  <a:solidFill>
                    <a:srgbClr val="ff0066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Content Placeholder 7"/>
          <p:cNvGrpSpPr/>
          <p:nvPr/>
        </p:nvGrpSpPr>
        <p:grpSpPr>
          <a:xfrm>
            <a:off x="3828960" y="109440"/>
            <a:ext cx="5241960" cy="1049400"/>
            <a:chOff x="3828960" y="109440"/>
            <a:chExt cx="5241960" cy="1049400"/>
          </a:xfrm>
        </p:grpSpPr>
        <p:pic>
          <p:nvPicPr>
            <p:cNvPr id="90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3828960" y="109440"/>
              <a:ext cx="52419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29040" y="285840"/>
              <a:ext cx="49006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0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إجراءات الرحلة السياحية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Rectangle 4"/>
          <p:cNvSpPr/>
          <p:nvPr/>
        </p:nvSpPr>
        <p:spPr>
          <a:xfrm>
            <a:off x="0" y="10000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ff0066"/>
                </a:solidFill>
                <a:latin typeface="Calibri"/>
              </a:rPr>
              <a:t>السياحة في وقتنا الحاضر سياحة مقيّدة خاضعة لمجموعة من القوانين والضوابط والاجراءات المعقدة في عملية الس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0920" y="1857240"/>
            <a:ext cx="8858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جراءات الحصول على جواز السف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موافقة جهات العم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مراجعة السفارات والملحقيات للحصول على سمة الدخول (الفيزا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جراءات تحويل العمل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بعض الإجراءات الصح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جراءات الحجز على وسائل النقل وبالذات النقل الجو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جراءات الحجز على أماكن الإيو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التصريفة الإجبارية في بعض البلدا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جراءات خاصة بدفع الرسوم والضرائب المفروضة على السيّاح المغادرين والوافد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طريقة معاملة الموظفين الذين ينجزون هذه الإجراء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Rectangle 6"/>
          <p:cNvGrpSpPr/>
          <p:nvPr/>
        </p:nvGrpSpPr>
        <p:grpSpPr>
          <a:xfrm>
            <a:off x="32760" y="5900760"/>
            <a:ext cx="2882880" cy="1049400"/>
            <a:chOff x="32760" y="5900760"/>
            <a:chExt cx="2882880" cy="1049400"/>
          </a:xfrm>
        </p:grpSpPr>
        <p:pic>
          <p:nvPicPr>
            <p:cNvPr id="95" name="Rectangle 6" descr=""/>
            <p:cNvPicPr/>
            <p:nvPr/>
          </p:nvPicPr>
          <p:blipFill>
            <a:blip r:embed="rId2"/>
            <a:stretch/>
          </p:blipFill>
          <p:spPr>
            <a:xfrm>
              <a:off x="244440" y="5900760"/>
              <a:ext cx="24494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760" y="6072120"/>
              <a:ext cx="28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2:00:17Z</dcterms:modified>
  <cp:revision>78</cp:revision>
  <dc:subject/>
  <dc:title>Slide 1</dc:title>
</cp:coreProperties>
</file>