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5BE6-8497-4B1D-8266-71DFE5363201}" type="slidenum">
              <a:rPr b="0" lang="ar-IQ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18A6-2574-4CC8-AA80-782032BE36D7}" type="slidenum">
              <a:rPr b="0" lang="ar-IQ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28CE-34B2-4B8B-BFF8-60839E47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9CD9-ED1E-4FD9-8ED0-1AAB7098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D3E-63FF-4540-A0D3-B9189B7A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D9E1-D733-4043-AB58-0F09EEC3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896-6AC4-4CB4-8B30-9AC528F0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0F7-F99B-4C33-A003-A8C96877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9E5A-6B03-407A-BB03-0AB94B3A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ADE2-A9DB-4F12-A9BA-3A7955AE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B40F-F1BA-4FC2-96AF-0C1D9CF4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D8F5-47BE-4665-B8D7-4F229290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E5DE-A14C-44F1-87E9-71DB7B61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FE2-C344-4398-85B9-605A2D6B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FC87-3AA4-4970-A8CA-B349AF370316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ubtitle 2" descr=""/>
          <p:cNvPicPr/>
          <p:nvPr/>
        </p:nvPicPr>
        <p:blipFill>
          <a:blip r:embed="rId1"/>
          <a:stretch/>
        </p:blipFill>
        <p:spPr>
          <a:xfrm>
            <a:off x="176040" y="1889280"/>
            <a:ext cx="2292480" cy="415116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11" descr=""/>
          <p:cNvPicPr/>
          <p:nvPr/>
        </p:nvPicPr>
        <p:blipFill>
          <a:blip r:embed="rId4"/>
          <a:stretch/>
        </p:blipFill>
        <p:spPr>
          <a:xfrm>
            <a:off x="2859120" y="5340240"/>
            <a:ext cx="571176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Title 1"/>
          <p:cNvGrpSpPr/>
          <p:nvPr/>
        </p:nvGrpSpPr>
        <p:grpSpPr>
          <a:xfrm>
            <a:off x="109440" y="139680"/>
            <a:ext cx="8918640" cy="1365120"/>
            <a:chOff x="109440" y="139680"/>
            <a:chExt cx="8918640" cy="1365120"/>
          </a:xfrm>
        </p:grpSpPr>
        <p:pic>
          <p:nvPicPr>
            <p:cNvPr id="53" name="Title 1" descr=""/>
            <p:cNvPicPr/>
            <p:nvPr/>
          </p:nvPicPr>
          <p:blipFill>
            <a:blip r:embed="rId1"/>
            <a:stretch/>
          </p:blipFill>
          <p:spPr>
            <a:xfrm>
              <a:off x="109440" y="139680"/>
              <a:ext cx="891864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14200" y="274680"/>
              <a:ext cx="847260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400" spc="-1" strike="noStrike">
                  <a:solidFill>
                    <a:srgbClr val="ffffff"/>
                  </a:solidFill>
                  <a:latin typeface="Calibri"/>
                </a:rPr>
                <a:t>أولاً : الطلب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214200" y="1356840"/>
            <a:ext cx="8715600" cy="142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6480" indent="9360" algn="just" rtl="1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000" spc="-1" strike="noStrike">
                <a:solidFill>
                  <a:srgbClr val="000000"/>
                </a:solidFill>
                <a:latin typeface="Calibri"/>
              </a:rPr>
              <a:t>رغبة المستهلك باقتناء السلع والخدمات ودفع الثمن عنها في وقت ومكان معي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Title 1"/>
          <p:cNvGrpSpPr/>
          <p:nvPr/>
        </p:nvGrpSpPr>
        <p:grpSpPr>
          <a:xfrm>
            <a:off x="109440" y="2792520"/>
            <a:ext cx="8918640" cy="1371600"/>
            <a:chOff x="109440" y="2792520"/>
            <a:chExt cx="8918640" cy="1371600"/>
          </a:xfrm>
        </p:grpSpPr>
        <p:pic>
          <p:nvPicPr>
            <p:cNvPr id="57" name="Title 1" descr=""/>
            <p:cNvPicPr/>
            <p:nvPr/>
          </p:nvPicPr>
          <p:blipFill>
            <a:blip r:embed="rId2"/>
            <a:stretch/>
          </p:blipFill>
          <p:spPr>
            <a:xfrm>
              <a:off x="109440" y="2792520"/>
              <a:ext cx="891864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14200" y="2928960"/>
              <a:ext cx="847260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400" spc="-1" strike="noStrike">
                  <a:solidFill>
                    <a:srgbClr val="ffffff"/>
                  </a:solidFill>
                  <a:latin typeface="Calibri"/>
                </a:rPr>
                <a:t>ثانياً: الطلب السياحي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Content Placeholder 2"/>
          <p:cNvSpPr/>
          <p:nvPr/>
        </p:nvSpPr>
        <p:spPr>
          <a:xfrm>
            <a:off x="214200" y="4071960"/>
            <a:ext cx="8715600" cy="25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3320" indent="9360"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المجموع الإجمالي لأعداد السياح الذين يستخدمون المنشآت السياحية سواء كانوا من المواطنين أم كانوا قادمين من البلدان المجاورة أو البعيدة في وقت معين وسعر مع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91240" y="3214800"/>
            <a:ext cx="42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he concept of Tourism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71520" y="57168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he concept of Dem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868320"/>
          </a:xfrm>
          <a:prstGeom prst="rect">
            <a:avLst/>
          </a:prstGeom>
          <a:solidFill>
            <a:srgbClr val="9bbb59"/>
          </a:solidFill>
          <a:ln w="7632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953735"/>
                </a:solidFill>
                <a:latin typeface="Calibri"/>
                <a:cs typeface="Arial"/>
              </a:rPr>
              <a:t>مالفرق بين الطلب بشكل عام والطلب السياحي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60280" y="1371600"/>
          <a:ext cx="8623440" cy="5121360"/>
        </p:xfrm>
        <a:graphic>
          <a:graphicData uri="http://schemas.openxmlformats.org/drawingml/2006/table">
            <a:tbl>
              <a:tblPr/>
              <a:tblGrid>
                <a:gridCol w="4005360"/>
                <a:gridCol w="2949480"/>
                <a:gridCol w="166860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طلب السياحي بشكل خا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طلب بشكل ع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IQ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وضع الاختلا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4"/>
          <p:cNvSpPr/>
          <p:nvPr/>
        </p:nvSpPr>
        <p:spPr>
          <a:xfrm>
            <a:off x="7552800" y="250020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منت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7112160" y="3786120"/>
            <a:ext cx="18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مستهل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216920" y="5072040"/>
            <a:ext cx="18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لموس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4429080" y="2413080"/>
            <a:ext cx="271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نصب على جميع السلع والخدمات المعروضة للبيع بالأسوا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357120" y="2270160"/>
            <a:ext cx="3857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نصب على نوع معين من الخدمات تسمى بالخدمات السياحية (المنتوج السياحي) والتي تلبي حاجات السياح أثناء الرحلة السياحي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4357800" y="3643200"/>
            <a:ext cx="278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ارس من قبل جميع المستهلكين الذين لديهم قوة شرائية ومقدرة على الدف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357120" y="3643200"/>
            <a:ext cx="378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ارس من قبل شريحة محدودة من المستهلكين تسمى بالسيا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357800" y="4786200"/>
            <a:ext cx="2786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ارس على مدار أيام السنة وفي جميع الأماكن والأسواق، ولا يقترن بتوافر وقت الفرا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357120" y="4786200"/>
            <a:ext cx="378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ارس بفترات معينة من السنة أثناء تنفيذ الرحلات السياحية، وغالباً ما يتحقق ذلك في موسم الذروة السياحي وفي المناسبات وعندما يتوفر وقت الفرا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Text Box 3"/>
          <p:cNvGrpSpPr/>
          <p:nvPr/>
        </p:nvGrpSpPr>
        <p:grpSpPr>
          <a:xfrm>
            <a:off x="2968560" y="2955960"/>
            <a:ext cx="1341360" cy="1268280"/>
            <a:chOff x="2968560" y="2955960"/>
            <a:chExt cx="1341360" cy="1268280"/>
          </a:xfrm>
        </p:grpSpPr>
        <p:pic>
          <p:nvPicPr>
            <p:cNvPr id="74" name="Text Box 3" descr=""/>
            <p:cNvPicPr/>
            <p:nvPr/>
          </p:nvPicPr>
          <p:blipFill>
            <a:blip r:embed="rId1"/>
            <a:stretch/>
          </p:blipFill>
          <p:spPr>
            <a:xfrm>
              <a:off x="2968560" y="2955960"/>
              <a:ext cx="1341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086280" y="3114720"/>
              <a:ext cx="110484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مرك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Text Box 4"/>
          <p:cNvGrpSpPr/>
          <p:nvPr/>
        </p:nvGrpSpPr>
        <p:grpSpPr>
          <a:xfrm>
            <a:off x="2968560" y="4138560"/>
            <a:ext cx="1341360" cy="1262160"/>
            <a:chOff x="2968560" y="4138560"/>
            <a:chExt cx="1341360" cy="1262160"/>
          </a:xfrm>
        </p:grpSpPr>
        <p:pic>
          <p:nvPicPr>
            <p:cNvPr id="77" name="Text Box 4" descr=""/>
            <p:cNvPicPr/>
            <p:nvPr/>
          </p:nvPicPr>
          <p:blipFill>
            <a:blip r:embed="rId2"/>
            <a:stretch/>
          </p:blipFill>
          <p:spPr>
            <a:xfrm>
              <a:off x="2968560" y="4138560"/>
              <a:ext cx="134136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086280" y="4294080"/>
              <a:ext cx="110484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مرتب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Text Box 7"/>
          <p:cNvGrpSpPr/>
          <p:nvPr/>
        </p:nvGrpSpPr>
        <p:grpSpPr>
          <a:xfrm>
            <a:off x="6473880" y="1627200"/>
            <a:ext cx="2157480" cy="1500120"/>
            <a:chOff x="6473880" y="1627200"/>
            <a:chExt cx="2157480" cy="1500120"/>
          </a:xfrm>
        </p:grpSpPr>
        <p:pic>
          <p:nvPicPr>
            <p:cNvPr id="80" name="Text Box 7" descr=""/>
            <p:cNvPicPr/>
            <p:nvPr/>
          </p:nvPicPr>
          <p:blipFill>
            <a:blip r:embed="rId3"/>
            <a:stretch/>
          </p:blipFill>
          <p:spPr>
            <a:xfrm>
              <a:off x="6473880" y="1627200"/>
              <a:ext cx="215748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593040" y="1785960"/>
              <a:ext cx="1908000" cy="9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درجة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لتحق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Text Box 8"/>
          <p:cNvGrpSpPr/>
          <p:nvPr/>
        </p:nvGrpSpPr>
        <p:grpSpPr>
          <a:xfrm>
            <a:off x="4400640" y="1627200"/>
            <a:ext cx="2158920" cy="1500120"/>
            <a:chOff x="4400640" y="1627200"/>
            <a:chExt cx="2158920" cy="1500120"/>
          </a:xfrm>
        </p:grpSpPr>
        <p:pic>
          <p:nvPicPr>
            <p:cNvPr id="83" name="Text Box 8" descr=""/>
            <p:cNvPicPr/>
            <p:nvPr/>
          </p:nvPicPr>
          <p:blipFill>
            <a:blip r:embed="rId4"/>
            <a:stretch/>
          </p:blipFill>
          <p:spPr>
            <a:xfrm>
              <a:off x="4400640" y="1627200"/>
              <a:ext cx="215892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522680" y="1785960"/>
              <a:ext cx="1908360" cy="9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درجة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لعمومي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Text Box 9"/>
          <p:cNvGrpSpPr/>
          <p:nvPr/>
        </p:nvGrpSpPr>
        <p:grpSpPr>
          <a:xfrm>
            <a:off x="2316240" y="1627200"/>
            <a:ext cx="2158920" cy="1500120"/>
            <a:chOff x="2316240" y="1627200"/>
            <a:chExt cx="2158920" cy="1500120"/>
          </a:xfrm>
        </p:grpSpPr>
        <p:pic>
          <p:nvPicPr>
            <p:cNvPr id="86" name="Text Box 9" descr=""/>
            <p:cNvPicPr/>
            <p:nvPr/>
          </p:nvPicPr>
          <p:blipFill>
            <a:blip r:embed="rId5"/>
            <a:stretch/>
          </p:blipFill>
          <p:spPr>
            <a:xfrm>
              <a:off x="2316240" y="1627200"/>
              <a:ext cx="215892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440080" y="1785960"/>
              <a:ext cx="1908000" cy="9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درجة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لإمتداد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Text Box 10"/>
          <p:cNvGrpSpPr/>
          <p:nvPr/>
        </p:nvGrpSpPr>
        <p:grpSpPr>
          <a:xfrm>
            <a:off x="237960" y="1627200"/>
            <a:ext cx="2157480" cy="1371600"/>
            <a:chOff x="237960" y="1627200"/>
            <a:chExt cx="2157480" cy="1371600"/>
          </a:xfrm>
        </p:grpSpPr>
        <p:pic>
          <p:nvPicPr>
            <p:cNvPr id="89" name="Text Box 10" descr=""/>
            <p:cNvPicPr/>
            <p:nvPr/>
          </p:nvPicPr>
          <p:blipFill>
            <a:blip r:embed="rId6"/>
            <a:stretch/>
          </p:blipFill>
          <p:spPr>
            <a:xfrm>
              <a:off x="237960" y="1627200"/>
              <a:ext cx="2157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57120" y="1785960"/>
              <a:ext cx="1908360" cy="9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لعامل الجغرافي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Text Box 12"/>
          <p:cNvGrpSpPr/>
          <p:nvPr/>
        </p:nvGrpSpPr>
        <p:grpSpPr>
          <a:xfrm>
            <a:off x="6595920" y="2955960"/>
            <a:ext cx="1335240" cy="1268280"/>
            <a:chOff x="6595920" y="2955960"/>
            <a:chExt cx="1335240" cy="1268280"/>
          </a:xfrm>
        </p:grpSpPr>
        <p:pic>
          <p:nvPicPr>
            <p:cNvPr id="92" name="Text Box 12" descr=""/>
            <p:cNvPicPr/>
            <p:nvPr/>
          </p:nvPicPr>
          <p:blipFill>
            <a:blip r:embed="rId7"/>
            <a:stretch/>
          </p:blipFill>
          <p:spPr>
            <a:xfrm>
              <a:off x="6595920" y="2955960"/>
              <a:ext cx="133524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710400" y="3114720"/>
              <a:ext cx="110484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حقيقي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Text Box 13"/>
          <p:cNvGrpSpPr/>
          <p:nvPr/>
        </p:nvGrpSpPr>
        <p:grpSpPr>
          <a:xfrm>
            <a:off x="6595920" y="4138560"/>
            <a:ext cx="1335240" cy="1262160"/>
            <a:chOff x="6595920" y="4138560"/>
            <a:chExt cx="1335240" cy="1262160"/>
          </a:xfrm>
        </p:grpSpPr>
        <p:pic>
          <p:nvPicPr>
            <p:cNvPr id="95" name="Text Box 13" descr=""/>
            <p:cNvPicPr/>
            <p:nvPr/>
          </p:nvPicPr>
          <p:blipFill>
            <a:blip r:embed="rId8"/>
            <a:stretch/>
          </p:blipFill>
          <p:spPr>
            <a:xfrm>
              <a:off x="6595920" y="4138560"/>
              <a:ext cx="13352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710400" y="4294080"/>
              <a:ext cx="110484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كام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Text Box 15"/>
          <p:cNvGrpSpPr/>
          <p:nvPr/>
        </p:nvGrpSpPr>
        <p:grpSpPr>
          <a:xfrm>
            <a:off x="4595760" y="2955960"/>
            <a:ext cx="1335240" cy="1268280"/>
            <a:chOff x="4595760" y="2955960"/>
            <a:chExt cx="1335240" cy="1268280"/>
          </a:xfrm>
        </p:grpSpPr>
        <p:pic>
          <p:nvPicPr>
            <p:cNvPr id="98" name="Text Box 15" descr=""/>
            <p:cNvPicPr/>
            <p:nvPr/>
          </p:nvPicPr>
          <p:blipFill>
            <a:blip r:embed="rId9"/>
            <a:stretch/>
          </p:blipFill>
          <p:spPr>
            <a:xfrm>
              <a:off x="4595760" y="2955960"/>
              <a:ext cx="133524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710240" y="3114720"/>
              <a:ext cx="110628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عام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Text Box 16"/>
          <p:cNvGrpSpPr/>
          <p:nvPr/>
        </p:nvGrpSpPr>
        <p:grpSpPr>
          <a:xfrm>
            <a:off x="4595760" y="4138560"/>
            <a:ext cx="1335240" cy="1262160"/>
            <a:chOff x="4595760" y="4138560"/>
            <a:chExt cx="1335240" cy="1262160"/>
          </a:xfrm>
        </p:grpSpPr>
        <p:pic>
          <p:nvPicPr>
            <p:cNvPr id="101" name="Text Box 16" descr=""/>
            <p:cNvPicPr/>
            <p:nvPr/>
          </p:nvPicPr>
          <p:blipFill>
            <a:blip r:embed="rId10"/>
            <a:stretch/>
          </p:blipFill>
          <p:spPr>
            <a:xfrm>
              <a:off x="4595760" y="4138560"/>
              <a:ext cx="13352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710240" y="4294080"/>
              <a:ext cx="110628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مشت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Text Box 18"/>
          <p:cNvGrpSpPr/>
          <p:nvPr/>
        </p:nvGrpSpPr>
        <p:grpSpPr>
          <a:xfrm>
            <a:off x="957240" y="2955960"/>
            <a:ext cx="1341360" cy="1268280"/>
            <a:chOff x="957240" y="2955960"/>
            <a:chExt cx="1341360" cy="1268280"/>
          </a:xfrm>
        </p:grpSpPr>
        <p:pic>
          <p:nvPicPr>
            <p:cNvPr id="104" name="Text Box 18" descr=""/>
            <p:cNvPicPr/>
            <p:nvPr/>
          </p:nvPicPr>
          <p:blipFill>
            <a:blip r:embed="rId11"/>
            <a:stretch/>
          </p:blipFill>
          <p:spPr>
            <a:xfrm>
              <a:off x="957240" y="2955960"/>
              <a:ext cx="13413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074600" y="3114720"/>
              <a:ext cx="110520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داخلي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Text Box 19"/>
          <p:cNvGrpSpPr/>
          <p:nvPr/>
        </p:nvGrpSpPr>
        <p:grpSpPr>
          <a:xfrm>
            <a:off x="914400" y="4138560"/>
            <a:ext cx="1432080" cy="1262160"/>
            <a:chOff x="914400" y="4138560"/>
            <a:chExt cx="1432080" cy="1262160"/>
          </a:xfrm>
        </p:grpSpPr>
        <p:pic>
          <p:nvPicPr>
            <p:cNvPr id="107" name="Text Box 19" descr=""/>
            <p:cNvPicPr/>
            <p:nvPr/>
          </p:nvPicPr>
          <p:blipFill>
            <a:blip r:embed="rId12"/>
            <a:stretch/>
          </p:blipFill>
          <p:spPr>
            <a:xfrm>
              <a:off x="914400" y="4138560"/>
              <a:ext cx="143208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074600" y="4294080"/>
              <a:ext cx="110520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Arial"/>
                  <a:cs typeface="Arial"/>
                </a:rPr>
                <a:t>خارجي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20"/>
          <p:cNvGrpSpPr/>
          <p:nvPr/>
        </p:nvGrpSpPr>
        <p:grpSpPr>
          <a:xfrm>
            <a:off x="5816160" y="2759040"/>
            <a:ext cx="352800" cy="2097000"/>
            <a:chOff x="5816160" y="2759040"/>
            <a:chExt cx="352800" cy="2097000"/>
          </a:xfrm>
        </p:grpSpPr>
        <p:cxnSp>
          <p:nvCxnSpPr>
            <p:cNvPr id="110" name="AutoShape 21"/>
            <p:cNvCxnSpPr/>
            <p:nvPr/>
          </p:nvCxnSpPr>
          <p:spPr>
            <a:xfrm>
              <a:off x="6157800" y="2759040"/>
              <a:ext cx="11520" cy="209736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cxnSp>
          <p:nvCxnSpPr>
            <p:cNvPr id="111" name="AutoShape 22"/>
            <p:cNvCxnSpPr/>
            <p:nvPr/>
          </p:nvCxnSpPr>
          <p:spPr>
            <a:xfrm flipH="1">
              <a:off x="5816160" y="4855320"/>
              <a:ext cx="342000" cy="108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cxnSp>
          <p:nvCxnSpPr>
            <p:cNvPr id="112" name="AutoShape 23"/>
            <p:cNvCxnSpPr/>
            <p:nvPr/>
          </p:nvCxnSpPr>
          <p:spPr>
            <a:xfrm flipH="1">
              <a:off x="5816160" y="3582000"/>
              <a:ext cx="342000" cy="108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</p:grpSp>
      <p:grpSp>
        <p:nvGrpSpPr>
          <p:cNvPr id="113" name="Group 24"/>
          <p:cNvGrpSpPr/>
          <p:nvPr/>
        </p:nvGrpSpPr>
        <p:grpSpPr>
          <a:xfrm>
            <a:off x="7814880" y="2759040"/>
            <a:ext cx="354240" cy="2097000"/>
            <a:chOff x="7814880" y="2759040"/>
            <a:chExt cx="354240" cy="2097000"/>
          </a:xfrm>
        </p:grpSpPr>
        <p:cxnSp>
          <p:nvCxnSpPr>
            <p:cNvPr id="114" name="AutoShape 25"/>
            <p:cNvCxnSpPr/>
            <p:nvPr/>
          </p:nvCxnSpPr>
          <p:spPr>
            <a:xfrm>
              <a:off x="8157960" y="2759040"/>
              <a:ext cx="11520" cy="209736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cxnSp>
          <p:nvCxnSpPr>
            <p:cNvPr id="115" name="AutoShape 26"/>
            <p:cNvCxnSpPr/>
            <p:nvPr/>
          </p:nvCxnSpPr>
          <p:spPr>
            <a:xfrm flipH="1">
              <a:off x="7814880" y="4855320"/>
              <a:ext cx="343440" cy="108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cxnSp>
          <p:nvCxnSpPr>
            <p:cNvPr id="116" name="AutoShape 27"/>
            <p:cNvCxnSpPr/>
            <p:nvPr/>
          </p:nvCxnSpPr>
          <p:spPr>
            <a:xfrm flipH="1">
              <a:off x="7814880" y="3582000"/>
              <a:ext cx="343440" cy="108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</p:grpSp>
      <p:grpSp>
        <p:nvGrpSpPr>
          <p:cNvPr id="117" name="Group 28"/>
          <p:cNvGrpSpPr/>
          <p:nvPr/>
        </p:nvGrpSpPr>
        <p:grpSpPr>
          <a:xfrm>
            <a:off x="677880" y="2739960"/>
            <a:ext cx="386280" cy="2097000"/>
            <a:chOff x="677880" y="2739960"/>
            <a:chExt cx="386280" cy="2097000"/>
          </a:xfrm>
        </p:grpSpPr>
        <p:cxnSp>
          <p:nvCxnSpPr>
            <p:cNvPr id="118" name="AutoShape 29"/>
            <p:cNvCxnSpPr/>
            <p:nvPr/>
          </p:nvCxnSpPr>
          <p:spPr>
            <a:xfrm>
              <a:off x="677880" y="2739960"/>
              <a:ext cx="11520" cy="209736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cxnSp>
          <p:nvCxnSpPr>
            <p:cNvPr id="119" name="AutoShape 30"/>
            <p:cNvCxnSpPr/>
            <p:nvPr/>
          </p:nvCxnSpPr>
          <p:spPr>
            <a:xfrm>
              <a:off x="677880" y="4836240"/>
              <a:ext cx="386640" cy="108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cxnSp>
          <p:nvCxnSpPr>
            <p:cNvPr id="120" name="AutoShape 31"/>
            <p:cNvCxnSpPr/>
            <p:nvPr/>
          </p:nvCxnSpPr>
          <p:spPr>
            <a:xfrm>
              <a:off x="677880" y="3787560"/>
              <a:ext cx="386640" cy="108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</p:grpSp>
      <p:grpSp>
        <p:nvGrpSpPr>
          <p:cNvPr id="121" name="Group 32"/>
          <p:cNvGrpSpPr/>
          <p:nvPr/>
        </p:nvGrpSpPr>
        <p:grpSpPr>
          <a:xfrm>
            <a:off x="2644560" y="2759040"/>
            <a:ext cx="385920" cy="2097000"/>
            <a:chOff x="2644560" y="2759040"/>
            <a:chExt cx="385920" cy="2097000"/>
          </a:xfrm>
        </p:grpSpPr>
        <p:cxnSp>
          <p:nvCxnSpPr>
            <p:cNvPr id="122" name="AutoShape 33"/>
            <p:cNvCxnSpPr/>
            <p:nvPr/>
          </p:nvCxnSpPr>
          <p:spPr>
            <a:xfrm>
              <a:off x="2644920" y="2759040"/>
              <a:ext cx="11520" cy="209736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cxnSp>
          <p:nvCxnSpPr>
            <p:cNvPr id="123" name="AutoShape 34"/>
            <p:cNvCxnSpPr/>
            <p:nvPr/>
          </p:nvCxnSpPr>
          <p:spPr>
            <a:xfrm>
              <a:off x="2644560" y="4855320"/>
              <a:ext cx="386280" cy="108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  <p:cxnSp>
          <p:nvCxnSpPr>
            <p:cNvPr id="124" name="AutoShape 35"/>
            <p:cNvCxnSpPr/>
            <p:nvPr/>
          </p:nvCxnSpPr>
          <p:spPr>
            <a:xfrm>
              <a:off x="2644560" y="3806640"/>
              <a:ext cx="386280" cy="1080"/>
            </a:xfrm>
            <a:prstGeom prst="straightConnector1">
              <a:avLst/>
            </a:prstGeom>
            <a:ln w="57240">
              <a:solidFill>
                <a:srgbClr val="4f81bd"/>
              </a:solidFill>
              <a:miter/>
            </a:ln>
          </p:spPr>
        </p:cxnSp>
      </p:grpSp>
      <p:grpSp>
        <p:nvGrpSpPr>
          <p:cNvPr id="125" name="Group 66"/>
          <p:cNvGrpSpPr/>
          <p:nvPr/>
        </p:nvGrpSpPr>
        <p:grpSpPr>
          <a:xfrm>
            <a:off x="214200" y="357120"/>
            <a:ext cx="8631360" cy="963720"/>
            <a:chOff x="214200" y="357120"/>
            <a:chExt cx="8631360" cy="963720"/>
          </a:xfrm>
        </p:grpSpPr>
        <p:grpSp>
          <p:nvGrpSpPr>
            <p:cNvPr id="126" name="Group 61"/>
            <p:cNvGrpSpPr/>
            <p:nvPr/>
          </p:nvGrpSpPr>
          <p:grpSpPr>
            <a:xfrm>
              <a:off x="214200" y="357120"/>
              <a:ext cx="8631360" cy="963720"/>
              <a:chOff x="214200" y="357120"/>
              <a:chExt cx="8631360" cy="963720"/>
            </a:xfrm>
          </p:grpSpPr>
          <p:grpSp>
            <p:nvGrpSpPr>
              <p:cNvPr id="127" name="Rounded Rectangle 62"/>
              <p:cNvGrpSpPr/>
              <p:nvPr/>
            </p:nvGrpSpPr>
            <p:grpSpPr>
              <a:xfrm>
                <a:off x="214200" y="414000"/>
                <a:ext cx="8479440" cy="784080"/>
                <a:chOff x="214200" y="414000"/>
                <a:chExt cx="8479440" cy="784080"/>
              </a:xfrm>
            </p:grpSpPr>
            <p:pic>
              <p:nvPicPr>
                <p:cNvPr id="128" name="Rounded Rectangle 62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14200" y="414000"/>
                  <a:ext cx="84794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" name=""/>
                <p:cNvSpPr/>
                <p:nvPr/>
              </p:nvSpPr>
              <p:spPr>
                <a:xfrm>
                  <a:off x="341280" y="500400"/>
                  <a:ext cx="8226000" cy="60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pic>
            <p:nvPicPr>
              <p:cNvPr id="130" name="Rounded Rectangle 4" descr=""/>
              <p:cNvPicPr/>
              <p:nvPr/>
            </p:nvPicPr>
            <p:blipFill>
              <a:blip r:embed="rId14"/>
              <a:stretch/>
            </p:blipFill>
            <p:spPr>
              <a:xfrm>
                <a:off x="260640" y="357120"/>
                <a:ext cx="8584920" cy="963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1" name="Rectangle 65"/>
            <p:cNvSpPr/>
            <p:nvPr/>
          </p:nvSpPr>
          <p:spPr>
            <a:xfrm>
              <a:off x="430560" y="571680"/>
              <a:ext cx="402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Types of Tourism Demand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38:37Z</dcterms:created>
  <dc:creator>Lenovo</dc:creator>
  <dc:description/>
  <dc:language>en-US</dc:language>
  <cp:lastModifiedBy>مرتضى الكربلائي</cp:lastModifiedBy>
  <dcterms:modified xsi:type="dcterms:W3CDTF">2015-06-09T21:56:48Z</dcterms:modified>
  <cp:revision>42</cp:revision>
  <dc:subject/>
  <dc:title>Slide 1</dc:title>
</cp:coreProperties>
</file>