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541-3F37-4D39-86E8-767CB230F389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IQ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30E7-2BF5-43B0-BCB3-837C8069672A}" type="slidenum">
              <a:rPr b="0" lang="ar-IQ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D36-C77F-43E4-ACD2-BBC0B1E5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591-4F4D-411A-9083-C1A1106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10D-9009-4B2D-B6B0-3DF8B854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3D6-69C4-4356-B0BD-3A4EB740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A30-9F46-415A-BDA0-9B07F00A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9CF-5057-401F-A870-E7E8BCC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A376-B1CF-4D7F-AC5E-F85FFDC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3909-B8B4-4464-A3D3-6D6A9C90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501-652D-4EEA-809C-4AE3EAFB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526-CD16-4CD0-9811-A1CF9217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D5CD-19C7-446B-AF53-A0347E05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A9F-0C63-42B7-BA4C-583237C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11A4-902D-4AFB-911B-084B460B1EAE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11" descr=""/>
          <p:cNvPicPr/>
          <p:nvPr/>
        </p:nvPicPr>
        <p:blipFill>
          <a:blip r:embed="rId4"/>
          <a:stretch/>
        </p:blipFill>
        <p:spPr>
          <a:xfrm>
            <a:off x="2895480" y="5340240"/>
            <a:ext cx="57121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0"/>
          <p:cNvGrpSpPr/>
          <p:nvPr/>
        </p:nvGrpSpPr>
        <p:grpSpPr>
          <a:xfrm>
            <a:off x="1928880" y="428760"/>
            <a:ext cx="5273640" cy="963360"/>
            <a:chOff x="1928880" y="428760"/>
            <a:chExt cx="5273640" cy="963360"/>
          </a:xfrm>
        </p:grpSpPr>
        <p:grpSp>
          <p:nvGrpSpPr>
            <p:cNvPr id="53" name="Rounded Rectangle 51"/>
            <p:cNvGrpSpPr/>
            <p:nvPr/>
          </p:nvGrpSpPr>
          <p:grpSpPr>
            <a:xfrm>
              <a:off x="1928880" y="484920"/>
              <a:ext cx="5273640" cy="781920"/>
              <a:chOff x="1928880" y="484920"/>
              <a:chExt cx="5273640" cy="781920"/>
            </a:xfrm>
          </p:grpSpPr>
          <p:pic>
            <p:nvPicPr>
              <p:cNvPr id="54" name="Rounded Rectangl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8880" y="484920"/>
                <a:ext cx="527364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2063520" y="577080"/>
                <a:ext cx="500400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6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958040" y="428760"/>
              <a:ext cx="521532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53"/>
          <p:cNvGrpSpPr/>
          <p:nvPr/>
        </p:nvGrpSpPr>
        <p:grpSpPr>
          <a:xfrm>
            <a:off x="857160" y="2071800"/>
            <a:ext cx="2143080" cy="1500120"/>
            <a:chOff x="857160" y="2071800"/>
            <a:chExt cx="2143080" cy="1500120"/>
          </a:xfrm>
        </p:grpSpPr>
        <p:grpSp>
          <p:nvGrpSpPr>
            <p:cNvPr id="58" name="Rounded Rectangle 54"/>
            <p:cNvGrpSpPr/>
            <p:nvPr/>
          </p:nvGrpSpPr>
          <p:grpSpPr>
            <a:xfrm>
              <a:off x="857160" y="2071800"/>
              <a:ext cx="2143080" cy="1449000"/>
              <a:chOff x="857160" y="2071800"/>
              <a:chExt cx="2143080" cy="1449000"/>
            </a:xfrm>
          </p:grpSpPr>
          <p:pic>
            <p:nvPicPr>
              <p:cNvPr id="59" name="Rounded Rectangle 54" descr=""/>
              <p:cNvPicPr/>
              <p:nvPr/>
            </p:nvPicPr>
            <p:blipFill>
              <a:blip r:embed="rId3"/>
              <a:stretch/>
            </p:blipFill>
            <p:spPr>
              <a:xfrm>
                <a:off x="857160" y="2071800"/>
                <a:ext cx="2143080" cy="144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>
                <a:off x="994680" y="2200320"/>
                <a:ext cx="1867320" cy="119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1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884520" y="2086920"/>
              <a:ext cx="2088000" cy="148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56"/>
          <p:cNvGrpSpPr/>
          <p:nvPr/>
        </p:nvGrpSpPr>
        <p:grpSpPr>
          <a:xfrm>
            <a:off x="6072120" y="1928880"/>
            <a:ext cx="2143080" cy="1571400"/>
            <a:chOff x="6072120" y="1928880"/>
            <a:chExt cx="2143080" cy="1571400"/>
          </a:xfrm>
        </p:grpSpPr>
        <p:grpSp>
          <p:nvGrpSpPr>
            <p:cNvPr id="63" name="Rounded Rectangle 57"/>
            <p:cNvGrpSpPr/>
            <p:nvPr/>
          </p:nvGrpSpPr>
          <p:grpSpPr>
            <a:xfrm>
              <a:off x="6072120" y="1928880"/>
              <a:ext cx="2143080" cy="1550520"/>
              <a:chOff x="6072120" y="1928880"/>
              <a:chExt cx="2143080" cy="1550520"/>
            </a:xfrm>
          </p:grpSpPr>
          <p:pic>
            <p:nvPicPr>
              <p:cNvPr id="64" name="Rounded Rectangle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6072120" y="1928880"/>
                <a:ext cx="2143080" cy="155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"/>
              <p:cNvSpPr/>
              <p:nvPr/>
            </p:nvSpPr>
            <p:spPr>
              <a:xfrm>
                <a:off x="6213600" y="2065680"/>
                <a:ext cx="1858680" cy="128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66" name="Rounded Rectangle 4" descr=""/>
            <p:cNvPicPr/>
            <p:nvPr/>
          </p:nvPicPr>
          <p:blipFill>
            <a:blip r:embed="rId6"/>
            <a:stretch/>
          </p:blipFill>
          <p:spPr>
            <a:xfrm>
              <a:off x="6099480" y="1971000"/>
              <a:ext cx="2082600" cy="152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20"/>
          <p:cNvGrpSpPr/>
          <p:nvPr/>
        </p:nvGrpSpPr>
        <p:grpSpPr>
          <a:xfrm>
            <a:off x="3214800" y="2000160"/>
            <a:ext cx="2714400" cy="1643040"/>
            <a:chOff x="3214800" y="2000160"/>
            <a:chExt cx="2714400" cy="1643040"/>
          </a:xfrm>
        </p:grpSpPr>
        <p:sp>
          <p:nvSpPr>
            <p:cNvPr id="68" name="Right Arrow 71"/>
            <p:cNvSpPr/>
            <p:nvPr/>
          </p:nvSpPr>
          <p:spPr>
            <a:xfrm>
              <a:off x="3214800" y="2000160"/>
              <a:ext cx="2714400" cy="1643040"/>
            </a:xfrm>
            <a:prstGeom prst="rightArrow">
              <a:avLst>
                <a:gd name="adj1" fmla="val 50000"/>
                <a:gd name="adj2" fmla="val 49997"/>
              </a:avLst>
            </a:prstGeom>
            <a:solidFill>
              <a:srgbClr val="4f81bd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Rectangle 72" descr=""/>
            <p:cNvPicPr/>
            <p:nvPr/>
          </p:nvPicPr>
          <p:blipFill>
            <a:blip r:embed="rId7"/>
            <a:stretch/>
          </p:blipFill>
          <p:spPr>
            <a:xfrm>
              <a:off x="3371040" y="2456640"/>
              <a:ext cx="1645920" cy="93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21"/>
          <p:cNvGrpSpPr/>
          <p:nvPr/>
        </p:nvGrpSpPr>
        <p:grpSpPr>
          <a:xfrm>
            <a:off x="341280" y="3714840"/>
            <a:ext cx="3016800" cy="2620080"/>
            <a:chOff x="341280" y="3714840"/>
            <a:chExt cx="3016800" cy="2620080"/>
          </a:xfrm>
        </p:grpSpPr>
        <p:grpSp>
          <p:nvGrpSpPr>
            <p:cNvPr id="71" name="Group 68"/>
            <p:cNvGrpSpPr/>
            <p:nvPr/>
          </p:nvGrpSpPr>
          <p:grpSpPr>
            <a:xfrm>
              <a:off x="928800" y="3714840"/>
              <a:ext cx="1857240" cy="1195560"/>
              <a:chOff x="928800" y="3714840"/>
              <a:chExt cx="1857240" cy="1195560"/>
            </a:xfrm>
          </p:grpSpPr>
          <p:sp>
            <p:nvSpPr>
              <p:cNvPr id="72" name="Rounded Rectangle 69"/>
              <p:cNvSpPr/>
              <p:nvPr/>
            </p:nvSpPr>
            <p:spPr>
              <a:xfrm>
                <a:off x="966600" y="3714840"/>
                <a:ext cx="181944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3" name="Rounded Rectangl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928800" y="3730680"/>
                <a:ext cx="184536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4" name="Rectangle 76"/>
            <p:cNvSpPr/>
            <p:nvPr/>
          </p:nvSpPr>
          <p:spPr>
            <a:xfrm>
              <a:off x="341280" y="5143680"/>
              <a:ext cx="3016800" cy="1191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2060"/>
                  </a:solidFill>
                  <a:latin typeface="Calibri"/>
                </a:rPr>
                <a:t>الثرو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آثار / تراث / حضار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مقومات طبيعية / دينية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22"/>
          <p:cNvGrpSpPr/>
          <p:nvPr/>
        </p:nvGrpSpPr>
        <p:grpSpPr>
          <a:xfrm>
            <a:off x="5318640" y="3714840"/>
            <a:ext cx="3555000" cy="2254320"/>
            <a:chOff x="5318640" y="3714840"/>
            <a:chExt cx="3555000" cy="2254320"/>
          </a:xfrm>
        </p:grpSpPr>
        <p:grpSp>
          <p:nvGrpSpPr>
            <p:cNvPr id="76" name="Group 73"/>
            <p:cNvGrpSpPr/>
            <p:nvPr/>
          </p:nvGrpSpPr>
          <p:grpSpPr>
            <a:xfrm>
              <a:off x="6143400" y="3714840"/>
              <a:ext cx="1857240" cy="1195560"/>
              <a:chOff x="6143400" y="3714840"/>
              <a:chExt cx="1857240" cy="1195560"/>
            </a:xfrm>
          </p:grpSpPr>
          <p:sp>
            <p:nvSpPr>
              <p:cNvPr id="77" name="Rounded Rectangle 74"/>
              <p:cNvSpPr/>
              <p:nvPr/>
            </p:nvSpPr>
            <p:spPr>
              <a:xfrm>
                <a:off x="6259320" y="3714840"/>
                <a:ext cx="1699560" cy="1195560"/>
              </a:xfrm>
              <a:prstGeom prst="roundRect">
                <a:avLst>
                  <a:gd name="adj" fmla="val 10000"/>
                </a:avLst>
              </a:prstGeom>
              <a:solidFill>
                <a:srgbClr val="ffffff"/>
              </a:solidFill>
              <a:ln w="381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78" name="Rounded Rectangle 4" descr=""/>
              <p:cNvPicPr/>
              <p:nvPr/>
            </p:nvPicPr>
            <p:blipFill>
              <a:blip r:embed="rId9"/>
              <a:stretch/>
            </p:blipFill>
            <p:spPr>
              <a:xfrm>
                <a:off x="6143400" y="3730680"/>
                <a:ext cx="1857240" cy="1164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" name="Rectangle 77"/>
            <p:cNvSpPr/>
            <p:nvPr/>
          </p:nvSpPr>
          <p:spPr>
            <a:xfrm>
              <a:off x="5318640" y="5143680"/>
              <a:ext cx="3555000" cy="8254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أنماط سياحية وخدمات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2400" spc="-1" strike="noStrike">
                  <a:solidFill>
                    <a:srgbClr val="002060"/>
                  </a:solidFill>
                  <a:latin typeface="Calibri"/>
                </a:rPr>
                <a:t>متعددة ومتنوعة</a:t>
              </a:r>
              <a:r>
                <a:rPr b="0" lang="ar-IQ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ight Arrow 88"/>
          <p:cNvSpPr/>
          <p:nvPr/>
        </p:nvSpPr>
        <p:spPr>
          <a:xfrm>
            <a:off x="1714680" y="857160"/>
            <a:ext cx="3143160" cy="5143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214200" y="1214280"/>
            <a:ext cx="2619360" cy="3527640"/>
            <a:chOff x="214200" y="1214280"/>
            <a:chExt cx="2619360" cy="3527640"/>
          </a:xfrm>
        </p:grpSpPr>
        <p:sp>
          <p:nvSpPr>
            <p:cNvPr id="82" name="Rectangle 86"/>
            <p:cNvSpPr/>
            <p:nvPr/>
          </p:nvSpPr>
          <p:spPr>
            <a:xfrm>
              <a:off x="790200" y="1214280"/>
              <a:ext cx="1468080" cy="1068840"/>
            </a:xfrm>
            <a:prstGeom prst="rect">
              <a:avLst/>
            </a:prstGeom>
            <a:solidFill>
              <a:srgbClr val="9bbb59"/>
            </a:solidFill>
            <a:ln w="7632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سياحة</a:t>
              </a:r>
              <a:r>
                <a:rPr b="1" lang="ar-SA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Picture 4" descr="F:\محاضرات 30 إسبوع اقتصاديات السياحة\صور درس الاقتصاد السياحي\16.jpg"/>
            <p:cNvPicPr/>
            <p:nvPr/>
          </p:nvPicPr>
          <p:blipFill>
            <a:blip r:embed="rId1"/>
            <a:stretch/>
          </p:blipFill>
          <p:spPr>
            <a:xfrm>
              <a:off x="214200" y="1914120"/>
              <a:ext cx="2619360" cy="282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101"/>
          <p:cNvGrpSpPr/>
          <p:nvPr/>
        </p:nvGrpSpPr>
        <p:grpSpPr>
          <a:xfrm>
            <a:off x="3500280" y="1357200"/>
            <a:ext cx="1785960" cy="4143600"/>
            <a:chOff x="3500280" y="1357200"/>
            <a:chExt cx="1785960" cy="4143600"/>
          </a:xfrm>
        </p:grpSpPr>
        <p:grpSp>
          <p:nvGrpSpPr>
            <p:cNvPr id="85" name="Right Arrow 91"/>
            <p:cNvGrpSpPr/>
            <p:nvPr/>
          </p:nvGrpSpPr>
          <p:grpSpPr>
            <a:xfrm>
              <a:off x="3500280" y="1357200"/>
              <a:ext cx="1785960" cy="544680"/>
              <a:chOff x="3500280" y="1357200"/>
              <a:chExt cx="1785960" cy="544680"/>
            </a:xfrm>
          </p:grpSpPr>
          <p:pic>
            <p:nvPicPr>
              <p:cNvPr id="86" name="Right Arrow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3500280" y="13572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3598920" y="15444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Right Arrow 92"/>
            <p:cNvGrpSpPr/>
            <p:nvPr/>
          </p:nvGrpSpPr>
          <p:grpSpPr>
            <a:xfrm>
              <a:off x="3500280" y="1832400"/>
              <a:ext cx="1785960" cy="544680"/>
              <a:chOff x="3500280" y="1832400"/>
              <a:chExt cx="1785960" cy="544680"/>
            </a:xfrm>
          </p:grpSpPr>
          <p:pic>
            <p:nvPicPr>
              <p:cNvPr id="89" name="Right Arrow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183240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598920" y="201960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1" name="Right Arrow 93"/>
            <p:cNvGrpSpPr/>
            <p:nvPr/>
          </p:nvGrpSpPr>
          <p:grpSpPr>
            <a:xfrm>
              <a:off x="3500280" y="2238120"/>
              <a:ext cx="1785960" cy="550440"/>
              <a:chOff x="3500280" y="2238120"/>
              <a:chExt cx="1785960" cy="550440"/>
            </a:xfrm>
          </p:grpSpPr>
          <p:pic>
            <p:nvPicPr>
              <p:cNvPr id="92" name="Right Arrow 93" descr=""/>
              <p:cNvPicPr/>
              <p:nvPr/>
            </p:nvPicPr>
            <p:blipFill>
              <a:blip r:embed="rId4"/>
              <a:stretch/>
            </p:blipFill>
            <p:spPr>
              <a:xfrm>
                <a:off x="3500280" y="22381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" name=""/>
              <p:cNvSpPr/>
              <p:nvPr/>
            </p:nvSpPr>
            <p:spPr>
              <a:xfrm>
                <a:off x="3598920" y="242712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4" name="Right Arrow 94"/>
            <p:cNvGrpSpPr/>
            <p:nvPr/>
          </p:nvGrpSpPr>
          <p:grpSpPr>
            <a:xfrm>
              <a:off x="3500280" y="2713320"/>
              <a:ext cx="1785960" cy="550440"/>
              <a:chOff x="3500280" y="2713320"/>
              <a:chExt cx="1785960" cy="550440"/>
            </a:xfrm>
          </p:grpSpPr>
          <p:pic>
            <p:nvPicPr>
              <p:cNvPr id="95" name="Right Arrow 94" descr=""/>
              <p:cNvPicPr/>
              <p:nvPr/>
            </p:nvPicPr>
            <p:blipFill>
              <a:blip r:embed="rId5"/>
              <a:stretch/>
            </p:blipFill>
            <p:spPr>
              <a:xfrm>
                <a:off x="3500280" y="27133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3598920" y="2902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7" name="Right Arrow 95"/>
            <p:cNvGrpSpPr/>
            <p:nvPr/>
          </p:nvGrpSpPr>
          <p:grpSpPr>
            <a:xfrm>
              <a:off x="3500280" y="3188520"/>
              <a:ext cx="1785960" cy="550440"/>
              <a:chOff x="3500280" y="3188520"/>
              <a:chExt cx="1785960" cy="550440"/>
            </a:xfrm>
          </p:grpSpPr>
          <p:pic>
            <p:nvPicPr>
              <p:cNvPr id="98" name="Right Arrow 95" descr=""/>
              <p:cNvPicPr/>
              <p:nvPr/>
            </p:nvPicPr>
            <p:blipFill>
              <a:blip r:embed="rId6"/>
              <a:stretch/>
            </p:blipFill>
            <p:spPr>
              <a:xfrm>
                <a:off x="3500280" y="31885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3598920" y="33778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0" name="Right Arrow 96"/>
            <p:cNvGrpSpPr/>
            <p:nvPr/>
          </p:nvGrpSpPr>
          <p:grpSpPr>
            <a:xfrm>
              <a:off x="3500280" y="3663720"/>
              <a:ext cx="1785960" cy="550440"/>
              <a:chOff x="3500280" y="3663720"/>
              <a:chExt cx="1785960" cy="550440"/>
            </a:xfrm>
          </p:grpSpPr>
          <p:pic>
            <p:nvPicPr>
              <p:cNvPr id="101" name="Right Arrow 96" descr=""/>
              <p:cNvPicPr/>
              <p:nvPr/>
            </p:nvPicPr>
            <p:blipFill>
              <a:blip r:embed="rId7"/>
              <a:stretch/>
            </p:blipFill>
            <p:spPr>
              <a:xfrm>
                <a:off x="3500280" y="366372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3598920" y="385344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3" name="Right Arrow 97"/>
            <p:cNvGrpSpPr/>
            <p:nvPr/>
          </p:nvGrpSpPr>
          <p:grpSpPr>
            <a:xfrm>
              <a:off x="3500280" y="4069440"/>
              <a:ext cx="1785960" cy="550440"/>
              <a:chOff x="3500280" y="4069440"/>
              <a:chExt cx="1785960" cy="550440"/>
            </a:xfrm>
          </p:grpSpPr>
          <p:pic>
            <p:nvPicPr>
              <p:cNvPr id="104" name="Right Arrow 97" descr=""/>
              <p:cNvPicPr/>
              <p:nvPr/>
            </p:nvPicPr>
            <p:blipFill>
              <a:blip r:embed="rId8"/>
              <a:stretch/>
            </p:blipFill>
            <p:spPr>
              <a:xfrm>
                <a:off x="3500280" y="40694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3598920" y="42609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Right Arrow 98"/>
            <p:cNvGrpSpPr/>
            <p:nvPr/>
          </p:nvGrpSpPr>
          <p:grpSpPr>
            <a:xfrm>
              <a:off x="3500280" y="4544640"/>
              <a:ext cx="1785960" cy="550440"/>
              <a:chOff x="3500280" y="4544640"/>
              <a:chExt cx="1785960" cy="550440"/>
            </a:xfrm>
          </p:grpSpPr>
          <p:pic>
            <p:nvPicPr>
              <p:cNvPr id="107" name="Right Arrow 98" descr=""/>
              <p:cNvPicPr/>
              <p:nvPr/>
            </p:nvPicPr>
            <p:blipFill>
              <a:blip r:embed="rId9"/>
              <a:stretch/>
            </p:blipFill>
            <p:spPr>
              <a:xfrm>
                <a:off x="3500280" y="4544640"/>
                <a:ext cx="1785960" cy="55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3598920" y="473616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Right Arrow 99"/>
            <p:cNvGrpSpPr/>
            <p:nvPr/>
          </p:nvGrpSpPr>
          <p:grpSpPr>
            <a:xfrm>
              <a:off x="3500280" y="4956120"/>
              <a:ext cx="1785960" cy="544680"/>
              <a:chOff x="3500280" y="4956120"/>
              <a:chExt cx="1785960" cy="544680"/>
            </a:xfrm>
          </p:grpSpPr>
          <p:pic>
            <p:nvPicPr>
              <p:cNvPr id="110" name="Right Arrow 99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00280" y="4956120"/>
                <a:ext cx="1785960" cy="54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598920" y="5143680"/>
                <a:ext cx="1510920" cy="1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2" name="Rectangle 102"/>
          <p:cNvGrpSpPr/>
          <p:nvPr/>
        </p:nvGrpSpPr>
        <p:grpSpPr>
          <a:xfrm>
            <a:off x="5261040" y="1182600"/>
            <a:ext cx="3670200" cy="3193200"/>
            <a:chOff x="5261040" y="1182600"/>
            <a:chExt cx="3670200" cy="3193200"/>
          </a:xfrm>
        </p:grpSpPr>
        <p:pic>
          <p:nvPicPr>
            <p:cNvPr id="113" name="Rectangle 102" descr=""/>
            <p:cNvPicPr/>
            <p:nvPr/>
          </p:nvPicPr>
          <p:blipFill>
            <a:blip r:embed="rId11"/>
            <a:stretch/>
          </p:blipFill>
          <p:spPr>
            <a:xfrm>
              <a:off x="5261040" y="1182600"/>
              <a:ext cx="3670200" cy="251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5500800" y="1357200"/>
              <a:ext cx="328608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IQ" sz="3200" spc="-1" strike="noStrike">
                  <a:solidFill>
                    <a:srgbClr val="c00000"/>
                  </a:solidFill>
                  <a:latin typeface="Calibri"/>
                </a:rPr>
                <a:t>تبعث سلسلة </a:t>
              </a: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من النشاطات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الإنتاجية والإستثمارية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c00000"/>
                  </a:solidFill>
                  <a:latin typeface="Calibri"/>
                </a:rPr>
                <a:t>في الإقتصاد القومي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106"/>
          <p:cNvGrpSpPr/>
          <p:nvPr/>
        </p:nvGrpSpPr>
        <p:grpSpPr>
          <a:xfrm>
            <a:off x="5572080" y="3562200"/>
            <a:ext cx="3357720" cy="714600"/>
            <a:chOff x="5572080" y="3562200"/>
            <a:chExt cx="3357720" cy="714600"/>
          </a:xfrm>
        </p:grpSpPr>
        <p:sp>
          <p:nvSpPr>
            <p:cNvPr id="116" name="Down Arrow 103"/>
            <p:cNvSpPr/>
            <p:nvPr/>
          </p:nvSpPr>
          <p:spPr>
            <a:xfrm>
              <a:off x="5572080" y="3562200"/>
              <a:ext cx="3357720" cy="7146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c000"/>
            </a:solidFill>
            <a:ln w="381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104"/>
            <p:cNvSpPr/>
            <p:nvPr/>
          </p:nvSpPr>
          <p:spPr>
            <a:xfrm>
              <a:off x="6505560" y="3571560"/>
              <a:ext cx="145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بسبب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105"/>
          <p:cNvSpPr/>
          <p:nvPr/>
        </p:nvSpPr>
        <p:spPr>
          <a:xfrm>
            <a:off x="5500800" y="4348080"/>
            <a:ext cx="335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إمتدادات آثار الطلب السياحي المعقد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والمركبة من العديد من السلع والخدمات الى كافة القطاعات ال</a:t>
            </a:r>
            <a:r>
              <a:rPr b="1" lang="ar-IQ" sz="24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تصادية الرئيسية منها والفرعية والتي تسهم في تصنيع المنتج السياح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19"/>
          <p:cNvGrpSpPr/>
          <p:nvPr/>
        </p:nvGrpSpPr>
        <p:grpSpPr>
          <a:xfrm>
            <a:off x="928800" y="428760"/>
            <a:ext cx="7286400" cy="963360"/>
            <a:chOff x="928800" y="428760"/>
            <a:chExt cx="7286400" cy="963360"/>
          </a:xfrm>
        </p:grpSpPr>
        <p:grpSp>
          <p:nvGrpSpPr>
            <p:cNvPr id="120" name="Rounded Rectangle 20"/>
            <p:cNvGrpSpPr/>
            <p:nvPr/>
          </p:nvGrpSpPr>
          <p:grpSpPr>
            <a:xfrm>
              <a:off x="928800" y="484920"/>
              <a:ext cx="7286400" cy="781920"/>
              <a:chOff x="928800" y="484920"/>
              <a:chExt cx="7286400" cy="781920"/>
            </a:xfrm>
          </p:grpSpPr>
          <p:pic>
            <p:nvPicPr>
              <p:cNvPr id="121" name="Rounded Rectangl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928800" y="484920"/>
                <a:ext cx="7286400" cy="78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1064520" y="577080"/>
                <a:ext cx="7014960" cy="59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23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970200" y="428760"/>
              <a:ext cx="7203600" cy="96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27"/>
          <p:cNvGrpSpPr/>
          <p:nvPr/>
        </p:nvGrpSpPr>
        <p:grpSpPr>
          <a:xfrm>
            <a:off x="5429160" y="1863720"/>
            <a:ext cx="3286080" cy="857160"/>
            <a:chOff x="5429160" y="1863720"/>
            <a:chExt cx="3286080" cy="857160"/>
          </a:xfrm>
        </p:grpSpPr>
        <p:grpSp>
          <p:nvGrpSpPr>
            <p:cNvPr id="125" name="Group 23"/>
            <p:cNvGrpSpPr/>
            <p:nvPr/>
          </p:nvGrpSpPr>
          <p:grpSpPr>
            <a:xfrm>
              <a:off x="5429160" y="1863720"/>
              <a:ext cx="3286080" cy="766440"/>
              <a:chOff x="5429160" y="1863720"/>
              <a:chExt cx="3286080" cy="766440"/>
            </a:xfrm>
          </p:grpSpPr>
          <p:grpSp>
            <p:nvGrpSpPr>
              <p:cNvPr id="126" name="Rounded Rectangle 24"/>
              <p:cNvGrpSpPr/>
              <p:nvPr/>
            </p:nvGrpSpPr>
            <p:grpSpPr>
              <a:xfrm>
                <a:off x="5429160" y="1863720"/>
                <a:ext cx="3286080" cy="766440"/>
                <a:chOff x="5429160" y="1863720"/>
                <a:chExt cx="3286080" cy="766440"/>
              </a:xfrm>
            </p:grpSpPr>
            <p:pic>
              <p:nvPicPr>
                <p:cNvPr id="127" name="Rounded Rectangle 2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429160" y="1863720"/>
                  <a:ext cx="3286080" cy="766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"/>
                <p:cNvSpPr/>
                <p:nvPr/>
              </p:nvSpPr>
              <p:spPr>
                <a:xfrm>
                  <a:off x="5553360" y="1958760"/>
                  <a:ext cx="30337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9" name="Rounded Rectangle 4"/>
              <p:cNvGrpSpPr/>
              <p:nvPr/>
            </p:nvGrpSpPr>
            <p:grpSpPr>
              <a:xfrm>
                <a:off x="5474880" y="1881000"/>
                <a:ext cx="3189240" cy="731880"/>
                <a:chOff x="5474880" y="1881000"/>
                <a:chExt cx="3189240" cy="731880"/>
              </a:xfrm>
            </p:grpSpPr>
            <p:pic>
              <p:nvPicPr>
                <p:cNvPr id="130" name="Rounded Rectangle 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474880" y="1881000"/>
                  <a:ext cx="3189240" cy="73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" name=""/>
                <p:cNvSpPr/>
                <p:nvPr/>
              </p:nvSpPr>
              <p:spPr>
                <a:xfrm>
                  <a:off x="5576760" y="1958760"/>
                  <a:ext cx="2986920" cy="57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32" name="Rectangle 26" descr=""/>
            <p:cNvPicPr/>
            <p:nvPr/>
          </p:nvPicPr>
          <p:blipFill>
            <a:blip r:embed="rId5"/>
            <a:stretch/>
          </p:blipFill>
          <p:spPr>
            <a:xfrm>
              <a:off x="5595840" y="1886760"/>
              <a:ext cx="2792160" cy="834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Group 28"/>
          <p:cNvGrpSpPr/>
          <p:nvPr/>
        </p:nvGrpSpPr>
        <p:grpSpPr>
          <a:xfrm>
            <a:off x="1000080" y="1857240"/>
            <a:ext cx="3286080" cy="1220760"/>
            <a:chOff x="1000080" y="1857240"/>
            <a:chExt cx="3286080" cy="1220760"/>
          </a:xfrm>
        </p:grpSpPr>
        <p:grpSp>
          <p:nvGrpSpPr>
            <p:cNvPr id="134" name="Group 23"/>
            <p:cNvGrpSpPr/>
            <p:nvPr/>
          </p:nvGrpSpPr>
          <p:grpSpPr>
            <a:xfrm>
              <a:off x="1095120" y="1857240"/>
              <a:ext cx="3191040" cy="857520"/>
              <a:chOff x="1095120" y="1857240"/>
              <a:chExt cx="3191040" cy="857520"/>
            </a:xfrm>
          </p:grpSpPr>
          <p:grpSp>
            <p:nvGrpSpPr>
              <p:cNvPr id="135" name="Rounded Rectangle 31"/>
              <p:cNvGrpSpPr/>
              <p:nvPr/>
            </p:nvGrpSpPr>
            <p:grpSpPr>
              <a:xfrm>
                <a:off x="1095120" y="1857240"/>
                <a:ext cx="3191040" cy="857520"/>
                <a:chOff x="1095120" y="1857240"/>
                <a:chExt cx="3191040" cy="857520"/>
              </a:xfrm>
            </p:grpSpPr>
            <p:pic>
              <p:nvPicPr>
                <p:cNvPr id="136" name="Rounded Rectangle 3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95120" y="1857240"/>
                  <a:ext cx="3191040" cy="85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" name=""/>
                <p:cNvSpPr/>
                <p:nvPr/>
              </p:nvSpPr>
              <p:spPr>
                <a:xfrm>
                  <a:off x="1218240" y="1963440"/>
                  <a:ext cx="294588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8" name="Rounded Rectangle 4"/>
              <p:cNvGrpSpPr/>
              <p:nvPr/>
            </p:nvGrpSpPr>
            <p:grpSpPr>
              <a:xfrm>
                <a:off x="1139400" y="1876680"/>
                <a:ext cx="3102480" cy="818640"/>
                <a:chOff x="1139400" y="1876680"/>
                <a:chExt cx="3102480" cy="818640"/>
              </a:xfrm>
            </p:grpSpPr>
            <p:pic>
              <p:nvPicPr>
                <p:cNvPr id="139" name="Rounded Rectangle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39400" y="1876680"/>
                  <a:ext cx="310248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1240920" y="1963440"/>
                  <a:ext cx="2900520" cy="64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9920" rIns="79920" tIns="79920" bIns="79920" anchor="ctr">
                  <a:noAutofit/>
                </a:bodyPr>
                <a:p>
                  <a:pPr algn="ctr" rtl="1">
                    <a:lnSpc>
                      <a:spcPct val="90000"/>
                    </a:lnSpc>
                    <a:spcAft>
                      <a:spcPts val="1400"/>
                    </a:spcAft>
                    <a:tabLst>
                      <a:tab algn="l" pos="0"/>
                      <a:tab algn="l" pos="933480"/>
                      <a:tab algn="l" pos="1866960"/>
                      <a:tab algn="l" pos="2800440"/>
                      <a:tab algn="l" pos="3733920"/>
                      <a:tab algn="l" pos="4667400"/>
                      <a:tab algn="l" pos="5600880"/>
                      <a:tab algn="l" pos="6534000"/>
                      <a:tab algn="l" pos="7467480"/>
                      <a:tab algn="l" pos="8400960"/>
                      <a:tab algn="l" pos="9334440"/>
                      <a:tab algn="l" pos="1026792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141" name="Rectangle 30" descr=""/>
            <p:cNvPicPr/>
            <p:nvPr/>
          </p:nvPicPr>
          <p:blipFill>
            <a:blip r:embed="rId8"/>
            <a:stretch/>
          </p:blipFill>
          <p:spPr>
            <a:xfrm>
              <a:off x="1000080" y="1883520"/>
              <a:ext cx="3131640" cy="119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33"/>
          <p:cNvSpPr/>
          <p:nvPr/>
        </p:nvSpPr>
        <p:spPr>
          <a:xfrm>
            <a:off x="6446160" y="3143160"/>
            <a:ext cx="1930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ق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4"/>
          <p:cNvSpPr/>
          <p:nvPr/>
        </p:nvSpPr>
        <p:spPr>
          <a:xfrm>
            <a:off x="6245280" y="3714840"/>
            <a:ext cx="237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ميزان المدفو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5"/>
          <p:cNvSpPr/>
          <p:nvPr/>
        </p:nvSpPr>
        <p:spPr>
          <a:xfrm>
            <a:off x="6275880" y="4286160"/>
            <a:ext cx="23950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خلق فرص العم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6"/>
          <p:cNvSpPr/>
          <p:nvPr/>
        </p:nvSpPr>
        <p:spPr>
          <a:xfrm>
            <a:off x="6500880" y="4929120"/>
            <a:ext cx="19288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وزيع الدخل والتنمية بين الأقالي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8"/>
          <p:cNvSpPr/>
          <p:nvPr/>
        </p:nvSpPr>
        <p:spPr>
          <a:xfrm>
            <a:off x="2814120" y="3000240"/>
            <a:ext cx="25520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ضاعف السياح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9"/>
          <p:cNvSpPr/>
          <p:nvPr/>
        </p:nvSpPr>
        <p:spPr>
          <a:xfrm>
            <a:off x="3737160" y="5429160"/>
            <a:ext cx="18936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طبي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0"/>
          <p:cNvSpPr/>
          <p:nvPr/>
        </p:nvSpPr>
        <p:spPr>
          <a:xfrm>
            <a:off x="714240" y="4286160"/>
            <a:ext cx="40863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مية مشاريع البنى التحتية والبنى الفوق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2754360" y="3571920"/>
            <a:ext cx="298944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مستوى العام للأسعا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42"/>
          <p:cNvSpPr/>
          <p:nvPr/>
        </p:nvSpPr>
        <p:spPr>
          <a:xfrm>
            <a:off x="214200" y="3000240"/>
            <a:ext cx="27147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نشيط حركة الانتاج والاستثمار في القطاعات الاخر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586800" y="4857840"/>
            <a:ext cx="43959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تطوير الأماكن التاريخية والحضار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3"/>
          <p:cNvSpPr/>
          <p:nvPr/>
        </p:nvSpPr>
        <p:spPr>
          <a:xfrm>
            <a:off x="1885320" y="5429160"/>
            <a:ext cx="2126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جتماع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4"/>
          <p:cNvSpPr/>
          <p:nvPr/>
        </p:nvSpPr>
        <p:spPr>
          <a:xfrm>
            <a:off x="30960" y="5429160"/>
            <a:ext cx="21193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بيئة الاقتصاد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45"/>
          <p:cNvSpPr/>
          <p:nvPr/>
        </p:nvSpPr>
        <p:spPr>
          <a:xfrm>
            <a:off x="-50400" y="6000840"/>
            <a:ext cx="39967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إعلام وتوطيد العلاقات الدول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6"/>
          <p:cNvSpPr/>
          <p:nvPr/>
        </p:nvSpPr>
        <p:spPr>
          <a:xfrm>
            <a:off x="3408120" y="6000840"/>
            <a:ext cx="21405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الدخل الحكوم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24Z</dcterms:modified>
  <cp:revision>29</cp:revision>
  <dc:subject/>
  <dc:title>Slide 1</dc:title>
</cp:coreProperties>
</file>