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B482-6588-4500-B96E-55FBEE0171D8}" type="slidenum">
              <a:rPr b="0" lang="ar-IQ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3A41-B644-4A6C-B8F5-93AF26673921}" type="slidenum">
              <a:rPr b="0" lang="ar-IQ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767C-1521-4258-A614-BF0C8101A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1C46-0418-467A-9B56-CCC3D0FF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2CB5-3CE2-4A2B-87D6-23433CF46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DD51-1EB6-4C5E-8507-D5B7E4EB2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CED0-21E7-4CB3-BDD1-A912B398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3401-FF1B-472B-9F68-54553FBC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78C5-7F51-44A6-868F-3E108757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BBF0-4824-4407-9EB8-072146DC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169A-D8E0-4271-881D-B8A232CC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AD3D-8BFE-40C0-ADDB-23B9E01A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B316-FA57-4329-BCF9-46B47F21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5872-5EFB-436B-A25B-350B9FEE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7C1A-2146-42CD-8238-B0D1E5AFE119}" type="slidenum">
              <a:rPr b="0" lang="ar-IQ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ubtitle 2" descr=""/>
          <p:cNvPicPr/>
          <p:nvPr/>
        </p:nvPicPr>
        <p:blipFill>
          <a:blip r:embed="rId1"/>
          <a:stretch/>
        </p:blipFill>
        <p:spPr>
          <a:xfrm>
            <a:off x="158760" y="1889280"/>
            <a:ext cx="2309760" cy="415116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1" descr=""/>
          <p:cNvPicPr/>
          <p:nvPr/>
        </p:nvPicPr>
        <p:blipFill>
          <a:blip r:embed="rId2"/>
          <a:stretch/>
        </p:blipFill>
        <p:spPr>
          <a:xfrm>
            <a:off x="182520" y="36360"/>
            <a:ext cx="2152800" cy="2567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alhourriah.org/user_files/news/photo/european-imperialism.jpg"/>
          <p:cNvPicPr/>
          <p:nvPr/>
        </p:nvPicPr>
        <p:blipFill>
          <a:blip r:embed="rId3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11" descr=""/>
          <p:cNvPicPr/>
          <p:nvPr/>
        </p:nvPicPr>
        <p:blipFill>
          <a:blip r:embed="rId4"/>
          <a:stretch/>
        </p:blipFill>
        <p:spPr>
          <a:xfrm>
            <a:off x="2895480" y="5340240"/>
            <a:ext cx="571212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50"/>
          <p:cNvGrpSpPr/>
          <p:nvPr/>
        </p:nvGrpSpPr>
        <p:grpSpPr>
          <a:xfrm>
            <a:off x="1928880" y="428760"/>
            <a:ext cx="5273640" cy="963360"/>
            <a:chOff x="1928880" y="428760"/>
            <a:chExt cx="5273640" cy="963360"/>
          </a:xfrm>
        </p:grpSpPr>
        <p:grpSp>
          <p:nvGrpSpPr>
            <p:cNvPr id="53" name="Rounded Rectangle 51"/>
            <p:cNvGrpSpPr/>
            <p:nvPr/>
          </p:nvGrpSpPr>
          <p:grpSpPr>
            <a:xfrm>
              <a:off x="1928880" y="484920"/>
              <a:ext cx="5273640" cy="781920"/>
              <a:chOff x="1928880" y="484920"/>
              <a:chExt cx="5273640" cy="781920"/>
            </a:xfrm>
          </p:grpSpPr>
          <p:pic>
            <p:nvPicPr>
              <p:cNvPr id="54" name="Rounded Rectangle 51" descr=""/>
              <p:cNvPicPr/>
              <p:nvPr/>
            </p:nvPicPr>
            <p:blipFill>
              <a:blip r:embed="rId1"/>
              <a:stretch/>
            </p:blipFill>
            <p:spPr>
              <a:xfrm>
                <a:off x="1928880" y="484920"/>
                <a:ext cx="5273640" cy="78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2063520" y="577080"/>
                <a:ext cx="5004000" cy="59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6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1958040" y="428760"/>
              <a:ext cx="5215320" cy="96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Group 53"/>
          <p:cNvGrpSpPr/>
          <p:nvPr/>
        </p:nvGrpSpPr>
        <p:grpSpPr>
          <a:xfrm>
            <a:off x="857160" y="2071800"/>
            <a:ext cx="2143080" cy="1500120"/>
            <a:chOff x="857160" y="2071800"/>
            <a:chExt cx="2143080" cy="1500120"/>
          </a:xfrm>
        </p:grpSpPr>
        <p:grpSp>
          <p:nvGrpSpPr>
            <p:cNvPr id="58" name="Rounded Rectangle 54"/>
            <p:cNvGrpSpPr/>
            <p:nvPr/>
          </p:nvGrpSpPr>
          <p:grpSpPr>
            <a:xfrm>
              <a:off x="857160" y="2071800"/>
              <a:ext cx="2143080" cy="1449000"/>
              <a:chOff x="857160" y="2071800"/>
              <a:chExt cx="2143080" cy="1449000"/>
            </a:xfrm>
          </p:grpSpPr>
          <p:pic>
            <p:nvPicPr>
              <p:cNvPr id="59" name="Rounded Rectangle 54" descr=""/>
              <p:cNvPicPr/>
              <p:nvPr/>
            </p:nvPicPr>
            <p:blipFill>
              <a:blip r:embed="rId3"/>
              <a:stretch/>
            </p:blipFill>
            <p:spPr>
              <a:xfrm>
                <a:off x="857160" y="2071800"/>
                <a:ext cx="2143080" cy="144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>
                <a:off x="994680" y="2200320"/>
                <a:ext cx="1867320" cy="11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61" name="Rounded Rectangle 4" descr=""/>
            <p:cNvPicPr/>
            <p:nvPr/>
          </p:nvPicPr>
          <p:blipFill>
            <a:blip r:embed="rId4"/>
            <a:stretch/>
          </p:blipFill>
          <p:spPr>
            <a:xfrm>
              <a:off x="884520" y="2086920"/>
              <a:ext cx="2088000" cy="148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Group 56"/>
          <p:cNvGrpSpPr/>
          <p:nvPr/>
        </p:nvGrpSpPr>
        <p:grpSpPr>
          <a:xfrm>
            <a:off x="6072120" y="1928880"/>
            <a:ext cx="2143080" cy="1571400"/>
            <a:chOff x="6072120" y="1928880"/>
            <a:chExt cx="2143080" cy="1571400"/>
          </a:xfrm>
        </p:grpSpPr>
        <p:grpSp>
          <p:nvGrpSpPr>
            <p:cNvPr id="63" name="Rounded Rectangle 57"/>
            <p:cNvGrpSpPr/>
            <p:nvPr/>
          </p:nvGrpSpPr>
          <p:grpSpPr>
            <a:xfrm>
              <a:off x="6072120" y="1928880"/>
              <a:ext cx="2143080" cy="1550520"/>
              <a:chOff x="6072120" y="1928880"/>
              <a:chExt cx="2143080" cy="1550520"/>
            </a:xfrm>
          </p:grpSpPr>
          <p:pic>
            <p:nvPicPr>
              <p:cNvPr id="64" name="Rounded Rectangle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6072120" y="1928880"/>
                <a:ext cx="2143080" cy="155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"/>
              <p:cNvSpPr/>
              <p:nvPr/>
            </p:nvSpPr>
            <p:spPr>
              <a:xfrm>
                <a:off x="6213600" y="2065680"/>
                <a:ext cx="1858680" cy="128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66" name="Rounded Rectangle 4" descr=""/>
            <p:cNvPicPr/>
            <p:nvPr/>
          </p:nvPicPr>
          <p:blipFill>
            <a:blip r:embed="rId6"/>
            <a:stretch/>
          </p:blipFill>
          <p:spPr>
            <a:xfrm>
              <a:off x="6099480" y="1971000"/>
              <a:ext cx="2082600" cy="152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Group 20"/>
          <p:cNvGrpSpPr/>
          <p:nvPr/>
        </p:nvGrpSpPr>
        <p:grpSpPr>
          <a:xfrm>
            <a:off x="3214800" y="2000160"/>
            <a:ext cx="2714400" cy="1643040"/>
            <a:chOff x="3214800" y="2000160"/>
            <a:chExt cx="2714400" cy="1643040"/>
          </a:xfrm>
        </p:grpSpPr>
        <p:sp>
          <p:nvSpPr>
            <p:cNvPr id="68" name="Right Arrow 71"/>
            <p:cNvSpPr/>
            <p:nvPr/>
          </p:nvSpPr>
          <p:spPr>
            <a:xfrm>
              <a:off x="3214800" y="2000160"/>
              <a:ext cx="2714400" cy="1643040"/>
            </a:xfrm>
            <a:prstGeom prst="rightArrow">
              <a:avLst>
                <a:gd name="adj1" fmla="val 50000"/>
                <a:gd name="adj2" fmla="val 49997"/>
              </a:avLst>
            </a:prstGeom>
            <a:solidFill>
              <a:srgbClr val="4f81bd"/>
            </a:solidFill>
            <a:ln w="381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9" name="Rectangle 72" descr=""/>
            <p:cNvPicPr/>
            <p:nvPr/>
          </p:nvPicPr>
          <p:blipFill>
            <a:blip r:embed="rId7"/>
            <a:stretch/>
          </p:blipFill>
          <p:spPr>
            <a:xfrm>
              <a:off x="3371040" y="2456640"/>
              <a:ext cx="1645920" cy="93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Group 21"/>
          <p:cNvGrpSpPr/>
          <p:nvPr/>
        </p:nvGrpSpPr>
        <p:grpSpPr>
          <a:xfrm>
            <a:off x="341280" y="3714840"/>
            <a:ext cx="3016800" cy="2620080"/>
            <a:chOff x="341280" y="3714840"/>
            <a:chExt cx="3016800" cy="2620080"/>
          </a:xfrm>
        </p:grpSpPr>
        <p:grpSp>
          <p:nvGrpSpPr>
            <p:cNvPr id="71" name="Group 68"/>
            <p:cNvGrpSpPr/>
            <p:nvPr/>
          </p:nvGrpSpPr>
          <p:grpSpPr>
            <a:xfrm>
              <a:off x="928800" y="3714840"/>
              <a:ext cx="1857240" cy="1195560"/>
              <a:chOff x="928800" y="3714840"/>
              <a:chExt cx="1857240" cy="1195560"/>
            </a:xfrm>
          </p:grpSpPr>
          <p:sp>
            <p:nvSpPr>
              <p:cNvPr id="72" name="Rounded Rectangle 69"/>
              <p:cNvSpPr/>
              <p:nvPr/>
            </p:nvSpPr>
            <p:spPr>
              <a:xfrm>
                <a:off x="966600" y="3714840"/>
                <a:ext cx="1819440" cy="1195560"/>
              </a:xfrm>
              <a:prstGeom prst="roundRect">
                <a:avLst>
                  <a:gd name="adj" fmla="val 10000"/>
                </a:avLst>
              </a:prstGeom>
              <a:solidFill>
                <a:srgbClr val="ffffff"/>
              </a:solidFill>
              <a:ln w="381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73" name="Rounded Rectangle 4" descr=""/>
              <p:cNvPicPr/>
              <p:nvPr/>
            </p:nvPicPr>
            <p:blipFill>
              <a:blip r:embed="rId8"/>
              <a:stretch/>
            </p:blipFill>
            <p:spPr>
              <a:xfrm>
                <a:off x="928800" y="3730680"/>
                <a:ext cx="1845360" cy="1164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4" name="Rectangle 76"/>
            <p:cNvSpPr/>
            <p:nvPr/>
          </p:nvSpPr>
          <p:spPr>
            <a:xfrm>
              <a:off x="341280" y="5143680"/>
              <a:ext cx="3016800" cy="1191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2060"/>
                  </a:solidFill>
                  <a:latin typeface="Calibri"/>
                </a:rPr>
                <a:t>الثرو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IQ" sz="2400" spc="-1" strike="noStrike">
                  <a:solidFill>
                    <a:srgbClr val="000000"/>
                  </a:solidFill>
                  <a:latin typeface="Calibri"/>
                </a:rPr>
                <a:t>آثار / تراث / حضار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IQ" sz="2400" spc="-1" strike="noStrike">
                  <a:solidFill>
                    <a:srgbClr val="000000"/>
                  </a:solidFill>
                  <a:latin typeface="Calibri"/>
                </a:rPr>
                <a:t>مقومات طبيعية / دينية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22"/>
          <p:cNvGrpSpPr/>
          <p:nvPr/>
        </p:nvGrpSpPr>
        <p:grpSpPr>
          <a:xfrm>
            <a:off x="5318640" y="3714840"/>
            <a:ext cx="3555000" cy="2254320"/>
            <a:chOff x="5318640" y="3714840"/>
            <a:chExt cx="3555000" cy="2254320"/>
          </a:xfrm>
        </p:grpSpPr>
        <p:grpSp>
          <p:nvGrpSpPr>
            <p:cNvPr id="76" name="Group 73"/>
            <p:cNvGrpSpPr/>
            <p:nvPr/>
          </p:nvGrpSpPr>
          <p:grpSpPr>
            <a:xfrm>
              <a:off x="6143400" y="3714840"/>
              <a:ext cx="1857240" cy="1195560"/>
              <a:chOff x="6143400" y="3714840"/>
              <a:chExt cx="1857240" cy="1195560"/>
            </a:xfrm>
          </p:grpSpPr>
          <p:sp>
            <p:nvSpPr>
              <p:cNvPr id="77" name="Rounded Rectangle 74"/>
              <p:cNvSpPr/>
              <p:nvPr/>
            </p:nvSpPr>
            <p:spPr>
              <a:xfrm>
                <a:off x="6259320" y="3714840"/>
                <a:ext cx="1699560" cy="1195560"/>
              </a:xfrm>
              <a:prstGeom prst="roundRect">
                <a:avLst>
                  <a:gd name="adj" fmla="val 10000"/>
                </a:avLst>
              </a:prstGeom>
              <a:solidFill>
                <a:srgbClr val="ffffff"/>
              </a:solidFill>
              <a:ln w="381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78" name="Rounded Rectangle 4" descr=""/>
              <p:cNvPicPr/>
              <p:nvPr/>
            </p:nvPicPr>
            <p:blipFill>
              <a:blip r:embed="rId9"/>
              <a:stretch/>
            </p:blipFill>
            <p:spPr>
              <a:xfrm>
                <a:off x="6143400" y="3730680"/>
                <a:ext cx="1857240" cy="1164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9" name="Rectangle 77"/>
            <p:cNvSpPr/>
            <p:nvPr/>
          </p:nvSpPr>
          <p:spPr>
            <a:xfrm>
              <a:off x="5318640" y="5143680"/>
              <a:ext cx="3555000" cy="825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2060"/>
                  </a:solidFill>
                  <a:latin typeface="Calibri"/>
                </a:rPr>
                <a:t>أنماط سياحية وخدمات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2060"/>
                  </a:solidFill>
                  <a:latin typeface="Calibri"/>
                </a:rPr>
                <a:t>متعددة ومتنوعة</a:t>
              </a:r>
              <a:r>
                <a:rPr b="0" lang="ar-IQ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ight Arrow 88"/>
          <p:cNvSpPr/>
          <p:nvPr/>
        </p:nvSpPr>
        <p:spPr>
          <a:xfrm>
            <a:off x="1714680" y="857160"/>
            <a:ext cx="3143160" cy="5143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Group 19"/>
          <p:cNvGrpSpPr/>
          <p:nvPr/>
        </p:nvGrpSpPr>
        <p:grpSpPr>
          <a:xfrm>
            <a:off x="214200" y="1214280"/>
            <a:ext cx="2619360" cy="3527640"/>
            <a:chOff x="214200" y="1214280"/>
            <a:chExt cx="2619360" cy="3527640"/>
          </a:xfrm>
        </p:grpSpPr>
        <p:sp>
          <p:nvSpPr>
            <p:cNvPr id="82" name="Rectangle 86"/>
            <p:cNvSpPr/>
            <p:nvPr/>
          </p:nvSpPr>
          <p:spPr>
            <a:xfrm>
              <a:off x="790200" y="1214280"/>
              <a:ext cx="1468080" cy="1068840"/>
            </a:xfrm>
            <a:prstGeom prst="rect">
              <a:avLst/>
            </a:prstGeom>
            <a:solidFill>
              <a:srgbClr val="9bbb59"/>
            </a:solidFill>
            <a:ln w="7632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c00000"/>
                  </a:solidFill>
                  <a:latin typeface="Calibri"/>
                </a:rPr>
                <a:t>السياحة</a:t>
              </a:r>
              <a:r>
                <a:rPr b="1" lang="ar-SA" sz="32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3" name="Picture 4" descr="F:\محاضرات 30 إسبوع اقتصاديات السياحة\صور درس الاقتصاد السياحي\16.jpg"/>
            <p:cNvPicPr/>
            <p:nvPr/>
          </p:nvPicPr>
          <p:blipFill>
            <a:blip r:embed="rId1"/>
            <a:stretch/>
          </p:blipFill>
          <p:spPr>
            <a:xfrm>
              <a:off x="214200" y="1914120"/>
              <a:ext cx="2619360" cy="282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" name="Group 101"/>
          <p:cNvGrpSpPr/>
          <p:nvPr/>
        </p:nvGrpSpPr>
        <p:grpSpPr>
          <a:xfrm>
            <a:off x="3500280" y="1357200"/>
            <a:ext cx="1785960" cy="4143600"/>
            <a:chOff x="3500280" y="1357200"/>
            <a:chExt cx="1785960" cy="4143600"/>
          </a:xfrm>
        </p:grpSpPr>
        <p:grpSp>
          <p:nvGrpSpPr>
            <p:cNvPr id="85" name="Right Arrow 91"/>
            <p:cNvGrpSpPr/>
            <p:nvPr/>
          </p:nvGrpSpPr>
          <p:grpSpPr>
            <a:xfrm>
              <a:off x="3500280" y="1357200"/>
              <a:ext cx="1785960" cy="544680"/>
              <a:chOff x="3500280" y="1357200"/>
              <a:chExt cx="1785960" cy="544680"/>
            </a:xfrm>
          </p:grpSpPr>
          <p:pic>
            <p:nvPicPr>
              <p:cNvPr id="86" name="Right Arrow 91" descr=""/>
              <p:cNvPicPr/>
              <p:nvPr/>
            </p:nvPicPr>
            <p:blipFill>
              <a:blip r:embed="rId2"/>
              <a:stretch/>
            </p:blipFill>
            <p:spPr>
              <a:xfrm>
                <a:off x="3500280" y="1357200"/>
                <a:ext cx="1785960" cy="54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>
                <a:off x="3598920" y="1544400"/>
                <a:ext cx="1510920" cy="1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8" name="Right Arrow 92"/>
            <p:cNvGrpSpPr/>
            <p:nvPr/>
          </p:nvGrpSpPr>
          <p:grpSpPr>
            <a:xfrm>
              <a:off x="3500280" y="1832400"/>
              <a:ext cx="1785960" cy="544680"/>
              <a:chOff x="3500280" y="1832400"/>
              <a:chExt cx="1785960" cy="544680"/>
            </a:xfrm>
          </p:grpSpPr>
          <p:pic>
            <p:nvPicPr>
              <p:cNvPr id="89" name="Right Arrow 92" descr=""/>
              <p:cNvPicPr/>
              <p:nvPr/>
            </p:nvPicPr>
            <p:blipFill>
              <a:blip r:embed="rId3"/>
              <a:stretch/>
            </p:blipFill>
            <p:spPr>
              <a:xfrm>
                <a:off x="3500280" y="1832400"/>
                <a:ext cx="1785960" cy="54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>
                <a:off x="3598920" y="2019600"/>
                <a:ext cx="1510920" cy="1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1" name="Right Arrow 93"/>
            <p:cNvGrpSpPr/>
            <p:nvPr/>
          </p:nvGrpSpPr>
          <p:grpSpPr>
            <a:xfrm>
              <a:off x="3500280" y="2238120"/>
              <a:ext cx="1785960" cy="550440"/>
              <a:chOff x="3500280" y="2238120"/>
              <a:chExt cx="1785960" cy="550440"/>
            </a:xfrm>
          </p:grpSpPr>
          <p:pic>
            <p:nvPicPr>
              <p:cNvPr id="92" name="Right Arrow 93" descr=""/>
              <p:cNvPicPr/>
              <p:nvPr/>
            </p:nvPicPr>
            <p:blipFill>
              <a:blip r:embed="rId4"/>
              <a:stretch/>
            </p:blipFill>
            <p:spPr>
              <a:xfrm>
                <a:off x="3500280" y="2238120"/>
                <a:ext cx="1785960" cy="55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"/>
              <p:cNvSpPr/>
              <p:nvPr/>
            </p:nvSpPr>
            <p:spPr>
              <a:xfrm>
                <a:off x="3598920" y="2427120"/>
                <a:ext cx="1510920" cy="1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4" name="Right Arrow 94"/>
            <p:cNvGrpSpPr/>
            <p:nvPr/>
          </p:nvGrpSpPr>
          <p:grpSpPr>
            <a:xfrm>
              <a:off x="3500280" y="2713320"/>
              <a:ext cx="1785960" cy="550440"/>
              <a:chOff x="3500280" y="2713320"/>
              <a:chExt cx="1785960" cy="550440"/>
            </a:xfrm>
          </p:grpSpPr>
          <p:pic>
            <p:nvPicPr>
              <p:cNvPr id="95" name="Right Arrow 94" descr=""/>
              <p:cNvPicPr/>
              <p:nvPr/>
            </p:nvPicPr>
            <p:blipFill>
              <a:blip r:embed="rId5"/>
              <a:stretch/>
            </p:blipFill>
            <p:spPr>
              <a:xfrm>
                <a:off x="3500280" y="2713320"/>
                <a:ext cx="1785960" cy="55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3598920" y="2902680"/>
                <a:ext cx="1510920" cy="1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7" name="Right Arrow 95"/>
            <p:cNvGrpSpPr/>
            <p:nvPr/>
          </p:nvGrpSpPr>
          <p:grpSpPr>
            <a:xfrm>
              <a:off x="3500280" y="3188520"/>
              <a:ext cx="1785960" cy="550440"/>
              <a:chOff x="3500280" y="3188520"/>
              <a:chExt cx="1785960" cy="550440"/>
            </a:xfrm>
          </p:grpSpPr>
          <p:pic>
            <p:nvPicPr>
              <p:cNvPr id="98" name="Right Arrow 95" descr=""/>
              <p:cNvPicPr/>
              <p:nvPr/>
            </p:nvPicPr>
            <p:blipFill>
              <a:blip r:embed="rId6"/>
              <a:stretch/>
            </p:blipFill>
            <p:spPr>
              <a:xfrm>
                <a:off x="3500280" y="3188520"/>
                <a:ext cx="1785960" cy="55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>
                <a:off x="3598920" y="3377880"/>
                <a:ext cx="1510920" cy="1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0" name="Right Arrow 96"/>
            <p:cNvGrpSpPr/>
            <p:nvPr/>
          </p:nvGrpSpPr>
          <p:grpSpPr>
            <a:xfrm>
              <a:off x="3500280" y="3663720"/>
              <a:ext cx="1785960" cy="550440"/>
              <a:chOff x="3500280" y="3663720"/>
              <a:chExt cx="1785960" cy="550440"/>
            </a:xfrm>
          </p:grpSpPr>
          <p:pic>
            <p:nvPicPr>
              <p:cNvPr id="101" name="Right Arrow 96" descr=""/>
              <p:cNvPicPr/>
              <p:nvPr/>
            </p:nvPicPr>
            <p:blipFill>
              <a:blip r:embed="rId7"/>
              <a:stretch/>
            </p:blipFill>
            <p:spPr>
              <a:xfrm>
                <a:off x="3500280" y="3663720"/>
                <a:ext cx="1785960" cy="55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>
                <a:off x="3598920" y="3853440"/>
                <a:ext cx="1510920" cy="1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3" name="Right Arrow 97"/>
            <p:cNvGrpSpPr/>
            <p:nvPr/>
          </p:nvGrpSpPr>
          <p:grpSpPr>
            <a:xfrm>
              <a:off x="3500280" y="4069440"/>
              <a:ext cx="1785960" cy="550440"/>
              <a:chOff x="3500280" y="4069440"/>
              <a:chExt cx="1785960" cy="550440"/>
            </a:xfrm>
          </p:grpSpPr>
          <p:pic>
            <p:nvPicPr>
              <p:cNvPr id="104" name="Right Arrow 97" descr=""/>
              <p:cNvPicPr/>
              <p:nvPr/>
            </p:nvPicPr>
            <p:blipFill>
              <a:blip r:embed="rId8"/>
              <a:stretch/>
            </p:blipFill>
            <p:spPr>
              <a:xfrm>
                <a:off x="3500280" y="4069440"/>
                <a:ext cx="1785960" cy="55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>
                <a:off x="3598920" y="4260960"/>
                <a:ext cx="1510920" cy="1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Right Arrow 98"/>
            <p:cNvGrpSpPr/>
            <p:nvPr/>
          </p:nvGrpSpPr>
          <p:grpSpPr>
            <a:xfrm>
              <a:off x="3500280" y="4544640"/>
              <a:ext cx="1785960" cy="550440"/>
              <a:chOff x="3500280" y="4544640"/>
              <a:chExt cx="1785960" cy="550440"/>
            </a:xfrm>
          </p:grpSpPr>
          <p:pic>
            <p:nvPicPr>
              <p:cNvPr id="107" name="Right Arrow 98" descr=""/>
              <p:cNvPicPr/>
              <p:nvPr/>
            </p:nvPicPr>
            <p:blipFill>
              <a:blip r:embed="rId9"/>
              <a:stretch/>
            </p:blipFill>
            <p:spPr>
              <a:xfrm>
                <a:off x="3500280" y="4544640"/>
                <a:ext cx="1785960" cy="55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>
                <a:off x="3598920" y="4736160"/>
                <a:ext cx="1510920" cy="1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Right Arrow 99"/>
            <p:cNvGrpSpPr/>
            <p:nvPr/>
          </p:nvGrpSpPr>
          <p:grpSpPr>
            <a:xfrm>
              <a:off x="3500280" y="4956120"/>
              <a:ext cx="1785960" cy="544680"/>
              <a:chOff x="3500280" y="4956120"/>
              <a:chExt cx="1785960" cy="544680"/>
            </a:xfrm>
          </p:grpSpPr>
          <p:pic>
            <p:nvPicPr>
              <p:cNvPr id="110" name="Right Arrow 99" descr=""/>
              <p:cNvPicPr/>
              <p:nvPr/>
            </p:nvPicPr>
            <p:blipFill>
              <a:blip r:embed="rId10"/>
              <a:stretch/>
            </p:blipFill>
            <p:spPr>
              <a:xfrm>
                <a:off x="3500280" y="4956120"/>
                <a:ext cx="1785960" cy="54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>
                <a:off x="3598920" y="5143680"/>
                <a:ext cx="1510920" cy="1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12" name="Rectangle 102"/>
          <p:cNvGrpSpPr/>
          <p:nvPr/>
        </p:nvGrpSpPr>
        <p:grpSpPr>
          <a:xfrm>
            <a:off x="5261040" y="1182600"/>
            <a:ext cx="3670200" cy="3193200"/>
            <a:chOff x="5261040" y="1182600"/>
            <a:chExt cx="3670200" cy="3193200"/>
          </a:xfrm>
        </p:grpSpPr>
        <p:pic>
          <p:nvPicPr>
            <p:cNvPr id="113" name="Rectangle 102" descr=""/>
            <p:cNvPicPr/>
            <p:nvPr/>
          </p:nvPicPr>
          <p:blipFill>
            <a:blip r:embed="rId11"/>
            <a:stretch/>
          </p:blipFill>
          <p:spPr>
            <a:xfrm>
              <a:off x="5261040" y="1182600"/>
              <a:ext cx="3670200" cy="25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5500800" y="1357200"/>
              <a:ext cx="328608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c00000"/>
                  </a:solidFill>
                  <a:latin typeface="Calibri"/>
                </a:rPr>
                <a:t>تبعث سلسلة </a:t>
              </a:r>
              <a:r>
                <a:rPr b="1" lang="ar-SA" sz="3200" spc="-1" strike="noStrike">
                  <a:solidFill>
                    <a:srgbClr val="c00000"/>
                  </a:solidFill>
                  <a:latin typeface="Calibri"/>
                </a:rPr>
                <a:t>من النشاطات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c00000"/>
                  </a:solidFill>
                  <a:latin typeface="Calibri"/>
                </a:rPr>
                <a:t>الإنتاجية والإستثمارية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c00000"/>
                  </a:solidFill>
                  <a:latin typeface="Calibri"/>
                </a:rPr>
                <a:t>في الإقتصاد القومي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106"/>
          <p:cNvGrpSpPr/>
          <p:nvPr/>
        </p:nvGrpSpPr>
        <p:grpSpPr>
          <a:xfrm>
            <a:off x="5572080" y="3562200"/>
            <a:ext cx="3357720" cy="714600"/>
            <a:chOff x="5572080" y="3562200"/>
            <a:chExt cx="3357720" cy="714600"/>
          </a:xfrm>
        </p:grpSpPr>
        <p:sp>
          <p:nvSpPr>
            <p:cNvPr id="116" name="Down Arrow 103"/>
            <p:cNvSpPr/>
            <p:nvPr/>
          </p:nvSpPr>
          <p:spPr>
            <a:xfrm>
              <a:off x="5572080" y="3562200"/>
              <a:ext cx="3357720" cy="7146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c000"/>
            </a:solidFill>
            <a:ln w="381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ectangle 104"/>
            <p:cNvSpPr/>
            <p:nvPr/>
          </p:nvSpPr>
          <p:spPr>
            <a:xfrm>
              <a:off x="6505560" y="3571560"/>
              <a:ext cx="145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Calibri"/>
                </a:rPr>
                <a:t>بسبب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" name="Rectangle 105"/>
          <p:cNvSpPr/>
          <p:nvPr/>
        </p:nvSpPr>
        <p:spPr>
          <a:xfrm>
            <a:off x="5500800" y="4348080"/>
            <a:ext cx="3357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إمتدادات آثار الطلب السياحي المعقد</a:t>
            </a:r>
            <a:r>
              <a:rPr b="1" lang="ar-IQ" sz="2400" spc="-1" strike="noStrike">
                <a:solidFill>
                  <a:srgbClr val="000000"/>
                </a:solidFill>
                <a:latin typeface="Calibri"/>
              </a:rPr>
              <a:t>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والمركبة من العديد من السلع والخدمات الى كافة القطاعات ال</a:t>
            </a:r>
            <a:r>
              <a:rPr b="1" lang="ar-IQ" sz="2400" spc="-1" strike="noStrike">
                <a:solidFill>
                  <a:srgbClr val="000000"/>
                </a:solidFill>
                <a:latin typeface="Calibri"/>
              </a:rPr>
              <a:t>إ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قتصادية الرئيسية منها والفرعية والتي تسهم في تصنيع المنتج السياحي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19"/>
          <p:cNvGrpSpPr/>
          <p:nvPr/>
        </p:nvGrpSpPr>
        <p:grpSpPr>
          <a:xfrm>
            <a:off x="928800" y="428760"/>
            <a:ext cx="7286400" cy="963360"/>
            <a:chOff x="928800" y="428760"/>
            <a:chExt cx="7286400" cy="963360"/>
          </a:xfrm>
        </p:grpSpPr>
        <p:grpSp>
          <p:nvGrpSpPr>
            <p:cNvPr id="120" name="Rounded Rectangle 20"/>
            <p:cNvGrpSpPr/>
            <p:nvPr/>
          </p:nvGrpSpPr>
          <p:grpSpPr>
            <a:xfrm>
              <a:off x="928800" y="484920"/>
              <a:ext cx="7286400" cy="781920"/>
              <a:chOff x="928800" y="484920"/>
              <a:chExt cx="7286400" cy="781920"/>
            </a:xfrm>
          </p:grpSpPr>
          <p:pic>
            <p:nvPicPr>
              <p:cNvPr id="121" name="Rounded Rectangle 20" descr=""/>
              <p:cNvPicPr/>
              <p:nvPr/>
            </p:nvPicPr>
            <p:blipFill>
              <a:blip r:embed="rId1"/>
              <a:stretch/>
            </p:blipFill>
            <p:spPr>
              <a:xfrm>
                <a:off x="928800" y="484920"/>
                <a:ext cx="7286400" cy="78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"/>
              <p:cNvSpPr/>
              <p:nvPr/>
            </p:nvSpPr>
            <p:spPr>
              <a:xfrm>
                <a:off x="1064520" y="577080"/>
                <a:ext cx="7014960" cy="59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23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970200" y="428760"/>
              <a:ext cx="7203600" cy="96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Group 27"/>
          <p:cNvGrpSpPr/>
          <p:nvPr/>
        </p:nvGrpSpPr>
        <p:grpSpPr>
          <a:xfrm>
            <a:off x="5429160" y="1863720"/>
            <a:ext cx="3286080" cy="857160"/>
            <a:chOff x="5429160" y="1863720"/>
            <a:chExt cx="3286080" cy="857160"/>
          </a:xfrm>
        </p:grpSpPr>
        <p:grpSp>
          <p:nvGrpSpPr>
            <p:cNvPr id="125" name="Group 23"/>
            <p:cNvGrpSpPr/>
            <p:nvPr/>
          </p:nvGrpSpPr>
          <p:grpSpPr>
            <a:xfrm>
              <a:off x="5429160" y="1863720"/>
              <a:ext cx="3286080" cy="766440"/>
              <a:chOff x="5429160" y="1863720"/>
              <a:chExt cx="3286080" cy="766440"/>
            </a:xfrm>
          </p:grpSpPr>
          <p:grpSp>
            <p:nvGrpSpPr>
              <p:cNvPr id="126" name="Rounded Rectangle 24"/>
              <p:cNvGrpSpPr/>
              <p:nvPr/>
            </p:nvGrpSpPr>
            <p:grpSpPr>
              <a:xfrm>
                <a:off x="5429160" y="1863720"/>
                <a:ext cx="3286080" cy="766440"/>
                <a:chOff x="5429160" y="1863720"/>
                <a:chExt cx="3286080" cy="766440"/>
              </a:xfrm>
            </p:grpSpPr>
            <p:pic>
              <p:nvPicPr>
                <p:cNvPr id="127" name="Rounded Rectangle 2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429160" y="1863720"/>
                  <a:ext cx="3286080" cy="766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" name=""/>
                <p:cNvSpPr/>
                <p:nvPr/>
              </p:nvSpPr>
              <p:spPr>
                <a:xfrm>
                  <a:off x="5553360" y="1958760"/>
                  <a:ext cx="3033720" cy="57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9" name="Rounded Rectangle 4"/>
              <p:cNvGrpSpPr/>
              <p:nvPr/>
            </p:nvGrpSpPr>
            <p:grpSpPr>
              <a:xfrm>
                <a:off x="5474880" y="1881000"/>
                <a:ext cx="3189240" cy="731880"/>
                <a:chOff x="5474880" y="1881000"/>
                <a:chExt cx="3189240" cy="731880"/>
              </a:xfrm>
            </p:grpSpPr>
            <p:pic>
              <p:nvPicPr>
                <p:cNvPr id="130" name="Rounded Rectangle 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474880" y="1881000"/>
                  <a:ext cx="3189240" cy="73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" name=""/>
                <p:cNvSpPr/>
                <p:nvPr/>
              </p:nvSpPr>
              <p:spPr>
                <a:xfrm>
                  <a:off x="5576760" y="1958760"/>
                  <a:ext cx="2986920" cy="57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920" rIns="79920" tIns="79920" bIns="79920" anchor="ctr">
                  <a:noAutofit/>
                </a:bodyPr>
                <a:p>
                  <a:pPr algn="ctr" rtl="1">
                    <a:lnSpc>
                      <a:spcPct val="90000"/>
                    </a:lnSpc>
                    <a:spcAft>
                      <a:spcPts val="1400"/>
                    </a:spcAft>
                    <a:tabLst>
                      <a:tab algn="l" pos="0"/>
                      <a:tab algn="l" pos="933480"/>
                      <a:tab algn="l" pos="1866960"/>
                      <a:tab algn="l" pos="2800440"/>
                      <a:tab algn="l" pos="3733920"/>
                      <a:tab algn="l" pos="4667400"/>
                      <a:tab algn="l" pos="5600880"/>
                      <a:tab algn="l" pos="6534000"/>
                      <a:tab algn="l" pos="7467480"/>
                      <a:tab algn="l" pos="8400960"/>
                      <a:tab algn="l" pos="9334440"/>
                      <a:tab algn="l" pos="102679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pic>
          <p:nvPicPr>
            <p:cNvPr id="132" name="Rectangle 26" descr=""/>
            <p:cNvPicPr/>
            <p:nvPr/>
          </p:nvPicPr>
          <p:blipFill>
            <a:blip r:embed="rId5"/>
            <a:stretch/>
          </p:blipFill>
          <p:spPr>
            <a:xfrm>
              <a:off x="5595840" y="1886760"/>
              <a:ext cx="2792160" cy="834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Group 28"/>
          <p:cNvGrpSpPr/>
          <p:nvPr/>
        </p:nvGrpSpPr>
        <p:grpSpPr>
          <a:xfrm>
            <a:off x="1000080" y="1857240"/>
            <a:ext cx="3286080" cy="1220760"/>
            <a:chOff x="1000080" y="1857240"/>
            <a:chExt cx="3286080" cy="1220760"/>
          </a:xfrm>
        </p:grpSpPr>
        <p:grpSp>
          <p:nvGrpSpPr>
            <p:cNvPr id="134" name="Group 23"/>
            <p:cNvGrpSpPr/>
            <p:nvPr/>
          </p:nvGrpSpPr>
          <p:grpSpPr>
            <a:xfrm>
              <a:off x="1095120" y="1857240"/>
              <a:ext cx="3191040" cy="857520"/>
              <a:chOff x="1095120" y="1857240"/>
              <a:chExt cx="3191040" cy="857520"/>
            </a:xfrm>
          </p:grpSpPr>
          <p:grpSp>
            <p:nvGrpSpPr>
              <p:cNvPr id="135" name="Rounded Rectangle 31"/>
              <p:cNvGrpSpPr/>
              <p:nvPr/>
            </p:nvGrpSpPr>
            <p:grpSpPr>
              <a:xfrm>
                <a:off x="1095120" y="1857240"/>
                <a:ext cx="3191040" cy="857520"/>
                <a:chOff x="1095120" y="1857240"/>
                <a:chExt cx="3191040" cy="857520"/>
              </a:xfrm>
            </p:grpSpPr>
            <p:pic>
              <p:nvPicPr>
                <p:cNvPr id="136" name="Rounded Rectangle 3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95120" y="1857240"/>
                  <a:ext cx="3191040" cy="857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" name=""/>
                <p:cNvSpPr/>
                <p:nvPr/>
              </p:nvSpPr>
              <p:spPr>
                <a:xfrm>
                  <a:off x="1218240" y="1963440"/>
                  <a:ext cx="2945880" cy="64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38" name="Rounded Rectangle 4"/>
              <p:cNvGrpSpPr/>
              <p:nvPr/>
            </p:nvGrpSpPr>
            <p:grpSpPr>
              <a:xfrm>
                <a:off x="1139400" y="1876680"/>
                <a:ext cx="3102480" cy="818640"/>
                <a:chOff x="1139400" y="1876680"/>
                <a:chExt cx="3102480" cy="818640"/>
              </a:xfrm>
            </p:grpSpPr>
            <p:pic>
              <p:nvPicPr>
                <p:cNvPr id="139" name="Rounded Rectangle 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39400" y="1876680"/>
                  <a:ext cx="3102480" cy="81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" name=""/>
                <p:cNvSpPr/>
                <p:nvPr/>
              </p:nvSpPr>
              <p:spPr>
                <a:xfrm>
                  <a:off x="1240920" y="1963440"/>
                  <a:ext cx="2900520" cy="64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920" rIns="79920" tIns="79920" bIns="79920" anchor="ctr">
                  <a:noAutofit/>
                </a:bodyPr>
                <a:p>
                  <a:pPr algn="ctr" rtl="1">
                    <a:lnSpc>
                      <a:spcPct val="90000"/>
                    </a:lnSpc>
                    <a:spcAft>
                      <a:spcPts val="1400"/>
                    </a:spcAft>
                    <a:tabLst>
                      <a:tab algn="l" pos="0"/>
                      <a:tab algn="l" pos="933480"/>
                      <a:tab algn="l" pos="1866960"/>
                      <a:tab algn="l" pos="2800440"/>
                      <a:tab algn="l" pos="3733920"/>
                      <a:tab algn="l" pos="4667400"/>
                      <a:tab algn="l" pos="5600880"/>
                      <a:tab algn="l" pos="6534000"/>
                      <a:tab algn="l" pos="7467480"/>
                      <a:tab algn="l" pos="8400960"/>
                      <a:tab algn="l" pos="9334440"/>
                      <a:tab algn="l" pos="102679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pic>
          <p:nvPicPr>
            <p:cNvPr id="141" name="Rectangle 30" descr=""/>
            <p:cNvPicPr/>
            <p:nvPr/>
          </p:nvPicPr>
          <p:blipFill>
            <a:blip r:embed="rId8"/>
            <a:stretch/>
          </p:blipFill>
          <p:spPr>
            <a:xfrm>
              <a:off x="1000080" y="1883520"/>
              <a:ext cx="3131640" cy="119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Rectangle 33"/>
          <p:cNvSpPr/>
          <p:nvPr/>
        </p:nvSpPr>
        <p:spPr>
          <a:xfrm>
            <a:off x="6446160" y="3143160"/>
            <a:ext cx="1930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الدخل القوم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34"/>
          <p:cNvSpPr/>
          <p:nvPr/>
        </p:nvSpPr>
        <p:spPr>
          <a:xfrm>
            <a:off x="6245280" y="3714840"/>
            <a:ext cx="23767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ميزان المدفوع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35"/>
          <p:cNvSpPr/>
          <p:nvPr/>
        </p:nvSpPr>
        <p:spPr>
          <a:xfrm>
            <a:off x="6275880" y="4286160"/>
            <a:ext cx="23950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خلق فرص العمل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36"/>
          <p:cNvSpPr/>
          <p:nvPr/>
        </p:nvSpPr>
        <p:spPr>
          <a:xfrm>
            <a:off x="6500880" y="4929120"/>
            <a:ext cx="192888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توزيع الدخل والتنمية بين الأقالي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38"/>
          <p:cNvSpPr/>
          <p:nvPr/>
        </p:nvSpPr>
        <p:spPr>
          <a:xfrm>
            <a:off x="2814120" y="3000240"/>
            <a:ext cx="25520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المضاعف السياح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39"/>
          <p:cNvSpPr/>
          <p:nvPr/>
        </p:nvSpPr>
        <p:spPr>
          <a:xfrm>
            <a:off x="3737160" y="5429160"/>
            <a:ext cx="189360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البيئة الطبيع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40"/>
          <p:cNvSpPr/>
          <p:nvPr/>
        </p:nvSpPr>
        <p:spPr>
          <a:xfrm>
            <a:off x="714240" y="4286160"/>
            <a:ext cx="408636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تنمية مشاريع البنى التحتية والبنى الفوق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41"/>
          <p:cNvSpPr/>
          <p:nvPr/>
        </p:nvSpPr>
        <p:spPr>
          <a:xfrm>
            <a:off x="2754360" y="3571920"/>
            <a:ext cx="29894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المستوى العام للأسعا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42"/>
          <p:cNvSpPr/>
          <p:nvPr/>
        </p:nvSpPr>
        <p:spPr>
          <a:xfrm>
            <a:off x="214200" y="3000240"/>
            <a:ext cx="271476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تنشيط حركة الانتاج والاستثمار في القطاعات الاخر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37"/>
          <p:cNvSpPr/>
          <p:nvPr/>
        </p:nvSpPr>
        <p:spPr>
          <a:xfrm>
            <a:off x="586800" y="4857840"/>
            <a:ext cx="43959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تطوير الأماكن التاريخية والحضار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43"/>
          <p:cNvSpPr/>
          <p:nvPr/>
        </p:nvSpPr>
        <p:spPr>
          <a:xfrm>
            <a:off x="1885320" y="5429160"/>
            <a:ext cx="21268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البيئة الاجتماع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44"/>
          <p:cNvSpPr/>
          <p:nvPr/>
        </p:nvSpPr>
        <p:spPr>
          <a:xfrm>
            <a:off x="30960" y="5429160"/>
            <a:ext cx="2119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البيئة الاقتصاد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45"/>
          <p:cNvSpPr/>
          <p:nvPr/>
        </p:nvSpPr>
        <p:spPr>
          <a:xfrm>
            <a:off x="-50400" y="6000840"/>
            <a:ext cx="39967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الإعلام وتوطيد العلاقات الدول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46"/>
          <p:cNvSpPr/>
          <p:nvPr/>
        </p:nvSpPr>
        <p:spPr>
          <a:xfrm>
            <a:off x="3408120" y="6000840"/>
            <a:ext cx="21405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الدخل الحكوم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0:38:37Z</dcterms:created>
  <dc:creator>Lenovo</dc:creator>
  <dc:description/>
  <dc:language>en-US</dc:language>
  <cp:lastModifiedBy>مرتضى الكربلائي</cp:lastModifiedBy>
  <dcterms:modified xsi:type="dcterms:W3CDTF">2015-06-09T21:56:24Z</dcterms:modified>
  <cp:revision>29</cp:revision>
  <dc:subject/>
  <dc:title>Slide 1</dc:title>
</cp:coreProperties>
</file>