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BA5-4C23-4F6D-B066-4660151D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70D-5C1B-404B-8BBA-39DB5954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DDF-C7ED-4DE6-A263-7F35346E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741-4BE6-4431-B0AA-00453236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343-264C-4F9A-9B3E-F6368F1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E9D-37B6-467E-BEDF-DFA8BB54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395-26D4-43C7-8D78-A4F0A69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E8C-44CB-4827-BFD9-9AB0CF67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3EC-BC17-464D-9F80-E27B193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3C0-E5EE-4129-89CA-D559F8B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5E6-D04C-451D-B100-B6CA3503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7D30-8CA8-4435-8472-47A5A9C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BB4B-BC69-4CDF-9244-6F0DE6D18608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46520" y="5194440"/>
            <a:ext cx="571788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قتصاديات السياحة في العا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6426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إحدى الركائز الإستراتيجية للتنمية الاقتصاد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صناعة عالمية تتنافس الدول في مجال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اتها.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دفعهم الى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أن 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تخذ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جراءات عديدة لتأمين تنافس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قطاعاتهم السياحية في المرحلة المقبل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لى الرغم من التقلبات السائدة في الاقتصاد العالمي والأحداث التي تزعزع الاستقرار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لأزمات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المالية الاقتصادية العالمية، أظهرت السياحة مرونة إيجابية في مواجهة التغيرات الاقتصادية والاجتماعية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تبر الخبراء أن السياحة يمكن أن تكون عاملاًً رئيسياً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خراج العالم من حالة الركود الاقتصادي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4200" y="285480"/>
            <a:ext cx="585792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ffffff"/>
                </a:solidFill>
                <a:latin typeface="Calibri"/>
              </a:rPr>
              <a:t>السياحة تخرج </a:t>
            </a:r>
            <a:r>
              <a:rPr b="1" lang="ar-SA" sz="3000" spc="-1" strike="noStrike">
                <a:solidFill>
                  <a:srgbClr val="ffffff"/>
                </a:solidFill>
                <a:latin typeface="Calibri"/>
              </a:rPr>
              <a:t>العالم من حالة الركود الاقتصا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6320" y="274680"/>
            <a:ext cx="240012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2060"/>
                </a:solidFill>
                <a:latin typeface="Calibri"/>
                <a:cs typeface="Arial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14200" y="164304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ظمة السياحة العالمي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توقع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ل عدد السياح في العالم إلى ما يقرب 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ليار بحلول 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14200" y="257184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ص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إتخذ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جراء عبر ادخال صناعة السياحة في خطة تحفيز الاقتصاد لمواجهة الأزمة ، حيث ضخّت الحكومة الصينية مئات المليارات من الدولارات في هذه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4200" y="357192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تايلان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أعلنت ع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لف تذكرة طيران مجانية لزيارتها وكوريا الجنوبية أعلنت عن رحلات مجانية للأجانب المقي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14200" y="450072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الولايات المتحد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يجاد شرائح جديدة من السياح وعلى سبيل المثال التركيز على السياح ذوي الدخل المتوسط بعد تراجع اعداد السياح الذين يصنفون في خانة الاغني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14200" y="542916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دبي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: نفذ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ملة اعلانية وترويجية ضخمة تبدأ مع مهرجان السياحة والتسوق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وتخفيضات تصل الى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06Z</dcterms:modified>
  <cp:revision>32</cp:revision>
  <dc:subject/>
  <dc:title>Slide 1</dc:title>
</cp:coreProperties>
</file>