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6D4-C871-4C7C-A802-4D18CAE8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29D-A1E3-47C6-AC96-6AA22EA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9F4-91E7-497A-B3E1-4177F0A9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161-6637-4B9B-9921-8CC686C2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A52-8500-4E05-B6CF-126EF61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C49-25A6-4DAC-A4E0-61217011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813-94A2-43DA-B983-1AF085E7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6BB-9C8C-4DF9-898F-CBFC8BB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D68-E703-4505-A4F3-6E6F57B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703-2A7F-493F-8244-A0C5C22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ABE-AA05-4A73-B26D-8610A12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6E5-0906-430D-9B7B-AF28944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B4D-CCB0-47E1-967E-DEEE96AD324B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46520" y="5194440"/>
            <a:ext cx="571788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قتصاديات السياحة في العا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6426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إحدى الركائز الإستراتيجية للتنمية الاقتصاد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صناعة عالمية تتنافس الدول في مجال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اتها.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دفعهم الى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أن 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تخذ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جراءات عديدة لتأمين تنافس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قطاعاتهم السياحية في المرحلة المقبل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لى الرغم من التقلبات السائدة في الاقتصاد العالمي والأحداث التي تزعزع الاستقرار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لأزمات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المالية الاقتصادية العالمية، أظهرت السياحة مرونة إيجابية في مواجهة التغيرات الاقتصادية والاجتماعية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تبر الخبراء أن السياحة يمكن أن تكون عاملاًً رئيسياً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خراج العالم من حالة الركود الاقتصادي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4200" y="285480"/>
            <a:ext cx="585792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ffffff"/>
                </a:solidFill>
                <a:latin typeface="Calibri"/>
              </a:rPr>
              <a:t>السياحة تخرج </a:t>
            </a:r>
            <a:r>
              <a:rPr b="1" lang="ar-SA" sz="3000" spc="-1" strike="noStrike">
                <a:solidFill>
                  <a:srgbClr val="ffffff"/>
                </a:solidFill>
                <a:latin typeface="Calibri"/>
              </a:rPr>
              <a:t>العالم من حالة الركود الاقتصا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6320" y="274680"/>
            <a:ext cx="240012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2060"/>
                </a:solidFill>
                <a:latin typeface="Calibri"/>
                <a:cs typeface="Arial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14200" y="164304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ظمة السياحة العالمي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توقع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ل عدد السياح في العالم إلى ما يقرب 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ليار بحلول 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14200" y="257184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ص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إتخذ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جراء عبر ادخال صناعة السياحة في خطة تحفيز الاقتصاد لمواجهة الأزمة ، حيث ضخّت الحكومة الصينية مئات المليارات من الدولارات في هذه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4200" y="357192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تايلان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أعلنت ع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لف تذكرة طيران مجانية لزيارتها وكوريا الجنوبية أعلنت عن رحلات مجانية للأجانب المقي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14200" y="450072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الولايات المتحد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يجاد شرائح جديدة من السياح وعلى سبيل المثال التركيز على السياح ذوي الدخل المتوسط بعد تراجع اعداد السياح الذين يصنفون في خانة الاغني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14200" y="542916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دبي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: نفذ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ملة اعلانية وترويجية ضخمة تبدأ مع مهرجان السياحة والتسوق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وتخفيضات تصل الى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06Z</dcterms:modified>
  <cp:revision>32</cp:revision>
  <dc:subject/>
  <dc:title>Slide 1</dc:title>
</cp:coreProperties>
</file>