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CB06-1171-43C7-A58C-18F10C91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8692-47DD-4A36-95CD-1167B17E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9853-7B86-49C6-87A3-18B29024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EB4F-51B3-44FD-89CE-3136EAA6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B9CA-F313-4254-9031-746EA295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D0BE-AE52-4F27-ABE4-A43224F0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6A8-D2A2-4792-92CD-C1C92D37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F35-9ECD-4FEC-ACB1-7001AC9D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C4C-DB07-42F1-B766-6DEDCAF9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868-E3DC-4274-B850-EA375050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89D-9089-46EA-8AA3-152B3724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BBF-415E-4A9F-A353-D83E1C50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3E4C-D0F9-4FAD-9506-758A01631519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ubtitle 2" descr=""/>
          <p:cNvPicPr/>
          <p:nvPr/>
        </p:nvPicPr>
        <p:blipFill>
          <a:blip r:embed="rId1"/>
          <a:stretch/>
        </p:blipFill>
        <p:spPr>
          <a:xfrm>
            <a:off x="158760" y="1889280"/>
            <a:ext cx="2309760" cy="415116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1" descr=""/>
          <p:cNvPicPr/>
          <p:nvPr/>
        </p:nvPicPr>
        <p:blipFill>
          <a:blip r:embed="rId2"/>
          <a:stretch/>
        </p:blipFill>
        <p:spPr>
          <a:xfrm>
            <a:off x="182520" y="36360"/>
            <a:ext cx="2152800" cy="256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alhourriah.org/user_files/news/photo/european-imperialism.jpg"/>
          <p:cNvPicPr/>
          <p:nvPr/>
        </p:nvPicPr>
        <p:blipFill>
          <a:blip r:embed="rId3"/>
          <a:stretch/>
        </p:blipFill>
        <p:spPr>
          <a:xfrm>
            <a:off x="2357280" y="0"/>
            <a:ext cx="6786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11" descr=""/>
          <p:cNvPicPr/>
          <p:nvPr/>
        </p:nvPicPr>
        <p:blipFill>
          <a:blip r:embed="rId4"/>
          <a:stretch/>
        </p:blipFill>
        <p:spPr>
          <a:xfrm>
            <a:off x="2846520" y="5194440"/>
            <a:ext cx="5717880" cy="15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solidFill>
            <a:srgbClr val="c0504d"/>
          </a:solidFill>
          <a:ln w="38160">
            <a:solidFill>
              <a:srgbClr val="8c3836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ffffff"/>
                </a:solidFill>
                <a:latin typeface="Calibri"/>
                <a:cs typeface="Arial"/>
              </a:rPr>
              <a:t>اقتصاديات السياحة في العال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320" y="1642680"/>
            <a:ext cx="80722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 rtl="1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إحدى الركائز الإستراتيجية للتنمية الاقتصادية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صناعة عالمية تتنافس الدول في مجال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اتها.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دفعهم الى 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أن 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تخذ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وا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إ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جراءات عديدة لتأمين تنافسية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قطاعاتهم السياحية في المرحلة المقبلة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على الرغم من التقلبات السائدة في الاقتصاد العالمي والأحداث التي تزعزع الاستقرار 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والأزمات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المالية الاقتصادية العالمية، أظهرت السياحة مرونة إيجابية في مواجهة التغيرات الاقتصادية والاجتماعية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إ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عتبر الخبراء أن السياحة يمكن أن تكون عاملاًً رئيسياً 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</a:rPr>
              <a:t>أخراج العالم من حالة الركود الاقتصادي</a:t>
            </a:r>
            <a:r>
              <a:rPr b="1" lang="ar-IQ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 rtl="1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14200" y="285480"/>
            <a:ext cx="5857920" cy="928440"/>
          </a:xfrm>
          <a:prstGeom prst="rect">
            <a:avLst/>
          </a:prstGeom>
          <a:solidFill>
            <a:srgbClr val="4f81bd"/>
          </a:solidFill>
          <a:ln w="38160">
            <a:solidFill>
              <a:srgbClr val="385d8a"/>
            </a:solidFill>
            <a:miter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000" spc="-1" strike="noStrike">
                <a:solidFill>
                  <a:srgbClr val="ffffff"/>
                </a:solidFill>
                <a:latin typeface="Calibri"/>
              </a:rPr>
              <a:t>السياحة تخرج </a:t>
            </a:r>
            <a:r>
              <a:rPr b="1" lang="ar-SA" sz="3000" spc="-1" strike="noStrike">
                <a:solidFill>
                  <a:srgbClr val="ffffff"/>
                </a:solidFill>
                <a:latin typeface="Calibri"/>
              </a:rPr>
              <a:t>العالم من حالة الركود الاقتصا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6320" y="274680"/>
            <a:ext cx="2400120" cy="868320"/>
          </a:xfrm>
          <a:prstGeom prst="rect">
            <a:avLst/>
          </a:prstGeom>
          <a:solidFill>
            <a:srgbClr val="9bbb59"/>
          </a:solidFill>
          <a:ln w="7632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400" spc="-1" strike="noStrike">
                <a:solidFill>
                  <a:srgbClr val="002060"/>
                </a:solidFill>
                <a:latin typeface="Calibri"/>
                <a:cs typeface="Arial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14200" y="1643040"/>
            <a:ext cx="86439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منظمة السياحة العالمية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: توقعت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أن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صل عدد السياح في العالم إلى ما يقرب م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مليار بحلول عا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202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14200" y="2571840"/>
            <a:ext cx="864396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الصين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: إتخذت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جراء عبر ادخال صناعة السياحة في خطة تحفيز الاقتصاد لمواجهة الأزمة ، حيث ضخّت الحكومة الصينية مئات المليارات من الدولارات في هذه الخط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214200" y="3571920"/>
            <a:ext cx="86439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تايلاند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: أعلنت ع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ن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ألف تذكرة طيران مجانية لزيارتها وكوريا الجنوبية أعلنت عن رحلات مجانية للأجانب المقيمي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214200" y="4500720"/>
            <a:ext cx="864396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c00000"/>
                </a:solidFill>
                <a:latin typeface="Calibri"/>
              </a:rPr>
              <a:t>الولايات المتحدة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إيجاد شرائح جديدة من السياح وعلى سبيل المثال التركيز على السياح ذوي الدخل المتوسط بعد تراجع اعداد السياح الذين يصنفون في خانة الاغنيا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14200" y="5429160"/>
            <a:ext cx="864396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400" spc="-1" strike="noStrike">
                <a:solidFill>
                  <a:srgbClr val="c00000"/>
                </a:solidFill>
                <a:latin typeface="Calibri"/>
              </a:rPr>
              <a:t>دبي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 : نفذت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حملة اعلانية وترويجية ضخمة تبدأ مع مهرجان السياحة والتسوق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 وتخفيضات تصل الى 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ar-IQ" sz="2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0:38:37Z</dcterms:created>
  <dc:creator>Lenovo</dc:creator>
  <dc:description/>
  <dc:language>en-US</dc:language>
  <cp:lastModifiedBy>مرتضى الكربلائي</cp:lastModifiedBy>
  <dcterms:modified xsi:type="dcterms:W3CDTF">2015-06-09T21:56:06Z</dcterms:modified>
  <cp:revision>32</cp:revision>
  <dc:subject/>
  <dc:title>Slide 1</dc:title>
</cp:coreProperties>
</file>