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6AA1-E71E-4D18-A768-65E79102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E561-9D6F-4CBF-8F4E-D441B5E4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8A65-4E21-4A60-AD09-E0F3C312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F1C3-708D-4D00-BAC4-F5070359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5CB1-1F3B-4152-ABC0-1B7BD7D7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1C3A-648E-4F9E-A1BB-B79990CE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8227-7CBD-45D5-8496-02E7901E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9910-302A-4C51-81BC-E239DD79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9A6A-7E73-4618-8BBE-289F5017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151A-E405-49D3-8E8D-A46E9B2C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70A8-FA74-4CE8-B12E-E87A5CF4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6368-104E-49B9-A676-9BA84998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350E-1A3F-4D60-9CF9-A1EBC0779EB8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btitle 2" descr=""/>
          <p:cNvPicPr/>
          <p:nvPr/>
        </p:nvPicPr>
        <p:blipFill>
          <a:blip r:embed="rId1"/>
          <a:stretch/>
        </p:blipFill>
        <p:spPr>
          <a:xfrm>
            <a:off x="158760" y="1889280"/>
            <a:ext cx="2309760" cy="415116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" descr=""/>
          <p:cNvPicPr/>
          <p:nvPr/>
        </p:nvPicPr>
        <p:blipFill>
          <a:blip r:embed="rId2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11" descr=""/>
          <p:cNvPicPr/>
          <p:nvPr/>
        </p:nvPicPr>
        <p:blipFill>
          <a:blip r:embed="rId4"/>
          <a:stretch/>
        </p:blipFill>
        <p:spPr>
          <a:xfrm>
            <a:off x="2846520" y="5194440"/>
            <a:ext cx="5717880" cy="154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solidFill>
            <a:srgbClr val="c0504d"/>
          </a:solidFill>
          <a:ln w="381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ffff"/>
                </a:solidFill>
                <a:latin typeface="Calibri"/>
                <a:cs typeface="Arial"/>
              </a:rPr>
              <a:t>اقتصاديات السياحة في العال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1320" y="164268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 rtl="1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إحدى الركائز الإستراتيجية للتنمية الاقتصادية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 rtl="1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صناعة عالمية تتنافس الدول في مجال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اتها.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دفعهم الى 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أن ي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تخذ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وا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إ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جراءات عديدة لتأمين تنافسية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قطاعاتهم السياحية في المرحلة المقبلة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 rtl="1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على الرغم من التقلبات السائدة في الاقتصاد العالمي والأحداث التي تزعزع الاستقرار 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والأزمات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المالية الاقتصادية العالمية، أظهرت السياحة مرونة إيجابية في مواجهة التغيرات الاقتصادية والاجتماعية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 rtl="1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إ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عتبر الخبراء أن السياحة يمكن أن تكون عاملاًً رئيسياً 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ل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أخراج العالم من حالة الركود الاقتصادي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14200" y="285480"/>
            <a:ext cx="5857920" cy="928440"/>
          </a:xfrm>
          <a:prstGeom prst="rect">
            <a:avLst/>
          </a:prstGeom>
          <a:solidFill>
            <a:srgbClr val="4f81bd"/>
          </a:solidFill>
          <a:ln w="381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000" spc="-1" strike="noStrike">
                <a:solidFill>
                  <a:srgbClr val="ffffff"/>
                </a:solidFill>
                <a:latin typeface="Calibri"/>
              </a:rPr>
              <a:t>السياحة تخرج </a:t>
            </a:r>
            <a:r>
              <a:rPr b="1" lang="ar-SA" sz="3000" spc="-1" strike="noStrike">
                <a:solidFill>
                  <a:srgbClr val="ffffff"/>
                </a:solidFill>
                <a:latin typeface="Calibri"/>
              </a:rPr>
              <a:t>العالم من حالة الركود الاقتصا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6320" y="274680"/>
            <a:ext cx="2400120" cy="868320"/>
          </a:xfrm>
          <a:prstGeom prst="rect">
            <a:avLst/>
          </a:prstGeom>
          <a:solidFill>
            <a:srgbClr val="9bbb59"/>
          </a:solidFill>
          <a:ln w="7632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002060"/>
                </a:solidFill>
                <a:latin typeface="Calibri"/>
                <a:cs typeface="Arial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14200" y="1643040"/>
            <a:ext cx="86439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منظمة السياحة العالمية 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: توقعت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أن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صل عدد السياح في العالم إلى ما يقرب م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مليار بحلول عا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202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14200" y="2571840"/>
            <a:ext cx="864396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الصين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: إتخذت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جراء عبر ادخال صناعة السياحة في خطة تحفيز الاقتصاد لمواجهة الأزمة ، حيث ضخّت الحكومة الصينية مئات المليارات من الدولارات في هذه الخط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14200" y="3571920"/>
            <a:ext cx="86439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تايلاند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: أعلنت ع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ألف تذكرة طيران مجانية لزيارتها وكوريا الجنوبية أعلنت عن رحلات مجانية للأجانب المقيمي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214200" y="4500720"/>
            <a:ext cx="864396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c00000"/>
                </a:solidFill>
                <a:latin typeface="Calibri"/>
              </a:rPr>
              <a:t>الولايات المتحدة 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إيجاد شرائح جديدة من السياح وعلى سبيل المثال التركيز على السياح ذوي الدخل المتوسط بعد تراجع اعداد السياح الذين يصنفون في خانة الاغني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14200" y="5429160"/>
            <a:ext cx="86439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c00000"/>
                </a:solidFill>
                <a:latin typeface="Calibri"/>
              </a:rPr>
              <a:t>دبي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 : نفذت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حملة اعلانية وترويجية ضخمة تبدأ مع مهرجان السياحة والتسوق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 وتخفيضات تصل الى 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38:37Z</dcterms:created>
  <dc:creator>Lenovo</dc:creator>
  <dc:description/>
  <dc:language>en-US</dc:language>
  <cp:lastModifiedBy>مرتضى الكربلائي</cp:lastModifiedBy>
  <dcterms:modified xsi:type="dcterms:W3CDTF">2015-06-09T21:56:06Z</dcterms:modified>
  <cp:revision>32</cp:revision>
  <dc:subject/>
  <dc:title>Slide 1</dc:title>
</cp:coreProperties>
</file>