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0C5-6762-44CC-9CA2-2224D222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64A-789C-4093-A96C-57E5E14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0A2-F670-4C33-836D-14E413F0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98A-E566-46AD-B33D-68B2389B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A48-A1D8-4311-A232-12F1FC2E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3D8-E6DA-462C-9959-FA68296F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54F-9161-42B0-8A4B-EE77D076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1F7-30D4-4641-8762-E8BF6568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624-4D5F-4F62-B550-F02528DD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FCA-E1F1-4983-B0BB-FF313ECE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609-816D-4CC8-9878-8AC5B7CB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467-359C-420B-9FF4-B12A4BF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EA4-28B9-4EF9-AD2D-AE74D061D471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79200" y="1743120"/>
            <a:ext cx="2389320" cy="42973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859120" y="5407200"/>
            <a:ext cx="57117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4"/>
          <p:cNvGrpSpPr/>
          <p:nvPr/>
        </p:nvGrpSpPr>
        <p:grpSpPr>
          <a:xfrm>
            <a:off x="7429680" y="428760"/>
            <a:ext cx="1112760" cy="1643040"/>
            <a:chOff x="7429680" y="428760"/>
            <a:chExt cx="1112760" cy="1643040"/>
          </a:xfrm>
        </p:grpSpPr>
        <p:grpSp>
          <p:nvGrpSpPr>
            <p:cNvPr id="46" name="Rounded Rectangle 5"/>
            <p:cNvGrpSpPr/>
            <p:nvPr/>
          </p:nvGrpSpPr>
          <p:grpSpPr>
            <a:xfrm>
              <a:off x="7449480" y="428760"/>
              <a:ext cx="1073160" cy="1643040"/>
              <a:chOff x="7449480" y="428760"/>
              <a:chExt cx="1073160" cy="1643040"/>
            </a:xfrm>
          </p:grpSpPr>
          <p:pic>
            <p:nvPicPr>
              <p:cNvPr id="47" name="Rounded 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449480" y="428760"/>
                <a:ext cx="107316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7559280" y="551160"/>
                <a:ext cx="853920" cy="13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Rounded Rectangle 4"/>
            <p:cNvGrpSpPr/>
            <p:nvPr/>
          </p:nvGrpSpPr>
          <p:grpSpPr>
            <a:xfrm>
              <a:off x="7429680" y="471960"/>
              <a:ext cx="1112760" cy="1556640"/>
              <a:chOff x="7429680" y="471960"/>
              <a:chExt cx="1112760" cy="1556640"/>
            </a:xfrm>
          </p:grpSpPr>
          <p:pic>
            <p:nvPicPr>
              <p:cNvPr id="50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429680" y="471960"/>
                <a:ext cx="1112760" cy="155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7547760" y="564840"/>
                <a:ext cx="87660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79920" bIns="7992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مفهوم علم الإقتصا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2" name="Rectangle 7" descr=""/>
          <p:cNvPicPr/>
          <p:nvPr/>
        </p:nvPicPr>
        <p:blipFill>
          <a:blip r:embed="rId3"/>
          <a:stretch/>
        </p:blipFill>
        <p:spPr>
          <a:xfrm>
            <a:off x="676440" y="536400"/>
            <a:ext cx="65833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1"/>
          <p:cNvGrpSpPr/>
          <p:nvPr/>
        </p:nvGrpSpPr>
        <p:grpSpPr>
          <a:xfrm>
            <a:off x="6181560" y="1710720"/>
            <a:ext cx="2216520" cy="2216880"/>
            <a:chOff x="6181560" y="1710720"/>
            <a:chExt cx="2216520" cy="2216880"/>
          </a:xfrm>
        </p:grpSpPr>
        <p:sp>
          <p:nvSpPr>
            <p:cNvPr id="54" name="Down Arrow 9"/>
            <p:cNvSpPr/>
            <p:nvPr/>
          </p:nvSpPr>
          <p:spPr>
            <a:xfrm rot="2701800">
              <a:off x="6289560" y="2251800"/>
              <a:ext cx="2000160" cy="11347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" name="Rectangle 1" descr=""/>
            <p:cNvPicPr/>
            <p:nvPr/>
          </p:nvPicPr>
          <p:blipFill>
            <a:blip r:embed="rId4"/>
            <a:stretch/>
          </p:blipFill>
          <p:spPr>
            <a:xfrm rot="21599400">
              <a:off x="6906600" y="2277000"/>
              <a:ext cx="932040" cy="93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Rectangle 13" descr=""/>
          <p:cNvPicPr/>
          <p:nvPr/>
        </p:nvPicPr>
        <p:blipFill>
          <a:blip r:embed="rId5"/>
          <a:stretch/>
        </p:blipFill>
        <p:spPr>
          <a:xfrm>
            <a:off x="676440" y="2822400"/>
            <a:ext cx="5864040" cy="12067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4"/>
          <p:cNvGrpSpPr/>
          <p:nvPr/>
        </p:nvGrpSpPr>
        <p:grpSpPr>
          <a:xfrm>
            <a:off x="2214720" y="4214880"/>
            <a:ext cx="3143160" cy="642960"/>
            <a:chOff x="2214720" y="4214880"/>
            <a:chExt cx="3143160" cy="642960"/>
          </a:xfrm>
        </p:grpSpPr>
        <p:grpSp>
          <p:nvGrpSpPr>
            <p:cNvPr id="58" name="Rounded Rectangle 15"/>
            <p:cNvGrpSpPr/>
            <p:nvPr/>
          </p:nvGrpSpPr>
          <p:grpSpPr>
            <a:xfrm>
              <a:off x="2214720" y="4214880"/>
              <a:ext cx="3143160" cy="625320"/>
              <a:chOff x="2214720" y="4214880"/>
              <a:chExt cx="3143160" cy="625320"/>
            </a:xfrm>
          </p:grpSpPr>
          <p:pic>
            <p:nvPicPr>
              <p:cNvPr id="59" name="Rounded Rectangle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214720" y="4214880"/>
                <a:ext cx="314316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2331000" y="4306320"/>
                <a:ext cx="29116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Rounded Rectangle 4"/>
            <p:cNvGrpSpPr/>
            <p:nvPr/>
          </p:nvGrpSpPr>
          <p:grpSpPr>
            <a:xfrm>
              <a:off x="2265840" y="4228200"/>
              <a:ext cx="3040560" cy="629640"/>
              <a:chOff x="2265840" y="4228200"/>
              <a:chExt cx="3040560" cy="629640"/>
            </a:xfrm>
          </p:grpSpPr>
          <p:pic>
            <p:nvPicPr>
              <p:cNvPr id="62" name="Rounded Rectangle 4" descr=""/>
              <p:cNvPicPr/>
              <p:nvPr/>
            </p:nvPicPr>
            <p:blipFill>
              <a:blip r:embed="rId7"/>
              <a:stretch/>
            </p:blipFill>
            <p:spPr>
              <a:xfrm>
                <a:off x="2265840" y="4228200"/>
                <a:ext cx="3040560" cy="62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2362320" y="4306320"/>
                <a:ext cx="28483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79920" bIns="7992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المشكلة الإقتصادية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4" name="Rectangle 17" descr=""/>
          <p:cNvPicPr/>
          <p:nvPr/>
        </p:nvPicPr>
        <p:blipFill>
          <a:blip r:embed="rId8"/>
          <a:stretch/>
        </p:blipFill>
        <p:spPr>
          <a:xfrm>
            <a:off x="506520" y="5035680"/>
            <a:ext cx="6265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0200" y="285480"/>
            <a:ext cx="41148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Calibri"/>
                <a:cs typeface="Arial"/>
              </a:rPr>
              <a:t>السياحة حاجة إنسان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200016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هل إن الحاجة للسياحة هي مسألة كمالية أم ضرورية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2571840" y="2714760"/>
            <a:ext cx="1684080" cy="963360"/>
            <a:chOff x="2571840" y="2714760"/>
            <a:chExt cx="1684080" cy="963360"/>
          </a:xfrm>
        </p:grpSpPr>
        <p:sp>
          <p:nvSpPr>
            <p:cNvPr id="68" name="Rounded Rectangle 7"/>
            <p:cNvSpPr/>
            <p:nvPr/>
          </p:nvSpPr>
          <p:spPr>
            <a:xfrm>
              <a:off x="2571840" y="2714760"/>
              <a:ext cx="1684080" cy="9633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ounded Rectangle 4"/>
            <p:cNvSpPr/>
            <p:nvPr/>
          </p:nvSpPr>
          <p:spPr>
            <a:xfrm>
              <a:off x="2600280" y="2743200"/>
              <a:ext cx="1627200" cy="906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100" spc="-1" strike="noStrike">
                  <a:solidFill>
                    <a:srgbClr val="ffffff"/>
                  </a:solidFill>
                  <a:latin typeface="Calibri"/>
                </a:rPr>
                <a:t>عدم وجود القدرة المالية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"/>
          <p:cNvGrpSpPr/>
          <p:nvPr/>
        </p:nvGrpSpPr>
        <p:grpSpPr>
          <a:xfrm>
            <a:off x="4572000" y="2714760"/>
            <a:ext cx="1684440" cy="963360"/>
            <a:chOff x="4572000" y="2714760"/>
            <a:chExt cx="1684440" cy="963360"/>
          </a:xfrm>
        </p:grpSpPr>
        <p:sp>
          <p:nvSpPr>
            <p:cNvPr id="71" name="Rounded Rectangle 5"/>
            <p:cNvSpPr/>
            <p:nvPr/>
          </p:nvSpPr>
          <p:spPr>
            <a:xfrm>
              <a:off x="4572000" y="2714760"/>
              <a:ext cx="1684440" cy="9633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ounded Rectangle 6"/>
            <p:cNvSpPr/>
            <p:nvPr/>
          </p:nvSpPr>
          <p:spPr>
            <a:xfrm>
              <a:off x="4600440" y="2743200"/>
              <a:ext cx="1627560" cy="906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100" spc="-1" strike="noStrike">
                  <a:solidFill>
                    <a:srgbClr val="ffffff"/>
                  </a:solidFill>
                  <a:latin typeface="Calibri"/>
                </a:rPr>
                <a:t>وجود القدرة المالية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Rounded Rectangle 6"/>
          <p:cNvSpPr/>
          <p:nvPr/>
        </p:nvSpPr>
        <p:spPr>
          <a:xfrm>
            <a:off x="5345280" y="3857760"/>
            <a:ext cx="2584440" cy="90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 rtl="1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ar-IQ" sz="2100" spc="-1" strike="noStrike">
                <a:solidFill>
                  <a:srgbClr val="000000"/>
                </a:solidFill>
                <a:latin typeface="Calibri"/>
              </a:rPr>
              <a:t>السياحة أشبه بالضرور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857160" y="3857760"/>
            <a:ext cx="2584440" cy="90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 rtl="1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ar-IQ" sz="2100" spc="-1" strike="noStrike">
                <a:solidFill>
                  <a:srgbClr val="000000"/>
                </a:solidFill>
                <a:latin typeface="Calibri"/>
              </a:rPr>
              <a:t>السياحة كمال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17"/>
          <p:cNvGrpSpPr/>
          <p:nvPr/>
        </p:nvGrpSpPr>
        <p:grpSpPr>
          <a:xfrm>
            <a:off x="2286000" y="4857840"/>
            <a:ext cx="3929040" cy="1677960"/>
            <a:chOff x="2286000" y="4857840"/>
            <a:chExt cx="3929040" cy="1677960"/>
          </a:xfrm>
        </p:grpSpPr>
        <p:sp>
          <p:nvSpPr>
            <p:cNvPr id="76" name="Right Brace 13"/>
            <p:cNvSpPr/>
            <p:nvPr/>
          </p:nvSpPr>
          <p:spPr>
            <a:xfrm rot="5400000">
              <a:off x="3857400" y="3286080"/>
              <a:ext cx="785880" cy="3929040"/>
            </a:xfrm>
            <a:custGeom>
              <a:avLst/>
              <a:gdLst>
                <a:gd name="textAreaLeft" fmla="*/ 0 w 785880"/>
                <a:gd name="textAreaRight" fmla="*/ 283680 w 785880"/>
                <a:gd name="textAreaTop" fmla="*/ 20160 h 3929040"/>
                <a:gd name="textAreaBottom" fmla="*/ 39088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0"/>
                    <a:pt x="10800" y="360"/>
                  </a:cubicBezTo>
                  <a:lnTo>
                    <a:pt x="10800" y="10440"/>
                  </a:lnTo>
                  <a:cubicBezTo>
                    <a:pt x="10800" y="10620"/>
                    <a:pt x="16200" y="10800"/>
                    <a:pt x="21600" y="10800"/>
                  </a:cubicBezTo>
                  <a:cubicBezTo>
                    <a:pt x="16200" y="10800"/>
                    <a:pt x="10800" y="10980"/>
                    <a:pt x="10800" y="11160"/>
                  </a:cubicBezTo>
                  <a:lnTo>
                    <a:pt x="10800" y="21240"/>
                  </a:lnTo>
                  <a:cubicBezTo>
                    <a:pt x="10800" y="2142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" name="Group 14"/>
            <p:cNvGrpSpPr/>
            <p:nvPr/>
          </p:nvGrpSpPr>
          <p:grpSpPr>
            <a:xfrm>
              <a:off x="2928960" y="5787000"/>
              <a:ext cx="2643120" cy="748800"/>
              <a:chOff x="2928960" y="5787000"/>
              <a:chExt cx="2643120" cy="748800"/>
            </a:xfrm>
          </p:grpSpPr>
          <p:grpSp>
            <p:nvGrpSpPr>
              <p:cNvPr id="78" name="Rounded Rectangle 15"/>
              <p:cNvGrpSpPr/>
              <p:nvPr/>
            </p:nvGrpSpPr>
            <p:grpSpPr>
              <a:xfrm>
                <a:off x="2928960" y="5787000"/>
                <a:ext cx="2643120" cy="748800"/>
                <a:chOff x="2928960" y="5787000"/>
                <a:chExt cx="2643120" cy="748800"/>
              </a:xfrm>
            </p:grpSpPr>
            <p:pic>
              <p:nvPicPr>
                <p:cNvPr id="79" name="Rounded Rectangle 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28960" y="5787000"/>
                  <a:ext cx="2643120" cy="74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3047760" y="5886360"/>
                  <a:ext cx="240840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1" name="Rounded Rectangle 6"/>
              <p:cNvGrpSpPr/>
              <p:nvPr/>
            </p:nvGrpSpPr>
            <p:grpSpPr>
              <a:xfrm>
                <a:off x="2934360" y="5806080"/>
                <a:ext cx="2637720" cy="715680"/>
                <a:chOff x="2934360" y="5806080"/>
                <a:chExt cx="2637720" cy="715680"/>
              </a:xfrm>
            </p:grpSpPr>
            <p:pic>
              <p:nvPicPr>
                <p:cNvPr id="82" name="Rounded Rectangl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34360" y="5806080"/>
                  <a:ext cx="2637720" cy="71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3068280" y="5886360"/>
                  <a:ext cx="236700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920" rIns="79920" tIns="79920" bIns="7992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933480"/>
                      <a:tab algn="l" pos="1866960"/>
                      <a:tab algn="l" pos="2800440"/>
                      <a:tab algn="l" pos="3733920"/>
                      <a:tab algn="l" pos="4667400"/>
                      <a:tab algn="l" pos="5600880"/>
                      <a:tab algn="l" pos="6534000"/>
                      <a:tab algn="l" pos="7467480"/>
                      <a:tab algn="l" pos="8400960"/>
                      <a:tab algn="l" pos="9334440"/>
                      <a:tab algn="l" pos="10267920"/>
                    </a:tabLst>
                  </a:pPr>
                  <a:r>
                    <a:rPr b="1" lang="ar-IQ" sz="2400" spc="-1" strike="noStrike">
                      <a:solidFill>
                        <a:srgbClr val="000000"/>
                      </a:solidFill>
                      <a:latin typeface="Calibri"/>
                    </a:rPr>
                    <a:t>علم إقتصاديات السياحة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14240" y="1500120"/>
            <a:ext cx="7515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0" indent="64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حقيق أقصى إشباع ممكن من الحاجات السياحية عن طريق تحقيق إستغلال أمثل للموارد السياحية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5429160" y="500040"/>
            <a:ext cx="3429000" cy="749160"/>
            <a:chOff x="5429160" y="500040"/>
            <a:chExt cx="3429000" cy="749160"/>
          </a:xfrm>
        </p:grpSpPr>
        <p:sp>
          <p:nvSpPr>
            <p:cNvPr id="86" name="Rounded Rectangle 4"/>
            <p:cNvSpPr/>
            <p:nvPr/>
          </p:nvSpPr>
          <p:spPr>
            <a:xfrm>
              <a:off x="5429160" y="500040"/>
              <a:ext cx="3429000" cy="7491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ounded Rectangle 6"/>
            <p:cNvSpPr/>
            <p:nvPr/>
          </p:nvSpPr>
          <p:spPr>
            <a:xfrm>
              <a:off x="5486040" y="522000"/>
              <a:ext cx="331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800" spc="-1" strike="noStrike">
                  <a:solidFill>
                    <a:srgbClr val="ffffff"/>
                  </a:solidFill>
                  <a:latin typeface="Calibri"/>
                </a:rPr>
                <a:t>علم إقتصاديات السياح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Picture 2" descr="https://encrypted-tbn0.gstatic.com/images?q=tbn:ANd9GcTKfkEat8WxHMnjor2_nPJEQywjmuOP002jMAi2Tkmjr52TUgpM"/>
          <p:cNvPicPr/>
          <p:nvPr/>
        </p:nvPicPr>
        <p:blipFill>
          <a:blip r:embed="rId1"/>
          <a:stretch/>
        </p:blipFill>
        <p:spPr>
          <a:xfrm>
            <a:off x="457200" y="3371760"/>
            <a:ext cx="80406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28760" y="285840"/>
            <a:ext cx="828648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</a:rPr>
              <a:t>علاقة علم الإقتصاد السياحي بالعلوم الأخر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6858000" y="1928880"/>
            <a:ext cx="1684440" cy="785880"/>
            <a:chOff x="6858000" y="1928880"/>
            <a:chExt cx="1684440" cy="785880"/>
          </a:xfrm>
        </p:grpSpPr>
        <p:sp>
          <p:nvSpPr>
            <p:cNvPr id="92" name="Rounded Rectangle 5"/>
            <p:cNvSpPr/>
            <p:nvPr/>
          </p:nvSpPr>
          <p:spPr>
            <a:xfrm>
              <a:off x="6858000" y="19288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ounded Rectangle 6"/>
            <p:cNvSpPr/>
            <p:nvPr/>
          </p:nvSpPr>
          <p:spPr>
            <a:xfrm>
              <a:off x="6886440" y="19508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إجتما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4857840" y="1928880"/>
            <a:ext cx="1684080" cy="785880"/>
            <a:chOff x="4857840" y="1928880"/>
            <a:chExt cx="1684080" cy="785880"/>
          </a:xfrm>
        </p:grpSpPr>
        <p:sp>
          <p:nvSpPr>
            <p:cNvPr id="95" name="Rounded Rectangle 8"/>
            <p:cNvSpPr/>
            <p:nvPr/>
          </p:nvSpPr>
          <p:spPr>
            <a:xfrm>
              <a:off x="4857840" y="1928880"/>
              <a:ext cx="16840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ounded Rectangle 6"/>
            <p:cNvSpPr/>
            <p:nvPr/>
          </p:nvSpPr>
          <p:spPr>
            <a:xfrm>
              <a:off x="4886280" y="1950840"/>
              <a:ext cx="162720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سياس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2643120" y="1928880"/>
            <a:ext cx="1684440" cy="785880"/>
            <a:chOff x="2643120" y="1928880"/>
            <a:chExt cx="1684440" cy="785880"/>
          </a:xfrm>
        </p:grpSpPr>
        <p:sp>
          <p:nvSpPr>
            <p:cNvPr id="98" name="Rounded Rectangle 11"/>
            <p:cNvSpPr/>
            <p:nvPr/>
          </p:nvSpPr>
          <p:spPr>
            <a:xfrm>
              <a:off x="2643120" y="19288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ounded Rectangle 6"/>
            <p:cNvSpPr/>
            <p:nvPr/>
          </p:nvSpPr>
          <p:spPr>
            <a:xfrm>
              <a:off x="2671560" y="19508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قانو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3"/>
          <p:cNvGrpSpPr/>
          <p:nvPr/>
        </p:nvGrpSpPr>
        <p:grpSpPr>
          <a:xfrm>
            <a:off x="571680" y="1928880"/>
            <a:ext cx="1682640" cy="785880"/>
            <a:chOff x="571680" y="1928880"/>
            <a:chExt cx="1682640" cy="785880"/>
          </a:xfrm>
        </p:grpSpPr>
        <p:sp>
          <p:nvSpPr>
            <p:cNvPr id="101" name="Rounded Rectangle 14"/>
            <p:cNvSpPr/>
            <p:nvPr/>
          </p:nvSpPr>
          <p:spPr>
            <a:xfrm>
              <a:off x="571680" y="192888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ounded Rectangle 6"/>
            <p:cNvSpPr/>
            <p:nvPr/>
          </p:nvSpPr>
          <p:spPr>
            <a:xfrm>
              <a:off x="600120" y="1950840"/>
              <a:ext cx="16257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طبيع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6"/>
          <p:cNvGrpSpPr/>
          <p:nvPr/>
        </p:nvGrpSpPr>
        <p:grpSpPr>
          <a:xfrm>
            <a:off x="6929280" y="3214800"/>
            <a:ext cx="1684440" cy="785880"/>
            <a:chOff x="6929280" y="3214800"/>
            <a:chExt cx="1684440" cy="785880"/>
          </a:xfrm>
        </p:grpSpPr>
        <p:sp>
          <p:nvSpPr>
            <p:cNvPr id="104" name="Rounded Rectangle 17"/>
            <p:cNvSpPr/>
            <p:nvPr/>
          </p:nvSpPr>
          <p:spPr>
            <a:xfrm>
              <a:off x="6929280" y="321480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ounded Rectangle 6"/>
            <p:cNvSpPr/>
            <p:nvPr/>
          </p:nvSpPr>
          <p:spPr>
            <a:xfrm>
              <a:off x="6957720" y="323676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نف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9"/>
          <p:cNvGrpSpPr/>
          <p:nvPr/>
        </p:nvGrpSpPr>
        <p:grpSpPr>
          <a:xfrm>
            <a:off x="4929120" y="3214800"/>
            <a:ext cx="1684440" cy="785880"/>
            <a:chOff x="4929120" y="3214800"/>
            <a:chExt cx="1684440" cy="785880"/>
          </a:xfrm>
        </p:grpSpPr>
        <p:sp>
          <p:nvSpPr>
            <p:cNvPr id="107" name="Rounded Rectangle 20"/>
            <p:cNvSpPr/>
            <p:nvPr/>
          </p:nvSpPr>
          <p:spPr>
            <a:xfrm>
              <a:off x="4929120" y="321480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ounded Rectangle 6"/>
            <p:cNvSpPr/>
            <p:nvPr/>
          </p:nvSpPr>
          <p:spPr>
            <a:xfrm>
              <a:off x="4957560" y="323676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منط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22"/>
          <p:cNvGrpSpPr/>
          <p:nvPr/>
        </p:nvGrpSpPr>
        <p:grpSpPr>
          <a:xfrm>
            <a:off x="2714760" y="3214800"/>
            <a:ext cx="1684080" cy="785880"/>
            <a:chOff x="2714760" y="3214800"/>
            <a:chExt cx="1684080" cy="785880"/>
          </a:xfrm>
        </p:grpSpPr>
        <p:sp>
          <p:nvSpPr>
            <p:cNvPr id="110" name="Rounded Rectangle 23"/>
            <p:cNvSpPr/>
            <p:nvPr/>
          </p:nvSpPr>
          <p:spPr>
            <a:xfrm>
              <a:off x="2714760" y="3214800"/>
              <a:ext cx="16840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ounded Rectangle 6"/>
            <p:cNvSpPr/>
            <p:nvPr/>
          </p:nvSpPr>
          <p:spPr>
            <a:xfrm>
              <a:off x="2743200" y="3236760"/>
              <a:ext cx="162720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تاري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25"/>
          <p:cNvGrpSpPr/>
          <p:nvPr/>
        </p:nvGrpSpPr>
        <p:grpSpPr>
          <a:xfrm>
            <a:off x="642960" y="3214800"/>
            <a:ext cx="1682640" cy="785880"/>
            <a:chOff x="642960" y="3214800"/>
            <a:chExt cx="1682640" cy="785880"/>
          </a:xfrm>
        </p:grpSpPr>
        <p:sp>
          <p:nvSpPr>
            <p:cNvPr id="113" name="Rounded Rectangle 26"/>
            <p:cNvSpPr/>
            <p:nvPr/>
          </p:nvSpPr>
          <p:spPr>
            <a:xfrm>
              <a:off x="642960" y="321480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ounded Rectangle 6"/>
            <p:cNvSpPr/>
            <p:nvPr/>
          </p:nvSpPr>
          <p:spPr>
            <a:xfrm>
              <a:off x="671400" y="3236760"/>
              <a:ext cx="16257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إحصا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4857840" y="4357800"/>
            <a:ext cx="1684080" cy="785880"/>
            <a:chOff x="4857840" y="4357800"/>
            <a:chExt cx="1684080" cy="785880"/>
          </a:xfrm>
        </p:grpSpPr>
        <p:sp>
          <p:nvSpPr>
            <p:cNvPr id="116" name="Rounded Rectangle 32"/>
            <p:cNvSpPr/>
            <p:nvPr/>
          </p:nvSpPr>
          <p:spPr>
            <a:xfrm>
              <a:off x="4857840" y="4357800"/>
              <a:ext cx="16840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ounded Rectangle 6"/>
            <p:cNvSpPr/>
            <p:nvPr/>
          </p:nvSpPr>
          <p:spPr>
            <a:xfrm>
              <a:off x="4886280" y="4379760"/>
              <a:ext cx="162720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رياضيا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34"/>
          <p:cNvGrpSpPr/>
          <p:nvPr/>
        </p:nvGrpSpPr>
        <p:grpSpPr>
          <a:xfrm>
            <a:off x="2643120" y="4357800"/>
            <a:ext cx="1714680" cy="785880"/>
            <a:chOff x="2643120" y="4357800"/>
            <a:chExt cx="1714680" cy="785880"/>
          </a:xfrm>
        </p:grpSpPr>
        <p:sp>
          <p:nvSpPr>
            <p:cNvPr id="119" name="Rounded Rectangle 35"/>
            <p:cNvSpPr/>
            <p:nvPr/>
          </p:nvSpPr>
          <p:spPr>
            <a:xfrm>
              <a:off x="2643120" y="4357800"/>
              <a:ext cx="17146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ounded Rectangle 6"/>
            <p:cNvSpPr/>
            <p:nvPr/>
          </p:nvSpPr>
          <p:spPr>
            <a:xfrm>
              <a:off x="2671560" y="4379760"/>
              <a:ext cx="168624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وم الهندس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7"/>
          <p:cNvGrpSpPr/>
          <p:nvPr/>
        </p:nvGrpSpPr>
        <p:grpSpPr>
          <a:xfrm>
            <a:off x="571680" y="4357800"/>
            <a:ext cx="1682640" cy="785880"/>
            <a:chOff x="571680" y="4357800"/>
            <a:chExt cx="1682640" cy="785880"/>
          </a:xfrm>
        </p:grpSpPr>
        <p:sp>
          <p:nvSpPr>
            <p:cNvPr id="122" name="Rounded Rectangle 38"/>
            <p:cNvSpPr/>
            <p:nvPr/>
          </p:nvSpPr>
          <p:spPr>
            <a:xfrm>
              <a:off x="571680" y="435780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ounded Rectangle 6"/>
            <p:cNvSpPr/>
            <p:nvPr/>
          </p:nvSpPr>
          <p:spPr>
            <a:xfrm>
              <a:off x="600120" y="4379760"/>
              <a:ext cx="16257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علوم الطب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ounded Rectangle 6"/>
          <p:cNvSpPr/>
          <p:nvPr/>
        </p:nvSpPr>
        <p:spPr>
          <a:xfrm>
            <a:off x="7243920" y="5095800"/>
            <a:ext cx="16272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 rtl="1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علم الإجتما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43"/>
          <p:cNvGrpSpPr/>
          <p:nvPr/>
        </p:nvGrpSpPr>
        <p:grpSpPr>
          <a:xfrm>
            <a:off x="4929120" y="5572080"/>
            <a:ext cx="1684440" cy="785880"/>
            <a:chOff x="4929120" y="5572080"/>
            <a:chExt cx="1684440" cy="785880"/>
          </a:xfrm>
        </p:grpSpPr>
        <p:sp>
          <p:nvSpPr>
            <p:cNvPr id="126" name="Rounded Rectangle 44"/>
            <p:cNvSpPr/>
            <p:nvPr/>
          </p:nvSpPr>
          <p:spPr>
            <a:xfrm>
              <a:off x="4929120" y="5572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ounded Rectangle 6"/>
            <p:cNvSpPr/>
            <p:nvPr/>
          </p:nvSpPr>
          <p:spPr>
            <a:xfrm>
              <a:off x="4957560" y="55940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وم الجغرافي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46"/>
          <p:cNvGrpSpPr/>
          <p:nvPr/>
        </p:nvGrpSpPr>
        <p:grpSpPr>
          <a:xfrm>
            <a:off x="642960" y="5572080"/>
            <a:ext cx="1682640" cy="785880"/>
            <a:chOff x="642960" y="5572080"/>
            <a:chExt cx="1682640" cy="785880"/>
          </a:xfrm>
        </p:grpSpPr>
        <p:sp>
          <p:nvSpPr>
            <p:cNvPr id="129" name="Rounded Rectangle 47"/>
            <p:cNvSpPr/>
            <p:nvPr/>
          </p:nvSpPr>
          <p:spPr>
            <a:xfrm>
              <a:off x="642960" y="557208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ounded Rectangle 6"/>
            <p:cNvSpPr/>
            <p:nvPr/>
          </p:nvSpPr>
          <p:spPr>
            <a:xfrm>
              <a:off x="642960" y="5617800"/>
              <a:ext cx="162576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بيئ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49"/>
          <p:cNvGrpSpPr/>
          <p:nvPr/>
        </p:nvGrpSpPr>
        <p:grpSpPr>
          <a:xfrm>
            <a:off x="2643120" y="5572080"/>
            <a:ext cx="1684440" cy="785880"/>
            <a:chOff x="2643120" y="5572080"/>
            <a:chExt cx="1684440" cy="785880"/>
          </a:xfrm>
        </p:grpSpPr>
        <p:sp>
          <p:nvSpPr>
            <p:cNvPr id="132" name="Rounded Rectangle 50"/>
            <p:cNvSpPr/>
            <p:nvPr/>
          </p:nvSpPr>
          <p:spPr>
            <a:xfrm>
              <a:off x="2643120" y="5572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ounded Rectangle 6"/>
            <p:cNvSpPr/>
            <p:nvPr/>
          </p:nvSpPr>
          <p:spPr>
            <a:xfrm>
              <a:off x="2643120" y="5572080"/>
              <a:ext cx="162756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علوم الإدار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55"/>
          <p:cNvGrpSpPr/>
          <p:nvPr/>
        </p:nvGrpSpPr>
        <p:grpSpPr>
          <a:xfrm>
            <a:off x="6858000" y="4429080"/>
            <a:ext cx="1684440" cy="785880"/>
            <a:chOff x="6858000" y="4429080"/>
            <a:chExt cx="1684440" cy="785880"/>
          </a:xfrm>
        </p:grpSpPr>
        <p:sp>
          <p:nvSpPr>
            <p:cNvPr id="135" name="Rounded Rectangle 56"/>
            <p:cNvSpPr/>
            <p:nvPr/>
          </p:nvSpPr>
          <p:spPr>
            <a:xfrm>
              <a:off x="6858000" y="4429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ounded Rectangle 6"/>
            <p:cNvSpPr/>
            <p:nvPr/>
          </p:nvSpPr>
          <p:spPr>
            <a:xfrm>
              <a:off x="6886440" y="44510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أنثروبولوجي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8"/>
          <p:cNvGrpSpPr/>
          <p:nvPr/>
        </p:nvGrpSpPr>
        <p:grpSpPr>
          <a:xfrm>
            <a:off x="6858000" y="5572080"/>
            <a:ext cx="1684440" cy="785880"/>
            <a:chOff x="6858000" y="5572080"/>
            <a:chExt cx="1684440" cy="785880"/>
          </a:xfrm>
        </p:grpSpPr>
        <p:sp>
          <p:nvSpPr>
            <p:cNvPr id="138" name="Rounded Rectangle 59"/>
            <p:cNvSpPr/>
            <p:nvPr/>
          </p:nvSpPr>
          <p:spPr>
            <a:xfrm>
              <a:off x="6858000" y="5572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ounded Rectangle 6"/>
            <p:cNvSpPr/>
            <p:nvPr/>
          </p:nvSpPr>
          <p:spPr>
            <a:xfrm>
              <a:off x="6886440" y="55940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علوم التقن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24T22:00:50Z</dcterms:modified>
  <cp:revision>21</cp:revision>
  <dc:subject/>
  <dc:title>Slide 1</dc:title>
</cp:coreProperties>
</file>