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A9B-0CCF-4EBF-BFAE-9D39A6D2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A1A-EF6B-4369-A0A9-B6D1F990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BE5-5F89-4DFE-8134-F684A212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23C-89AF-4664-AAAA-7699BC28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714F-545C-4F96-A648-6538BE3A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F275-198F-4942-82C3-B0696381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C69D-00E2-4517-A43E-911F2955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88B8-3BF0-4E13-AEA9-EBB0348D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E97B-32E8-4DC4-BFB9-B735F82E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172B-4DEE-4C0B-9444-9BEF726B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A241-E331-4A81-8064-D65DE2D1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DB6-29BB-4DC9-97E6-64AC6ED5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0A37-2E98-4712-8B05-023511C1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10FF-4B88-4F15-991D-821D5B2B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0394-3D78-40D9-A8D4-570C43A4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7044-70C4-445A-9E4C-EC752147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A0D5-0DF2-47D9-B4AC-68FF0F6E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1B559-2F24-4350-8067-E0407BC7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0A17-A321-475A-858D-E34AB11A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F5F5-11D4-49D2-8F2E-6FF0BED9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87BA-363F-4D8D-A8B9-55D42C48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F31F-4B88-479D-8EB6-150444F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E50-5E2E-4B77-9CFA-8499FB0F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F64A-FAFC-478D-AC15-BC094617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672F-60DE-4615-9143-3D0071D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E9A3-647F-4D0C-A438-CDDAAF2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D833-A7C3-43C3-A973-2AB22151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BBB3-7EFF-4380-98A5-5B9DD85B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2C25-C44C-4471-B5BD-629ABA5F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9AF28-EA35-4DE7-BD06-FA71E37D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1DB-D8D3-4AFB-A4BC-552DB461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07A-BA08-426F-BEBD-4417C3F1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43F-2599-483A-B2C8-BDA792FF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C4C-6E3A-4CA7-8CF7-F46A6ABE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94B-D393-481C-A116-F58ECF46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CA4-EF9D-4BB8-B39E-37CEC3A7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68B-6650-4093-B00E-A707330EE264}" type="slidenum">
              <a:rPr b="1" lang="en-US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BF78-CA2D-4CF6-B376-0BD2EACED2CC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4A19-BDFF-4F1A-B0CC-23CD64ECA25F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مستطيل 1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Fatima Makee AL-Hak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kerb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ge of 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مستطيل 6"/>
          <p:cNvSpPr/>
          <p:nvPr/>
        </p:nvSpPr>
        <p:spPr>
          <a:xfrm>
            <a:off x="228600" y="990720"/>
            <a:ext cx="7772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Gallbladder Disord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GALLBLADD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ifestations of acute cholecyst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sode of biliary colic involving RUQ pain radiating to back, right scapula, or shoulder; the pain may be aggravated by movement, or deep breathing and may last 12 – 18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rexia, nausea, and vom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ver with ch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GALLBLADD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ications of cholecysti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nic cholecystitis occurs after repeated attacks of acute cholecystitis; often asymptoma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yema:  collection of infected fluid within gallblad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ngrene of gall bladder with perforation leading to peritonitis, abscess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creatitis, liver damage, intestinal obstr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GALLBLADD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llaborative C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atment depends on the acuity of symptoms and client’s health statu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ents experiencing symptoms are usually treated with surgical removal of the stones and gallblad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Diagnostic Te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um bilirubin:  conjugated bilirubin is elevated with bile duct obstru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BC reveals elevation in the WBC as with infection and inflam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um amylase and lipase are elevated, if obstruction of the common bile duct has caused pancreatit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ltrasound of gallbladder: identifies presence of gallston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 tests may include flat plate of the abdomen, oral cholecytogram, gall bladder sc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GALLBLADD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eat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 of choice is laparoscopic cholecystectom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urgery is inappropriate due to client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attempt to dissolve the gallstones with med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tions are costly, long d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nes reoccur when treatment is stopp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aparoscopic cholecystectom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lly invasive procedure with low risk of complications; required hospital stay&lt; 24 hou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needs of client and family/caregiver include pain control, deep breathing, mobilization, incisional care and nutritional/fluids n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is given phone contact for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GALLBLADD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clients require a surgical laparotomy (incision inside the abdomen) to remove gall bladd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ent will  have nasogastric tube in place post-operatively and require several days of hospital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exploration of the common bile duct is done with the cholecystectomy, the client may have a T-tube inserted which promotes bile passage to the outside as area he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ents with cholelithiasis and cholecystitis prior to surgery can avoid future attacks by limiting fat intak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ursing Diagno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balanced Nutrition: Less than body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sk for Inf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-TUBE PLACEMENT IN THE COMMON BILE DUCT</a:t>
            </a:r>
            <a:br>
              <a:rPr sz="3400"/>
            </a:b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PLACEMENT OF A T-TUBE</a:t>
            </a:r>
            <a:endParaRPr b="0" lang="en-US" sz="30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267080" y="3938760"/>
            <a:ext cx="360" cy="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HOLENDOSCOPIC REMOVAL OF GALLSTONES</a:t>
            </a:r>
            <a:endParaRPr b="0" lang="en-US" sz="30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4267080" y="3938760"/>
            <a:ext cx="360" cy="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BILIARY LITHOTRIPSY</a:t>
            </a:r>
            <a:endParaRPr b="0" lang="en-US" sz="30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267080" y="3938760"/>
            <a:ext cx="360" cy="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pat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:  inflammation of the liver due to virus, exposure to alcohol, drugs, toxins; may be acute or chronic in n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ophysiology: metabolic functions and bile elimination functions of the liver are disrupted by the inflammation of the li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GALLBLADD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lithiasis and Cholecystit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. Cholelithiasis: formation of stones (calculi) within the gallbladder or biliary duct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. Cholecystitis: inflammation of gall blad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. Cholangitis:  inflammation of the biliary du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ophysi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.Gallstones form due 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normal bile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iary st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ion of gall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al Hepati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(causative agen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.  Hepatitis A virus (HAV) Infectious hepati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69560" algn="r" rtl="1">
              <a:lnSpc>
                <a:spcPct val="90000"/>
              </a:lnSpc>
              <a:spcBef>
                <a:spcPts val="624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ansmission: fecal-oral route, often contaminated foods, water or direct contact, blood transfusions, contaminated equipmen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69560" algn="r" rtl="1">
              <a:lnSpc>
                <a:spcPct val="90000"/>
              </a:lnSpc>
              <a:spcBef>
                <a:spcPts val="624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tagious through stool up to 2 weeks before symptoms occur; abrupt ons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69560" algn="r" rtl="1">
              <a:lnSpc>
                <a:spcPct val="90000"/>
              </a:lnSpc>
              <a:spcBef>
                <a:spcPts val="624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enign, self limited; symptoms last up to 2 month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 of Hepatitis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handwa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personal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and screening of food hand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ive immu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ubation period :20-50 days (short incubation perio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common in fall and winter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found in children and young 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ectious for 3 weeks prior and 1 week after developing jaun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recovery 3-16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patitis B virus (HB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mi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695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ected blood and body flu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695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eral route with i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695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estion or inhalation of the blood of an infected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695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minated needles, syringes, dental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695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l or sexual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1695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risk individuals include homosex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IQ" sz="2000" spc="-1" strike="noStrike">
                <a:solidFill>
                  <a:srgbClr val="000000"/>
                </a:solidFill>
                <a:latin typeface="Arial"/>
                <a:cs typeface="Arial"/>
              </a:rPr>
              <a:t>لوط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 drug abusers, persons with multiple sexual partners, medical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r cells damaged by immune response; increased risk for primary liver cancer; causes acute and chronic hepatitis, fulminant hepatitis and carrier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patitis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een blood don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u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patitis C virus (HC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ssion: infected blood and body fluids; injection drug use is primary fa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manifestations are mild, non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worldwide cause of chronic hepatitis, cirrhosis, liver can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 incubation period 7-8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patits B-associated delta virus (HD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ssion: infected blood and body fluids; causes infection in people who are also infected with hepatitis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s acute or chronic inf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patitis 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tted through oral-fecal contaminated water, course of illness resembles hepatiti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patitis E virus (HE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ssion: fecal-oral route, contaminated water supplies in developing nations; rare in U.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young adults; fulminant in pregnant wo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ease Pattern Associated with hepatitis (all typ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.Incubation Phase (period after exposure to virus): no sympto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Prodromal Phase (preicteric – before jaundi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” symptoms: general malaise, anorexia, fatigue, muscle and body 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sea, vomiting, diarrhea, constipation, and mild RUQ abdominal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ls and f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Icteric (jaundiced) Ph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s after prodromal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undice of the sclera, skin and mucous membranes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vation of serum biliru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r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ol become light brown or clay col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e is brownish col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alescent Ph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uncomplicated cases, symptoms improve and spontaneous recovery occurs within 2 weeks of jaund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s several weeks; continued improvement and liver enzymes impr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600" spc="-1" strike="noStrike">
              <a:solidFill>
                <a:srgbClr val="d1282e"/>
              </a:solidFill>
              <a:latin typeface="Arial Black"/>
              <a:ea typeface="Tahoma"/>
            </a:endParaRPr>
          </a:p>
        </p:txBody>
      </p:sp>
      <p:pic>
        <p:nvPicPr>
          <p:cNvPr id="134" name="Picture 6" descr="gallbladder1"/>
          <p:cNvPicPr/>
          <p:nvPr/>
        </p:nvPicPr>
        <p:blipFill>
          <a:blip r:embed="rId1"/>
          <a:stretch/>
        </p:blipFill>
        <p:spPr>
          <a:xfrm>
            <a:off x="1066680" y="1447920"/>
            <a:ext cx="67820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hronic Hepatit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. Chronic hepatit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hronic infection from viruses: HBV, HBC, HB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w symptoms (fatigue, malaise, hepatomegaly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mary cause of cirrhosis, liver, cancer, liver transpl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ver enzymes are elev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b. Fulminant hepatit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rapidly progressive disease with liver failure developing within 2 – 3 week of onset of symptoms; rare, but usually due to HBV with HBD infe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. Toxic hepatit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patocellular damage results from toxic substan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ludes alcoholic hepatitis, acute toxic reaction or chronic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llaborative C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Focus is on determination of cause, treatment and support, and prevention future liver dam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agnostic Te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Liver function te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nine aminotransferase (ALT): specific to li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artate aminotransferase (AST): heart and liver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aline phosphatase (ALP): liver and bone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mma-glutamyltransferase (GGT): present in cell membranes; rises with hepatitis and obstructive biliary dis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tic dehydrogenase (LDH): present in many body tissues; isoenzyme, LDH5 is specific to the li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um bilirubin levels: total, conjugated, unconjug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 tests for viral antigens and antibodies associated with types of viral hepat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ver biopsy: tissue examined to detect changes and make diagno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ation: signed consent; NPO 4 – 6 hours bef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hrombin time and platelet count results; may need Vitamin K first to corr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 voids prior to procedure, supine pos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anesthetic; client instructed to hold breath during needle inser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pressure applied to site after sample obtained; client placed on right side to maintain site pres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l signs monitored frequently for 2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ughing, lifting, straining 1 – 2 weeks afterw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tions for prevention of hepatit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es available for Hepatitis A and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e for Hepatitis B recommended for high-risk 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 exposure prophylaxis recommended for household and sexual contacts of persons with HAV or HB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patitis A prophylaxis: single dose of immune globulin within 2 weeks of expo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patitis B prophylaxis: Hepatitis B immune globulin (HBIG) for short-term immunity; HBV vaccine may be given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ed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tion for acute hepatitis C: interferon alpha to prevent chronic hepat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nic Hepatitis B: interferon alpha intramuscular or subcutaneously or lamivu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nic Hepatitis C: interferon alpha with ribavirin (Rebetol) oral antiviral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cute hepatitis treat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needed bedr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quate nutr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substances toxic to the liver especially alcoh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ementary therap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ilk thistle (silymar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rsing C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eaching about prevention by stress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washing, especially for food handl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d and body fluids preca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ccines for persons at high r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     Restrict use of alcoh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.      Abstain from sexual activity during communicable peri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LIV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rsing Diagn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for Inf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-1587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precautions, proper hand washing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-1587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ing of contagious disease to health department to control spread of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-1587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planned rest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-1587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ual increase of activity with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balanced Nutrition: Less than body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-1587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caloric diet with adequate carbohyd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-158760" algn="r" rtl="1">
              <a:lnSpc>
                <a:spcPct val="8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frequent meals; nutritional supp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dy Image Disturb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 care must include proper infection control measures; continuing medical c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state of chronic liver dis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and irrever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th leading cause of death in U.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ophysi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liver tissue gradually destroyed and replaced with fibrous scar tiss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hepatocytes are destroyed, metabolic functions are l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d and bile flow within liver is disrup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al hypertension devel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1641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 vein receives blood from the intestines and spleen, so as portal hypertension increases the blood flows back in the esophageal and umbilical veins causing ascites as well as splenomeg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coholic cirrhosis (Laennec’s cirrhosi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 causes metabolic changes in liver leading to fatty infiltration (stage in which abstinence from alcohol could allow liver to he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continued alcohol abuse, inflammatory cells infiltrate liver causing necrosis, fibrosis and destruction of liver tiss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enerative nodules form, liver shrinks and is nod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nutrition commonly pres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600" spc="-1" strike="noStrike">
              <a:solidFill>
                <a:srgbClr val="d1282e"/>
              </a:solidFill>
              <a:latin typeface="Arial Black"/>
              <a:ea typeface="Tahoma"/>
            </a:endParaRPr>
          </a:p>
        </p:txBody>
      </p:sp>
      <p:pic>
        <p:nvPicPr>
          <p:cNvPr id="206" name="Picture 6" descr="cirrhosis"/>
          <p:cNvPicPr/>
          <p:nvPr/>
        </p:nvPicPr>
        <p:blipFill>
          <a:blip r:embed="rId1"/>
          <a:stretch/>
        </p:blipFill>
        <p:spPr>
          <a:xfrm>
            <a:off x="3112920" y="1752480"/>
            <a:ext cx="2308320" cy="43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600" spc="-1" strike="noStrike">
              <a:solidFill>
                <a:srgbClr val="d1282e"/>
              </a:solidFill>
              <a:latin typeface="Arial Black"/>
              <a:ea typeface="Tahoma"/>
            </a:endParaRPr>
          </a:p>
        </p:txBody>
      </p:sp>
      <p:pic>
        <p:nvPicPr>
          <p:cNvPr id="136" name="Picture 6" descr="pancreasgbladder"/>
          <p:cNvPicPr/>
          <p:nvPr/>
        </p:nvPicPr>
        <p:blipFill>
          <a:blip r:embed="rId1"/>
          <a:stretch/>
        </p:blipFill>
        <p:spPr>
          <a:xfrm>
            <a:off x="990720" y="1523880"/>
            <a:ext cx="67816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iliary cirrhosi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ile flow is obstructed and is retained within liver causing inflammation, fibrosis and regenerative nodules to 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d skin pigmentation resembling a deep tan, jaundice and prur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sthepatic cirrhosi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ronic hepatitis B or C and unknown cause leads to liver shrinkage and nodule formation with extensive liver cell loss and fibro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iac cirrho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sided CHF. Liver is swollen, yet reversible if CHF is t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specific, metabolic cirrho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problems, infectious disease, infiltrative disease, GI disease could be the 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fes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: liver enlargement and tenderness, dull ache in RUQ, weight loss, weakness, fatigue, anorexia, diarrhea or constip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es to impaired metabolism causing bleeding, ascites, gynecomastia in men, infertility in women, jaundice, neurological changes, ascites, peripheral edema, anemia, low WBC and platel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Portal hyperten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unting of blood to collateral blood vessels leading to engorged veins in esophagus, rectum and abdomen, asc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sures within the portal venous system become elevated as liver damage obstructs the free flow of blood through the 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Splenomegaly: anemia, leucopenia, thrombocytopen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Asc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umulation of abdominal fluid rich in protein; hypoalbuminemia, sodium and water re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of port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level of aldoste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ASCITES</a:t>
            </a: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18" name="Picture 6" descr="ascitis1"/>
          <p:cNvPicPr/>
          <p:nvPr/>
        </p:nvPicPr>
        <p:blipFill>
          <a:blip r:embed="rId1"/>
          <a:stretch/>
        </p:blipFill>
        <p:spPr>
          <a:xfrm>
            <a:off x="2809800" y="1752480"/>
            <a:ext cx="2914560" cy="43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Esophageal varices: thin walled dilated veins in esophagus which may rupture leading to massive hemorrh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ary to port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eeding may occur as a result of mechanical trauma, ingestion of coarse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ESOPHAGEAL VARACIE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22" name="Picture 6" descr="esophageal-varices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Hepatic encephalopathy: from accumulated neurotoxins in blood; ammonia produced in gut is not converted to urea which is normally excreted and accumulates in blood and is trapped in the brain; medications may not be metabolized and add to mental changes including personality changes, slowed mentation, asterixis (liver flap); progressing to confusion, disorientation and co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600" spc="-1" strike="noStrike">
              <a:solidFill>
                <a:srgbClr val="d1282e"/>
              </a:solidFill>
              <a:latin typeface="Arial Black"/>
              <a:ea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. Hepatorenal syndrome:  renal failure with azotem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re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uid retention leads to hyponatremia and fluid over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s hemodialysis for hyperkalemia and fluid over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GALL STONE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8" name="Picture 6" descr="gallstones"/>
          <p:cNvPicPr/>
          <p:nvPr/>
        </p:nvPicPr>
        <p:blipFill>
          <a:blip r:embed="rId1"/>
          <a:stretch/>
        </p:blipFill>
        <p:spPr>
          <a:xfrm>
            <a:off x="1066680" y="1830240"/>
            <a:ext cx="6400800" cy="42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ve Care: Holistic care to client and family addressing physiologic, psychosocial, spiritual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ver function tests (ALT, AST, alkaline phosphatase, GGT); elevated, but not as high as with acute hepat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BC and platelets: anemia, leucopenia, thrombocytopen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hrombin time: prolonged (impaired coagulation due to lack of Vitamin 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um electrolytes: deficiencies in sodium, potassium, phosphate, magnes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irubin: elevated failing liver can’t bind bilirub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um albumin: hypoalbuminem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um ammonia: elev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um glucose and choleste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dominal ultrasound: evaluation of liver size and nodularity, asc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 endoscopy: diagnose and possibly treat esophageal var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ver biopsy:  may be done to diagnose cirrhosis; may be deferred if bleeding times are elev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tions are used to treat complications and effects of cirrhosis; all liver toxic drugs (sedatives, hypnotics, acetaminophen) and alcohol must be avoi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retics:  Spironolactone (Aldactone) (works against increased aldosterone levels), furosemide (Lasi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tions to decrease manifestations of hepatic encephalopathy by reducing number of ammonia forming bacteria in bowel and to convert ammonia to ammonium which is excreted in stool;  Lactulose, Neomycin (antibiotic to kill the bacteria in the GI trac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600" spc="-1" strike="noStrike">
              <a:solidFill>
                <a:srgbClr val="d1282e"/>
              </a:solidFill>
              <a:latin typeface="Arial Black"/>
              <a:ea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838080" y="213372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a-blocker nadolol (Corgard) with isosorbide mononitrate (Ismo, Imdur) used to prevent esophageal varices from re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rous sulfate and folic acid to treat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tamin K to reduce risk of 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cids to decrease risk of acute gastr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azepam (Serax) benzodiazepine antianxiety/sedative drug not metabolized by liver; used to treat acute a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:  Dietary and flui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id and sodium restrictions based on response to diuretic therapy, urine output, electrolyte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: 75 – 100 grams per day; unless client has hepatic encephalopathy (elevated ammonia levels),then 60 – 80 gm/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t high in carbohydrates, moderate in fats or as total parenteral nutrition (TP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tamin and mineral supplements; deficiencies often include B vitamins, and A, D, E, magnes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:  Complication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ites and associated respiratory distress; Paracente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120" indent="-156960" algn="r" rtl="1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5 or more liters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bleeding esophageal var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3120" indent="-156960" algn="r" rtl="1">
              <a:lnSpc>
                <a:spcPct val="9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tore hemodynamic stability with fluids, blood transfusion and fresh frozen plasma (contains clotting facto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3120" indent="-156960" algn="r" rtl="1">
              <a:lnSpc>
                <a:spcPct val="9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 bleeding with vasoconstrictive medications: somatostatin or octreotide, vasopress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3120" indent="-156960" algn="r" rtl="1">
              <a:lnSpc>
                <a:spcPct val="9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pper endoscopy to treat varices with banding (variceal ligation or endoscopic sclerosi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93120" indent="-156960" algn="r" rtl="1">
              <a:lnSpc>
                <a:spcPct val="9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alloon tamponade, if bleeding not controlled or endoscopy unavailable as short term measu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-lumen naso-gastric tube such as Sengstaken-Blakemore tube or Minnesota tube which have gastric and esophageal balloons to apply tension to control blee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scopic scler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lerosing agents injected into the vara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4582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RIPLE-LUMEN NASOGASTRIC TUBE (SENGSTAKEN-BLAKEMORE)</a:t>
            </a:r>
            <a:br>
              <a:rPr sz="3400"/>
            </a:b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057400" y="1695600"/>
            <a:ext cx="480060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600" spc="-1" strike="noStrike">
              <a:solidFill>
                <a:srgbClr val="d1282e"/>
              </a:solidFill>
              <a:latin typeface="Arial Black"/>
              <a:ea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of transjugular intrahepatic portosystemic shunt (TIP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hort-term measure to control portal hypertension (varices and asc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a stent to channel blood between portal and hepatic vein and bypassing liver (increases risk for hepatic encephalopat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TIPS PR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47" name="Picture 6" descr="tips"/>
          <p:cNvPicPr/>
          <p:nvPr/>
        </p:nvPicPr>
        <p:blipFill>
          <a:blip r:embed="rId1"/>
          <a:stretch/>
        </p:blipFill>
        <p:spPr>
          <a:xfrm>
            <a:off x="1143000" y="1295280"/>
            <a:ext cx="66294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GALLBLADD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gallstones are composed primarily of bile (80%); remainder are composed of a mixture of bile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 cholesterol in bile is associated with obesity, high-cholesterol diet and drugs that lower cholesterol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tones from gallbladder lodge in the cystic d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lnSpc>
                <a:spcPct val="7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re can be reflux of bile into the gallbladder and li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lnSpc>
                <a:spcPct val="7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allbladder has increased pressure leading to ischemia and inflam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lnSpc>
                <a:spcPct val="7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e ischemia can lead to necrosis of the gall blad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lnSpc>
                <a:spcPct val="7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f the common bile duct is obstructed, pancreatitis can devel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TIPS POS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49" name="Picture 6" descr="tipspost"/>
          <p:cNvPicPr/>
          <p:nvPr/>
        </p:nvPicPr>
        <p:blipFill>
          <a:blip r:embed="rId1"/>
          <a:stretch/>
        </p:blipFill>
        <p:spPr>
          <a:xfrm>
            <a:off x="2790720" y="2214720"/>
            <a:ext cx="2952720" cy="34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600" spc="-1" strike="noStrike">
              <a:solidFill>
                <a:srgbClr val="d1282e"/>
              </a:solidFill>
              <a:latin typeface="Arial Black"/>
              <a:ea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gery: liver transplant; contraindications include malignancy, active alcohol or drug abuse, poor surgical r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sing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 promotion includes education about relationship of alcohol and drug abuse with liver disorders; avoidance of viral hepat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 care includes teaching family to participate in disease management, possible hospice c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IRRHOSI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rsing Diagno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 Fluid Volu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urbed Thought Processes: Early identification of encephalopathy and appropriate interventions, i.e. client safety, avoidance of hepatoxic medications, low-protein diet, medications to tr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ffective Protection: Risks associated with impaired coagulation, esophageal varices, acute gastrit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ired Skin Integrity: Bile deposits on skin cause severe pruritis; topical treat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balanced Nutrition: Less than body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PANCREA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retes pancreatic enzymes that break down carbohydrates, proteins and fa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ancreatic duct runs from tail to the he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oins with the common bile duct at the ampulla of Vater which empties into the duoden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ypsin, Cymotrypsin,Elastase, Phospholipase and Lipase are all pancreatic  enzy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524"/>
              </a:spcBef>
              <a:buClr>
                <a:srgbClr val="d1282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hen they come into contact with the pancreas they result in vasodilation, increased vascular permeability, necrosis of the panc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600" spc="-1" strike="noStrike">
              <a:solidFill>
                <a:srgbClr val="d1282e"/>
              </a:solidFill>
              <a:latin typeface="Arial Black"/>
              <a:ea typeface="Tahoma"/>
            </a:endParaRPr>
          </a:p>
        </p:txBody>
      </p:sp>
      <p:pic>
        <p:nvPicPr>
          <p:cNvPr id="259" name="Picture 6" descr="pancreasgbladder"/>
          <p:cNvPicPr/>
          <p:nvPr/>
        </p:nvPicPr>
        <p:blipFill>
          <a:blip r:embed="rId1"/>
          <a:stretch/>
        </p:blipFill>
        <p:spPr>
          <a:xfrm>
            <a:off x="914400" y="160020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ammation of pancreas characterized by release of pancreatic enzymes into pancreatic tissue itself leading to hemorrhage and necro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tality rate is 10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rs as acute or chronic in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isk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oho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ll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ophysi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stitial pancreatitis: milder form leading to inflammation and edema of pancreatic tissue; often self-lim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rotizing pancreatitis: inflammation, hemorrhage, and necrosis of pancreatic tiss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cause is unknown; gallstones can cause bile reflux activating pancreatic enzymes; alcohol causes duodenal edema, obstructing pancreatic out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actors are trauma, surgery, tumors, infectious ag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pancreatitis, large volume of fluid shifts from circulation into retroperitoneal space, peripancreatic space, abdominal ca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fes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rupt onset of continuous severe epigastric and abdominal pain especially around the umbilicus, radiating to back and relieved somewhat by sitting up and leaning forward; initiated by fatty meal or alcohol inta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usea and vomi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distention and rigidity, fatty stools (steatorrhe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ed bowel sou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ver, cold and clammy sk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rs later: jaund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6 days: retroperitoneal bleeding, bruising in flanks (Turner sign) or around umbilicus (Cullen’s 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COMMON LOCATIONS OF GALLSTONES</a:t>
            </a:r>
            <a:br>
              <a:rPr sz="3100"/>
            </a:br>
            <a:endParaRPr b="0" lang="en-US" sz="31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01028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RANSON’S CRITERIA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admission or diagno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ver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BC over 16,000/m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over 200mg/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H over 350 iu/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artate aminotransferase level above 250 units/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48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CT drop &gt;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in BUN.5 mg/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um &lt; 8mg/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deficit &gt; 4 meq/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fluid sequestration &gt;6 l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80360" algn="r" rtl="1">
              <a:lnSpc>
                <a:spcPct val="80000"/>
              </a:lnSpc>
              <a:spcBef>
                <a:spcPts val="45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O2 &lt; 60 mm 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riterion worth 1 point: Mortality rates 1-2 points 1%, 3-4 points 16%, 5-6 points 40%, 7 or more points 100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mplic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Intravascular volume depletion leads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ute tubular necrosis and renal failure: 24 hours p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ute respiratory distress syndrome (ARDS): 3 – 7 days post, atelctasis, pneumonia, pleural e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complications of pancreatic necrosis, abscess, pseudocysts, pancreatic asci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ension due to third spacing of flui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 C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ute pancreatitis is usually a mild, self-limiting disease with care focused on eliminating causative factors, reducing pancreatic secretions, supportive c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re necrotizing pancreatitis requires intensive care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nic pancreatitis focuses on pain management and treatment of malabsorption and malnutr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tory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um amylase: 2 -3 times normal in 2 – 12 hours with acute; returns to normal in 3 – 4 d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um lipase: rises and remains elevated 7 – 14 d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um trypsinogen: elevated with acute; decreased with chron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ine amylase: rises with a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um glucose: transient elevation with a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um bilirubin and alkaline phosphatase: may be increased with compression of common bile duct with a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um calcium: hypocalcemia with acute, binds with fatty acids during tissue necro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BC:  elevated white blood cells cou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N, Creatinine: monitor renal 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trasounds to diagnose gallstones, pancreatic mass, pseudocy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 scan to identify pancreatic enlargement, fluid collections, areas of necro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scopic retrograde cholangiopancreatography (ERCP) diagnose chronic pancreatitis (acute pancreatitis can occur after this procedu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scopic ultras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utaneous fine-needle aspiration biopsy to differentiate between chronic pancreatitis and maligna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ute pancreatitis is supportive and includes hydration, pain control, and antibiotics, oxyge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nic pancreatitis includes pain management without causing drug depen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tions may inclu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9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ancreatic enzyme supplements to reduce steatorrh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9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2 blockers or proton pump inhibitors to decrease gastric secre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167760" algn="r" rtl="1">
              <a:lnSpc>
                <a:spcPct val="90000"/>
              </a:lnSpc>
              <a:spcBef>
                <a:spcPts val="575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ctreotide (sandostatin) to suppress pancreatic secre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luid and dietar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ly client is NPO usually with nasogastric suction, intravenous fluids and possibly total parenteral nu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al food and fluids begun as condition reso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fat diet and no alcoh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rgeries inclu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ed gallstones may be removed endoscop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cystectomy for cholelithi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inage procedures or resection of pancreas may be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600" spc="-1" strike="noStrike">
              <a:solidFill>
                <a:srgbClr val="d1282e"/>
              </a:solidFill>
              <a:latin typeface="Arial Black"/>
              <a:ea typeface="Tahoma"/>
            </a:endParaRPr>
          </a:p>
        </p:txBody>
      </p:sp>
      <p:pic>
        <p:nvPicPr>
          <p:cNvPr id="283" name="Picture 6" descr="pancreatitis_2"/>
          <p:cNvPicPr/>
          <p:nvPr/>
        </p:nvPicPr>
        <p:blipFill>
          <a:blip r:embed="rId1"/>
          <a:stretch/>
        </p:blipFill>
        <p:spPr>
          <a:xfrm>
            <a:off x="1727280" y="1906560"/>
            <a:ext cx="507996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600" spc="-1" strike="noStrike">
              <a:solidFill>
                <a:srgbClr val="d1282e"/>
              </a:solidFill>
              <a:latin typeface="Arial Black"/>
              <a:ea typeface="Tahoma"/>
            </a:endParaRPr>
          </a:p>
        </p:txBody>
      </p:sp>
      <p:pic>
        <p:nvPicPr>
          <p:cNvPr id="285" name="Picture 6" descr="pancreatitis1"/>
          <p:cNvPicPr/>
          <p:nvPr/>
        </p:nvPicPr>
        <p:blipFill>
          <a:blip r:embed="rId1"/>
          <a:stretch/>
        </p:blipFill>
        <p:spPr>
          <a:xfrm>
            <a:off x="2362320" y="241452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sing Diagn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ired Nutrition: Less than body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for Deficient Fluid Vol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 Care: Client and family teaching to include prevention of future attacks including abstinence from alcohol and smoking; low fat diet; monitoring for signs of infection (as with abscess form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GALLBLADD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Risk factors for cholelithiasi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mily history, also Native Americans and persons of northern European herit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esity, hyperlipidemi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males, use of oral contraceptiv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ditions which lead to biliary stasis:  pregnancy, fasting, prolonged parenteral nutri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ases including cirrhosis, ileal disease or resection, sickle-cell anemia, glucose intoleran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ncreatic Can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s for 2% of cancers; most are adenocarcinoma; most common site is head of the pancr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lethal death within 1 – 3 years after diagno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ce increases after age 50; slightly higher in females; and slightly higher African Americ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isk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actors include chemical or environmental toxins, high fat diet, chronic pancreatitis, diabetes melli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nifes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nonspecific; up to 85% persons seek health care with advanced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ow onset:  anorexia, nausea, weight loss, flatulence, dull epigastic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cer in head of pancreas causes bile obstruction resulting in jaundice, clay colored stools, dark urine, prur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: palpable mass and asci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Black"/>
              </a:rPr>
              <a:t>DISORDER OF THE EXOCRINE PANCREAS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eat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gery is indicated in early canc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oduodenectomy (Whipple’s proced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the proximal head of the pancreas, the duodenum, a portion of the jejunum, the stomach and the gall bl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creatic duct, common bile duct and the stomach are attached to the jeju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ation and 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Arial Black"/>
              </a:rPr>
              <a:t>WHIPPLE PROCEDUR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95" name="Picture 6" descr="whipple2"/>
          <p:cNvPicPr/>
          <p:nvPr/>
        </p:nvPicPr>
        <p:blipFill>
          <a:blip r:embed="rId1"/>
          <a:stretch/>
        </p:blipFill>
        <p:spPr>
          <a:xfrm>
            <a:off x="2071800" y="2611440"/>
            <a:ext cx="43909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1"/>
          <p:cNvSpPr/>
          <p:nvPr/>
        </p:nvSpPr>
        <p:spPr>
          <a:xfrm>
            <a:off x="3667680" y="380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Question2.JPG"/>
          <p:cNvPicPr/>
          <p:nvPr/>
        </p:nvPicPr>
        <p:blipFill>
          <a:blip r:embed="rId1"/>
          <a:stretch/>
        </p:blipFill>
        <p:spPr>
          <a:xfrm>
            <a:off x="0" y="0"/>
            <a:ext cx="815328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question in the sky.jpg"/>
          <p:cNvPicPr/>
          <p:nvPr/>
        </p:nvPicPr>
        <p:blipFill>
          <a:blip r:embed="rId2"/>
          <a:stretch/>
        </p:blipFill>
        <p:spPr>
          <a:xfrm>
            <a:off x="0" y="0"/>
            <a:ext cx="815328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2010-02-04-Questions.jpg"/>
          <p:cNvPicPr/>
          <p:nvPr/>
        </p:nvPicPr>
        <p:blipFill>
          <a:blip r:embed="rId3"/>
          <a:stretch/>
        </p:blipFill>
        <p:spPr>
          <a:xfrm>
            <a:off x="6019920" y="0"/>
            <a:ext cx="21333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612000" y="68580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f0"/>
                </a:solidFill>
                <a:latin typeface="Arial"/>
                <a:ea typeface="B Badr"/>
              </a:rPr>
              <a:t>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Q and A.JPG"/>
          <p:cNvPicPr/>
          <p:nvPr/>
        </p:nvPicPr>
        <p:blipFill>
          <a:blip r:embed="rId4"/>
          <a:stretch/>
        </p:blipFill>
        <p:spPr>
          <a:xfrm>
            <a:off x="0" y="2895480"/>
            <a:ext cx="6019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" descr="thank_you_so_much-726115.gif"/>
          <p:cNvPicPr/>
          <p:nvPr/>
        </p:nvPicPr>
        <p:blipFill>
          <a:blip r:embed="rId1"/>
          <a:stretch/>
        </p:blipFill>
        <p:spPr>
          <a:xfrm>
            <a:off x="0" y="0"/>
            <a:ext cx="815328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hug.jpg"/>
          <p:cNvPicPr/>
          <p:nvPr/>
        </p:nvPicPr>
        <p:blipFill>
          <a:blip r:embed="rId2"/>
          <a:stretch/>
        </p:blipFill>
        <p:spPr>
          <a:xfrm>
            <a:off x="6004080" y="4194000"/>
            <a:ext cx="31590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GALLBLADDER DISORDE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festations of cholelithia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persons are asymptoma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symptoms are epigastic fullness after meals or mild distress after eating a fatty m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iary colic (if stone is blocking cystic or common bile duct): steady pain in epigastric or RUQ of abdomen lasting up to 5 hours with nausea and vomi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undice may occur if there is obstruction of common bile du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6:42:47Z</dcterms:created>
  <dc:creator>kmasket</dc:creator>
  <dc:description/>
  <dc:language>en-US</dc:language>
  <cp:lastModifiedBy>dell</cp:lastModifiedBy>
  <dcterms:modified xsi:type="dcterms:W3CDTF">2015-05-11T20:39:27Z</dcterms:modified>
  <cp:revision>30</cp:revision>
  <dc:subject/>
  <dc:title>Gallbladder Disorders</dc:title>
</cp:coreProperties>
</file>