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12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8.png" ContentType="image/png"/>
  <Override PartName="/ppt/media/image16.wmf" ContentType="image/x-wmf"/>
  <Override PartName="/ppt/media/image6.jpeg" ContentType="image/jpeg"/>
  <Override PartName="/ppt/media/image27.jpeg" ContentType="image/jpeg"/>
  <Override PartName="/ppt/media/image22.wmf" ContentType="image/x-wmf"/>
  <Override PartName="/ppt/media/image21.png" ContentType="image/png"/>
  <Override PartName="/ppt/media/image19.jpeg" ContentType="image/jpeg"/>
  <Override PartName="/ppt/media/image17.wmf" ContentType="image/x-wmf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7F30-E60F-49AD-84FB-FF97FE7ED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characteristics of contractions and how these related to labor progr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A32A-BE0E-41D0-90F8-D936BE202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should the nurse auscultate to assess fetal heart ton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E3AB-5794-4CF0-B6F9-63E4355D9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A8B6-E7AD-4FA8-A99A-DF6254148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FB14-EFBD-49F1-9BFD-228E3EC12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5029-8416-4484-82AD-259CA9936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ursing care related to the second stage of lab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53DF-9AD6-4062-92C0-3D06527C7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ursing care related to the third stage of lab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530C-5A95-4DDA-A424-61D889FE5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2DD8-E024-4901-AE8F-272B5B3A0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causes of pain during the first stage of labor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E670-76DD-4392-9D20-45506A6E7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causes of pain during the second stage of labo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BCBD-42DA-4E72-B838-FB303C79E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factors that may influence a woman's response to p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E873-679D-4CA2-8FE7-DD444ECBF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methods of non-pharmacologic pain relief in providing general comfo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7A17-6317-4C1B-8A55-2D44A6997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F041-2DC7-47F1-84EB-1DEFB65D2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;  false – keep flat following spinal anesthesia;  false – it is hypo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5C8C-3FCD-44FD-94A6-9E6D0BF6C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portions of the woman's health history represent priority information for the Labor &amp; Delivery nur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nurse maintain confidentiality in the L &amp; D set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E5E4-DB73-4A78-9BFE-A548D240F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ormal progress, psychological characteristics, and nursing care related to each of the phases of the first stage of labor?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La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Tran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8F3D-5498-4700-A8EC-7EAD8C8D4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contractions assessed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characteristics of contractions and how these related to labor progr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F72D-69CC-4A99-A33B-CD1CEDB4C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steps in performing a Leopold’s maneuver?  What are the findings associated with performing Leopold's Maneuver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7B9C-DCDA-4297-AF0A-4F543D15F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D6BE-2094-4984-942A-4AEF60D6A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F4DE-5A56-4985-91C0-45BEED74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C8F6-0A00-4673-9553-2077AF592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51CC-8301-478A-9BE3-D290D1410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6991-0B15-4D9C-93DB-AA6AA98D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9999-9318-4DE8-9A1A-1636C4D6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3821-73CC-49DB-AA4A-DED8D0F6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2A98-0FD7-4F70-816E-C7C48CD2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4587-4C41-4443-9580-17F4A7C9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3077-58B2-4293-BE0D-21ED70D6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61D5-DD05-474A-A388-54243F18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72B8-B5A7-4ED3-A0C6-8A903387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D5E3-AEF8-4BBE-AC81-1A258E983CF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735"/>
                </a:solidFill>
                <a:latin typeface="Arial"/>
              </a:rPr>
              <a:t>Nursing Care</a:t>
            </a:r>
            <a:br>
              <a:rPr sz="2800"/>
            </a:br>
            <a:r>
              <a:rPr b="1" lang="en-US" sz="2800" spc="-1" strike="noStrike">
                <a:solidFill>
                  <a:srgbClr val="953735"/>
                </a:solidFill>
                <a:latin typeface="Arial"/>
              </a:rPr>
              <a:t>during</a:t>
            </a:r>
            <a:br>
              <a:rPr sz="2800"/>
            </a:br>
            <a:r>
              <a:rPr b="1" lang="en-US" sz="2800" spc="-1" strike="noStrike">
                <a:solidFill>
                  <a:srgbClr val="953735"/>
                </a:solidFill>
                <a:latin typeface="Arial"/>
              </a:rPr>
              <a:t> Labor and Delivery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396252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r. Fatima Makee AL-Hak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iversity of kerbal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llege of nurs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AAFJFJE0"/>
          <p:cNvPicPr/>
          <p:nvPr/>
        </p:nvPicPr>
        <p:blipFill>
          <a:blip r:embed="rId1"/>
          <a:srcRect l="0" t="0" r="0" b="5551"/>
          <a:stretch/>
        </p:blipFill>
        <p:spPr>
          <a:xfrm>
            <a:off x="1371600" y="1447920"/>
            <a:ext cx="2884320" cy="25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Picture 5" descr="AAFJFJD0"/>
          <p:cNvPicPr/>
          <p:nvPr/>
        </p:nvPicPr>
        <p:blipFill>
          <a:blip r:embed="rId2"/>
          <a:srcRect l="0" t="0" r="0" b="5258"/>
          <a:stretch/>
        </p:blipFill>
        <p:spPr>
          <a:xfrm>
            <a:off x="5715000" y="3657600"/>
            <a:ext cx="251604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7" name="TextBox 6"/>
          <p:cNvSpPr/>
          <p:nvPr/>
        </p:nvSpPr>
        <p:spPr>
          <a:xfrm>
            <a:off x="1143000" y="4191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Arial"/>
              </a:rPr>
              <a:t>Step 2</a:t>
            </a:r>
            <a:r>
              <a:rPr b="0" lang="en-US" sz="2400" spc="-1" strike="noStrike">
                <a:solidFill>
                  <a:srgbClr val="eeece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o down each side and locate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5638680" y="1600200"/>
            <a:ext cx="266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Arial"/>
              </a:rPr>
              <a:t>Step 3</a:t>
            </a:r>
            <a:r>
              <a:rPr b="0" lang="en-US" sz="2400" spc="-1" strike="noStrike">
                <a:solidFill>
                  <a:srgbClr val="eeece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ently grasp lower portion of uterus  and feel for the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2438280" y="4419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Arial"/>
              </a:rPr>
              <a:t>Step 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urn and face the woman and repeat the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AAFJFJC0"/>
          <p:cNvPicPr/>
          <p:nvPr/>
        </p:nvPicPr>
        <p:blipFill>
          <a:blip r:embed="rId1"/>
          <a:stretch/>
        </p:blipFill>
        <p:spPr>
          <a:xfrm>
            <a:off x="2895480" y="1295280"/>
            <a:ext cx="3340080" cy="290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91404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stics of a Contr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ontent Placeholder 3" descr=""/>
          <p:cNvPicPr/>
          <p:nvPr/>
        </p:nvPicPr>
        <p:blipFill>
          <a:blip r:embed="rId1"/>
          <a:stretch/>
        </p:blipFill>
        <p:spPr>
          <a:xfrm>
            <a:off x="444600" y="1590840"/>
            <a:ext cx="825480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scul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AAFAOFJ0"/>
          <p:cNvPicPr/>
          <p:nvPr/>
        </p:nvPicPr>
        <p:blipFill>
          <a:blip r:embed="rId1"/>
          <a:srcRect l="0" t="4551" r="10010" b="6815"/>
          <a:stretch/>
        </p:blipFill>
        <p:spPr>
          <a:xfrm>
            <a:off x="1676520" y="1523880"/>
            <a:ext cx="2209680" cy="29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AAFAOFK0"/>
          <p:cNvPicPr/>
          <p:nvPr/>
        </p:nvPicPr>
        <p:blipFill>
          <a:blip r:embed="rId2"/>
          <a:srcRect l="3339" t="9368" r="0" b="0"/>
          <a:stretch/>
        </p:blipFill>
        <p:spPr>
          <a:xfrm>
            <a:off x="5638680" y="3886200"/>
            <a:ext cx="2210040" cy="221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TextBox 5"/>
          <p:cNvSpPr/>
          <p:nvPr/>
        </p:nvSpPr>
        <p:spPr>
          <a:xfrm>
            <a:off x="609480" y="487692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27d"/>
                </a:solidFill>
                <a:latin typeface="Arial"/>
              </a:rPr>
              <a:t>Location of FHR in relation to the more commonly seen fetal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k Yourself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 fetal heart tones (FHT’s) are heard loudest (PMI) in the patient’s upper right quadrant of her abdomen, the fetus would be assessed for a breech present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Tr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 Fal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ginal Exam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66680" y="1599840"/>
            <a:ext cx="42674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Information Obtained</a:t>
            </a: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dition of Membranes --ruptured or inta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lation - enlargement and widening of os  ( cm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ffacement- thinning of the cervix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(%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g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AAFJFJA0"/>
          <p:cNvPicPr/>
          <p:nvPr/>
        </p:nvPicPr>
        <p:blipFill>
          <a:blip r:embed="rId1"/>
          <a:srcRect l="5259" t="11706" r="5259" b="0"/>
          <a:stretch/>
        </p:blipFill>
        <p:spPr>
          <a:xfrm>
            <a:off x="5486400" y="1752480"/>
            <a:ext cx="2933640" cy="1952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tal Oxyge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142640" y="19810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n assessments related to fetal well-being a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tal Heart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stics of amniotic flu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ernal vital sig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4" descr=""/>
          <p:cNvPicPr/>
          <p:nvPr/>
        </p:nvPicPr>
        <p:blipFill>
          <a:blip r:embed="rId1"/>
          <a:stretch/>
        </p:blipFill>
        <p:spPr>
          <a:xfrm>
            <a:off x="1547640" y="2462040"/>
            <a:ext cx="701676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7560" y="761760"/>
            <a:ext cx="7086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gns and Symptoms of the Stage 1 - Latent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294920" y="20570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action:  dilate 0-3 c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ation – 30-45 sec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quency – 5-20 min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ant pinkish discharge, bloody sh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ther’s respo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ge of energy and exci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lkative, outgo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xiety 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**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st time to do teach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040" y="8380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rsing Ca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ge 1 – Latent 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294920" y="2361960"/>
            <a:ext cx="70866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Welcome to the Hospital</a:t>
            </a: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Assess goals for this la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Assess Psychological respo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Orient to common proced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tal signs and FHT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e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ment of Labor Progress – dilation, effacement, station, lie, et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Object 4"/>
          <p:cNvGraphicFramePr/>
          <p:nvPr/>
        </p:nvGraphicFramePr>
        <p:xfrm>
          <a:off x="5491080" y="4114800"/>
          <a:ext cx="100332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91080" y="4114800"/>
                    <a:ext cx="10033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590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Establishing a </a:t>
            </a:r>
            <a:br>
              <a:rPr sz="4400"/>
            </a:b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Therapeutic Relation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040" y="7617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ge 1 – Active Pha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Signs and Sympto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18960" y="2209680"/>
            <a:ext cx="7086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actions – dilate 4-7 c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ation – 45-60 sec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quency – 2-5 min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ther’s Respo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serio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rmined, Depen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t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es on 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ge 1 – Active Phase Nursing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94920" y="2057400"/>
            <a:ext cx="7086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icipate Nee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onge face with cool clo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ep bed clean and dry- change chu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with mouth care – lip balm to l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ss voi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-Pharmacological Meas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ified breath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leur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gesia and Anesthe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ge 1 – Transition Phase    Signs and Symp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294920" y="205704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actions  7-10 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o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rregular with multiple pea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ation – 60-90 sec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quency – 2 min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ther’s respo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drawn, drows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usea, trembling of le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rritable, aggres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ge to p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7617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ge 1- Transition Nursing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218960" y="20570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support- may need to breathe with the patient – get in her 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 ru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st with pant-blow brea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ch for hypervention – have breathe in mask and slow down the brea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allow to push by having patient blow-blow-blow with ur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be offended by irrit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6094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ge Two of La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294920" y="1905120"/>
            <a:ext cx="7086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8c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c4c0"/>
                </a:solidFill>
                <a:latin typeface="Calibri"/>
              </a:rPr>
              <a:t>Signs and Symptoms</a:t>
            </a:r>
            <a:r>
              <a:rPr b="0" lang="en-US" sz="3200" spc="-1" strike="noStrike">
                <a:solidFill>
                  <a:srgbClr val="08c4c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dden Appearance of sweat on upper l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episode of vom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 in bloody sh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king of extrem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restless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sure on rectum; involuntary bearing d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lging of perine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6665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ge 2  Nursing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66320" y="1371240"/>
            <a:ext cx="7086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21200" indent="-4212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key to care during this stag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1200" indent="-42120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 to teach </a:t>
            </a:r>
            <a:r>
              <a:rPr b="1" i="1" lang="en-US" sz="3200" spc="-1" strike="noStrike">
                <a:solidFill>
                  <a:srgbClr val="08c4c0"/>
                </a:solidFill>
                <a:latin typeface="Calibri"/>
              </a:rPr>
              <a:t>QUALITY PUSHING</a:t>
            </a:r>
            <a:r>
              <a:rPr b="1" i="1" lang="en-US" sz="3200" spc="-1" strike="noStrike">
                <a:solidFill>
                  <a:srgbClr val="08c4c0"/>
                </a:solidFill>
                <a:latin typeface="Calibri"/>
              </a:rPr>
              <a:t>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1200" indent="-42120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1200" indent="-421200" algn="r" rtl="1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alibri"/>
              </a:rPr>
              <a:t>Keep perineum clean and d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1200" indent="-421200" algn="r" rtl="1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1200" indent="-421200" algn="r" rtl="1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alibri"/>
              </a:rPr>
              <a:t>Provide quiet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1200" indent="-421200" algn="r" rtl="1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1200" indent="-421200" algn="r" rtl="1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alibri"/>
              </a:rPr>
              <a:t>Support with positive feedba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1200" indent="-421200" algn="r" rtl="1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1200" indent="-421200" algn="r" rtl="1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alibri"/>
              </a:rPr>
              <a:t>Repeat doctors in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1200" indent="-421200" algn="r" rtl="1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1200" indent="-421200" algn="r" rtl="1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alibri"/>
              </a:rPr>
              <a:t>Allow to hold the baby ,  Congratulate</a:t>
            </a:r>
            <a:r>
              <a:rPr b="1" lang="en-US" sz="3200" spc="-1" strike="noStrike">
                <a:solidFill>
                  <a:srgbClr val="003399"/>
                </a:solidFill>
                <a:latin typeface="Calibri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1200" indent="-421200" algn="r" rtl="1">
              <a:lnSpc>
                <a:spcPct val="90000"/>
              </a:lnSpc>
              <a:spcBef>
                <a:spcPts val="799"/>
              </a:spcBef>
              <a:buClr>
                <a:srgbClr val="08c4c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1200" indent="-421200" algn="r" rtl="1">
              <a:lnSpc>
                <a:spcPct val="90000"/>
              </a:lnSpc>
              <a:spcBef>
                <a:spcPts val="799"/>
              </a:spcBef>
              <a:buClr>
                <a:srgbClr val="08c4c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1200" indent="-421200" algn="r" rtl="1">
              <a:lnSpc>
                <a:spcPct val="90000"/>
              </a:lnSpc>
              <a:spcBef>
                <a:spcPts val="799"/>
              </a:spcBef>
              <a:buClr>
                <a:srgbClr val="08c4c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1200" indent="-421200" algn="r" rtl="1">
              <a:lnSpc>
                <a:spcPct val="90000"/>
              </a:lnSpc>
              <a:spcBef>
                <a:spcPts val="799"/>
              </a:spcBef>
              <a:buClr>
                <a:srgbClr val="08c4c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1200" indent="-4212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1200" indent="-4212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7617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ge 2 – Nursing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Rectangle 12" descr=""/>
          <p:cNvPicPr/>
          <p:nvPr/>
        </p:nvPicPr>
        <p:blipFill>
          <a:blip r:embed="rId1"/>
          <a:stretch/>
        </p:blipFill>
        <p:spPr>
          <a:xfrm>
            <a:off x="1616040" y="2133720"/>
            <a:ext cx="6156360" cy="263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5331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ge 3 – Nursing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18960" y="182844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gratulate on delivery of bab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ch in relaxation for </a:t>
            </a:r>
            <a:r>
              <a:rPr b="0" lang="en-US" sz="3200" spc="-1" strike="noStrike">
                <a:solidFill>
                  <a:srgbClr val="003399"/>
                </a:solidFill>
                <a:latin typeface="Calibri"/>
              </a:rPr>
              <a:t>delivery of the placen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itiate contact with the inf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allow to breast feed if des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Yoursel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ardinal movement that facilitates the emergence of the fetal he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____________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.  Flex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.  Exten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.  External ro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dinal movement that allows the smallest diameter of the head to pass through the pelvis 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__________________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.  Flex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.  Internal ro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.  Exten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dinal movement that occurs as the fetal shoulders engage and descend through the pelvis is term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______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.  Internal ro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.  External ro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tangle 1" descr=""/>
          <p:cNvPicPr/>
          <p:nvPr/>
        </p:nvPicPr>
        <p:blipFill>
          <a:blip r:embed="rId1"/>
          <a:stretch/>
        </p:blipFill>
        <p:spPr>
          <a:xfrm>
            <a:off x="1401840" y="1378080"/>
            <a:ext cx="6851520" cy="41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ablishing a Therapeutic Relatio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ke the family feel wel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termine family expectations about bir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vey confide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 touch for Comfo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spect cultural valu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560" y="7617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uses of Pain in La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1447920" y="3440160"/>
          <a:ext cx="356076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440160"/>
                    <a:ext cx="356076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4"/>
          <p:cNvSpPr/>
          <p:nvPr/>
        </p:nvSpPr>
        <p:spPr>
          <a:xfrm>
            <a:off x="1371600" y="4267080"/>
            <a:ext cx="2441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4491000" y="2666880"/>
            <a:ext cx="36165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tching of the cervi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dilation &amp; eff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5179320" y="4343400"/>
            <a:ext cx="1978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terine Anox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645080" y="5638680"/>
            <a:ext cx="2427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tching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terine liga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uses of Pain in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 La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Object 3"/>
          <p:cNvGraphicFramePr/>
          <p:nvPr/>
        </p:nvGraphicFramePr>
        <p:xfrm>
          <a:off x="685800" y="2727360"/>
          <a:ext cx="4191120" cy="25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27360"/>
                    <a:ext cx="419112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4"/>
          <p:cNvSpPr/>
          <p:nvPr/>
        </p:nvSpPr>
        <p:spPr>
          <a:xfrm>
            <a:off x="1226880" y="3352680"/>
            <a:ext cx="155304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4872240" y="1905120"/>
            <a:ext cx="372924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ention of the vagina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ne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871520" y="3124080"/>
            <a:ext cx="4011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ression of the ne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nglia in cervix &amp; lower ute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4796640" y="4114800"/>
            <a:ext cx="3729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sure on urethra, bladd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tum during fetal des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4730400" y="5029200"/>
            <a:ext cx="3772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ction on and stretching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erine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7617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tors affecting Mothers Response to Pain in La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371600" y="228600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236520" indent="-236520" algn="r" rtl="1">
              <a:spcBef>
                <a:spcPts val="7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paration - Knowledge and confidence gained through childbirth class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 algn="r" rtl="1">
              <a:spcBef>
                <a:spcPts val="7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ltural influences on expression of p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 algn="r" rtl="1">
              <a:spcBef>
                <a:spcPts val="7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ernal fatigue, anxiety, sleep depri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 algn="r" rtl="1">
              <a:spcBef>
                <a:spcPts val="7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vious experiences with p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 algn="r" rtl="1">
              <a:spcBef>
                <a:spcPts val="7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 algn="r" rtl="1">
              <a:spcBef>
                <a:spcPts val="7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1" descr=""/>
          <p:cNvPicPr/>
          <p:nvPr/>
        </p:nvPicPr>
        <p:blipFill>
          <a:blip r:embed="rId1"/>
          <a:stretch/>
        </p:blipFill>
        <p:spPr>
          <a:xfrm>
            <a:off x="1219320" y="1504800"/>
            <a:ext cx="710244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s of Pain Relie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371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alibri"/>
              </a:rPr>
              <a:t>Nonpharmacolog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Childbirth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athing Techn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axation Techn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u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ing attention on one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Effleur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5" descr="AAFJFKA0"/>
          <p:cNvPicPr/>
          <p:nvPr/>
        </p:nvPicPr>
        <p:blipFill>
          <a:blip r:embed="rId1"/>
          <a:stretch/>
        </p:blipFill>
        <p:spPr>
          <a:xfrm>
            <a:off x="5715000" y="1752480"/>
            <a:ext cx="2827440" cy="19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Pharmacological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Sensory Stim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stening to music; subdued ligh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age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ing heat and co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ssage (lower back);  Counterpress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ition Cha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" name="Object 4"/>
          <p:cNvGraphicFramePr/>
          <p:nvPr/>
        </p:nvGraphicFramePr>
        <p:xfrm>
          <a:off x="6705720" y="1905120"/>
          <a:ext cx="2025360" cy="128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1905120"/>
                    <a:ext cx="2025360" cy="12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Rectangle 1" descr=""/>
          <p:cNvPicPr/>
          <p:nvPr/>
        </p:nvPicPr>
        <p:blipFill>
          <a:blip r:embed="rId1"/>
          <a:stretch/>
        </p:blipFill>
        <p:spPr>
          <a:xfrm>
            <a:off x="1695600" y="2352600"/>
            <a:ext cx="66625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in Relief in La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04960" y="22096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armacologic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Analges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d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Barbitu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al;  Nembu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Tranquiliz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star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1905120" y="2057400"/>
          <a:ext cx="976320" cy="14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057400"/>
                    <a:ext cx="976320" cy="14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in Relief in La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teria for administering an analges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s to be in 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active pha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lab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give in latent phase – it may slow lab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give in transition phase – can lead to neonatal respiratory de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esthes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Reg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acerv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pidural;  Caud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i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dend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Lo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General</a:t>
            </a: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d mainly in cesarean delive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5678640" y="3276720"/>
          <a:ext cx="2006280" cy="5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78640" y="3276720"/>
                    <a:ext cx="20062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Rectangle 3" descr=""/>
          <p:cNvPicPr/>
          <p:nvPr/>
        </p:nvPicPr>
        <p:blipFill>
          <a:blip r:embed="rId1"/>
          <a:stretch/>
        </p:blipFill>
        <p:spPr>
          <a:xfrm>
            <a:off x="1066680" y="2498760"/>
            <a:ext cx="77961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pidural Anesthes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5" descr="AAFJFKU0"/>
          <p:cNvPicPr/>
          <p:nvPr/>
        </p:nvPicPr>
        <p:blipFill>
          <a:blip r:embed="rId1"/>
          <a:stretch/>
        </p:blipFill>
        <p:spPr>
          <a:xfrm>
            <a:off x="1617840" y="1600200"/>
            <a:ext cx="5908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8" name="Picture 5" descr="AAFJFKU0"/>
          <p:cNvPicPr/>
          <p:nvPr/>
        </p:nvPicPr>
        <p:blipFill>
          <a:blip r:embed="rId2"/>
          <a:srcRect l="10377" t="7387" r="6608" b="53212"/>
          <a:stretch/>
        </p:blipFill>
        <p:spPr>
          <a:xfrm>
            <a:off x="1295280" y="2057400"/>
            <a:ext cx="3886200" cy="141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9" name="TextBox 5"/>
          <p:cNvSpPr/>
          <p:nvPr/>
        </p:nvSpPr>
        <p:spPr>
          <a:xfrm>
            <a:off x="838080" y="4191120"/>
            <a:ext cx="36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jection of an anesthetic agent into the epidural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pain relief during labor an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7560" y="9140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rsing Care related to an epidu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43000" y="1904760"/>
            <a:ext cx="73915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 algn="r" rtl="1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Prepa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ss platelet count – must be norm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pty blad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ss vital signs for base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V flu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 algn="r" rtl="1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Follow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ss V/S – especially the B/P because the main side effect is hypot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tate position between righ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eft side-l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ss bladder and catheterize as nee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ss for other side effects and interve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inal Anesthes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2" descr="AAFJFKT0"/>
          <p:cNvPicPr/>
          <p:nvPr/>
        </p:nvPicPr>
        <p:blipFill>
          <a:blip r:embed="rId1"/>
          <a:srcRect l="7446" t="68712" r="47865" b="4982"/>
          <a:stretch/>
        </p:blipFill>
        <p:spPr>
          <a:xfrm>
            <a:off x="1371600" y="2057400"/>
            <a:ext cx="2743200" cy="35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4" name="TextBox 4"/>
          <p:cNvSpPr/>
          <p:nvPr/>
        </p:nvSpPr>
        <p:spPr>
          <a:xfrm>
            <a:off x="4495680" y="2286000"/>
            <a:ext cx="3353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cal anesthetic is injected directly into the spinal fluid in the spinal canal to provide anesthesia for cesarean birth and occasionally for vaginal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dendal Anesthes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5" descr="AAFJFKY0"/>
          <p:cNvPicPr/>
          <p:nvPr/>
        </p:nvPicPr>
        <p:blipFill>
          <a:blip r:embed="rId1"/>
          <a:stretch/>
        </p:blipFill>
        <p:spPr>
          <a:xfrm>
            <a:off x="2666880" y="1633680"/>
            <a:ext cx="3810240" cy="445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7" name="TextBox 4"/>
          <p:cNvSpPr/>
          <p:nvPr/>
        </p:nvSpPr>
        <p:spPr>
          <a:xfrm>
            <a:off x="1219320" y="2057400"/>
            <a:ext cx="3581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esthesia administered transvaginally and intercepts pudendal ner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pain relief for episiotomy and delive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Straight Arrow Connector 6"/>
          <p:cNvCxnSpPr/>
          <p:nvPr/>
        </p:nvCxnSpPr>
        <p:spPr>
          <a:xfrm>
            <a:off x="4419720" y="2895480"/>
            <a:ext cx="16768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8"/>
          <p:cNvCxnSpPr/>
          <p:nvPr/>
        </p:nvCxnSpPr>
        <p:spPr>
          <a:xfrm>
            <a:off x="4038480" y="4952520"/>
            <a:ext cx="1982160" cy="381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cal Anesthes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5" descr="AAFJFKX0"/>
          <p:cNvPicPr/>
          <p:nvPr/>
        </p:nvPicPr>
        <p:blipFill>
          <a:blip r:embed="rId1"/>
          <a:srcRect l="4879" t="4546" r="4934" b="6819"/>
          <a:stretch/>
        </p:blipFill>
        <p:spPr>
          <a:xfrm>
            <a:off x="1066680" y="2286000"/>
            <a:ext cx="3581640" cy="377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2" name="TextBox 4"/>
          <p:cNvSpPr/>
          <p:nvPr/>
        </p:nvSpPr>
        <p:spPr>
          <a:xfrm>
            <a:off x="5105520" y="2438280"/>
            <a:ext cx="281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27d"/>
                </a:solidFill>
                <a:latin typeface="Arial"/>
              </a:rPr>
              <a:t>Local injection of anesthetic agent in the perineum for episiotomy and re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ral Anesthes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nly used for emergency deliveries via cesarean bi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 delivery of the woman with active  herpes who will require a cesarean delivery.   Do not want fetus to go through the birth canal and risk contac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057040" y="76176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ue or Fals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142640" y="1523880"/>
            <a:ext cx="70866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 anesthesia used for both labor and delivery is an epidu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.  Tr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.  Fa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 nurse would be careful to keep the patient flat following delivery with a pudendal blo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.  Tr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.  Fa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 initial side effect of an epidural anesthesia is fetal bradycar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.  Tr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.  Fa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alth 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066320" y="1752480"/>
            <a:ext cx="7086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nce the woman has been admitted and labor progress has been assessed, the following additional information regarding health history is collecte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onal data – blood type, allergies, et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story of previous illn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blems with this pregna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ferences for labor and delive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ation for childbi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dmission t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bor and Delive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ments performed on admission includ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tal sig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ysical exam with a vaginal ex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action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rane 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tal 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sychosocial assessment, cultural assess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paration for labor and deliv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Rectangle 1" descr=""/>
          <p:cNvPicPr/>
          <p:nvPr/>
        </p:nvPicPr>
        <p:blipFill>
          <a:blip r:embed="rId1"/>
          <a:stretch/>
        </p:blipFill>
        <p:spPr>
          <a:xfrm>
            <a:off x="1725480" y="1968480"/>
            <a:ext cx="53341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ssment of Contr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3" descr=""/>
          <p:cNvPicPr/>
          <p:nvPr/>
        </p:nvPicPr>
        <p:blipFill>
          <a:blip r:embed="rId1"/>
          <a:stretch/>
        </p:blipFill>
        <p:spPr>
          <a:xfrm>
            <a:off x="1146240" y="1676520"/>
            <a:ext cx="7022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alp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opold’s Maneuv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AAFJFJF0"/>
          <p:cNvPicPr/>
          <p:nvPr/>
        </p:nvPicPr>
        <p:blipFill>
          <a:blip r:embed="rId1"/>
          <a:stretch/>
        </p:blipFill>
        <p:spPr>
          <a:xfrm>
            <a:off x="2819520" y="2971800"/>
            <a:ext cx="2819160" cy="270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" name="Rectangle 4"/>
          <p:cNvSpPr/>
          <p:nvPr/>
        </p:nvSpPr>
        <p:spPr>
          <a:xfrm>
            <a:off x="1219320" y="20574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Start by:  </a:t>
            </a:r>
            <a:r>
              <a:rPr b="0" lang="en-US" sz="2400" spc="-1" strike="noStrike">
                <a:solidFill>
                  <a:srgbClr val="953735"/>
                </a:solidFill>
                <a:latin typeface="Arial"/>
              </a:rPr>
              <a:t>Stand on the Right side, face the woman and palpate with the palms of the h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1066680" y="57913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Arial"/>
              </a:rPr>
              <a:t>Step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tart at upper fundus and palpate for the head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oc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7T22:29:30Z</dcterms:created>
  <dc:creator>Jeanie Ward</dc:creator>
  <dc:description/>
  <dc:language>en-US</dc:language>
  <cp:lastModifiedBy>dell</cp:lastModifiedBy>
  <cp:lastPrinted>2002-07-12T22:38:46Z</cp:lastPrinted>
  <dcterms:modified xsi:type="dcterms:W3CDTF">2015-05-11T20:42:17Z</dcterms:modified>
  <cp:revision>30</cp:revision>
  <dc:subject/>
  <dc:title>Nursing Care  </dc:title>
</cp:coreProperties>
</file>