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B64-C960-423C-93DD-F8EE6F59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FBF-0DA4-4A6E-A84D-E7BD0397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49B-369D-4195-BBFC-BB633934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4D7-7F58-4772-B59E-28A5D05D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D5B-2ED8-4BFB-9231-93B7E64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C72C-9136-4516-973A-E8063EC1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41F2-89D6-4212-B91C-901D5D8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56A-C177-495A-B490-5F2B1F1C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2C30-A886-4888-B9CA-D17D0DD0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519E-B968-419F-BED1-0849055A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81A5-8DB1-4F9B-A1BB-5C9C0F3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DDE-EF9B-4074-B892-EED1A9F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E3C4-B4D8-4FC6-91A0-6E35EEE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6B4-678D-4A4D-B0DF-4F24AA8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979-964F-44D5-9644-2F8044F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088-6659-4609-ABFD-C89485F2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CF3-C461-4087-83CA-B0782714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88625-626A-4BAA-A57E-1CB14D46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9C940-A432-4B72-A877-3F0E6ADF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D49C2-C7E1-473D-9691-3DA9D203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A3D99-293C-4239-A5DE-2DB40ACC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2118C-F766-4794-B01F-4BD29849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25D-1BC2-4463-BB40-D80746B3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E5DC1-AE1D-4946-B980-9B350D4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45C0C-F65D-44C4-8F18-2F699F9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B9DB7-902D-44BE-BC43-392FDF0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B783-4241-4445-B0F9-6EE56B3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31EBC-42FF-4F44-B7B8-EC136D9C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039FE-A520-4462-A159-789F9298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66294-96F9-4112-A3B1-1C5A42B8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C9408-113B-48F2-B1C7-3AE9BDD0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B9449-B0DB-41DE-968F-4D9B9574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C4B14-1901-4B0C-AC4E-862AA1F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7F1-6187-4A0B-9E62-0770E23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D051F-BD06-4F94-B164-6E2C22C0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A98A6-3962-41F9-907A-92C814D5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92355-DDE3-480C-8404-FCACF8B6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A39E2-1B95-4822-8D7E-1D97770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C970E-142A-4013-AEAE-AE0EA6F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9681E-D06E-4B2D-9AF1-AB500ED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F9882-9519-40E1-A8EF-D7CF704F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C8D04-93D6-46DB-AFB4-3481F387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A11D2-6BBC-43A4-AE3C-E23376BF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649B8-4B24-4A20-B89C-BBCE96A3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36E-17BF-48E4-AB64-5B0AE104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9C727-9487-4CB4-B8F5-9044DE6B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E4CE4-37D5-481E-9BDB-12E1C9D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3AAE4-9B6A-4721-8B55-81B224C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4AFA7-3602-40A0-89E2-A41C207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B8B8C-05EA-45F6-8685-692BC9C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C85FB-7132-41CD-B839-29BED56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638F5-E2D4-4508-B9A6-8CDBB840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EDC3A-0501-4522-99FD-A00C2159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D1BAC-1C6E-4470-8AE8-2D6DBBD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69A43-3B53-4935-90C0-7FA0A6E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060-96CE-4464-B509-7B3AD8C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7796D-58B1-485C-88AB-6EFDEDE4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D266-B19D-46C0-8C2F-C37EEAA5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D095-312A-46BD-BC11-64D7615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821C-264D-430A-B2C0-5655443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E554-542D-4EB1-BD93-DD1896B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066E3-1190-49D9-9E84-893A9FA4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D89A6-597F-4AC2-9C84-934455D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ACE3-27B3-4A78-9C92-2E8D0CE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2126-65F9-4BAF-B7B7-2BC145C8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4B61-CF0F-45E9-9CED-45F00DD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0BC-08D5-48D3-99DA-4027348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302D-9608-4C92-ADB4-02EED46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E6063-5F73-4094-BE7F-A08F4452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2708-62EA-4F0E-95EF-FF024D09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63A56-7510-43E0-A44B-E78A3744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467DB-CB4B-44EA-91E1-2554AE93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0830F-A518-42AB-BB8A-4CE8E57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05140-DB5A-4A15-A353-90C74D9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E287A-B370-4CE9-9C99-7CBA9E4B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2D9DF-6BA6-40CE-8E82-9E04B083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F21CB-2E23-43FD-A834-5DE5131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F67-DCC3-48EA-9A06-A620D03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D93D3-61F0-4DDA-8E92-0AA9327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55DC0-1729-40C6-B50A-5238C65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5ED56-B9B7-464A-8DA0-E879E80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1C7C3-E5EE-47BD-8281-A0E5C230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BB522-DE41-4CE5-8A4A-90FC9C0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CA3C-A65E-472D-BF2A-19D85FDB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6F1EA-BC29-420E-9E77-BCE6286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D8DA-663B-427C-B47D-5CF75169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6AE5-BFD0-449A-AD14-BF2F3BE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6C980-5876-4635-8300-21B1494D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F0D-1743-491C-8E20-1EAB973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238B-E86E-459D-B286-630DA960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7C80-89A0-4D16-8407-CF18A40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3E16-5804-428D-8F04-A1ACF16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8CFF4-3181-4EA4-A4FF-5A71A2D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9A7CB-B273-4DBD-88D2-792CDFF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CD1A-C259-47A8-AB03-78AE0506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5CD0A-F18E-4443-ACE5-AFD2A2B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2FB-A49D-4DC0-88A2-00A3621A1FE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4EE-8FD8-4F4A-8E82-7A3A5AEFAF91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11C-36E8-471C-89A7-AE923949C2BC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B33-2A02-4903-BCC5-FCEF0BC06D3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E31-4BAA-4040-9D08-01C2D84DA25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CA3-1395-4157-BC49-49F72F38CCE4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مستطيل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A89-94A0-4BD4-8F7A-0D5767C1F780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2D76-B2F9-4488-B56C-2F841275BBF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ncology.medscape.com/Medscape/features/pictours/pt0897.hrung/pt0897.hrung.gif.ma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Dr. Fatima Makee AL-Haka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University of kerbal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College of nur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TVUS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775f55"/>
            </a:solidFill>
            <a:miter/>
          </a:ln>
        </p:spPr>
      </p:pic>
      <p:sp>
        <p:nvSpPr>
          <p:cNvPr id="370" name="Line 4"/>
          <p:cNvSpPr/>
          <p:nvPr/>
        </p:nvSpPr>
        <p:spPr>
          <a:xfrm>
            <a:off x="1905120" y="495288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5029200" y="49528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029200" y="49528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Line 7"/>
          <p:cNvSpPr/>
          <p:nvPr/>
        </p:nvSpPr>
        <p:spPr>
          <a:xfrm flipH="1">
            <a:off x="2057040" y="495288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5029200" y="495288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Line 11"/>
          <p:cNvSpPr/>
          <p:nvPr/>
        </p:nvSpPr>
        <p:spPr>
          <a:xfrm flipV="1">
            <a:off x="6248520" y="4952880"/>
            <a:ext cx="4572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0" y="6858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0" y="662940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0" y="67057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Line 17"/>
          <p:cNvSpPr/>
          <p:nvPr/>
        </p:nvSpPr>
        <p:spPr>
          <a:xfrm flipV="1">
            <a:off x="5943600" y="6629400"/>
            <a:ext cx="236232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Line 18"/>
          <p:cNvSpPr/>
          <p:nvPr/>
        </p:nvSpPr>
        <p:spPr>
          <a:xfrm flipV="1">
            <a:off x="5715000" y="6705360"/>
            <a:ext cx="3657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Line 19"/>
          <p:cNvSpPr/>
          <p:nvPr/>
        </p:nvSpPr>
        <p:spPr>
          <a:xfrm flipV="1">
            <a:off x="5943600" y="6553080"/>
            <a:ext cx="32004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6172200" y="6629040"/>
            <a:ext cx="29718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Line 21"/>
          <p:cNvSpPr/>
          <p:nvPr/>
        </p:nvSpPr>
        <p:spPr>
          <a:xfrm flipH="1">
            <a:off x="1294920" y="66294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Line 22"/>
          <p:cNvSpPr/>
          <p:nvPr/>
        </p:nvSpPr>
        <p:spPr>
          <a:xfrm flipV="1">
            <a:off x="6248520" y="6705360"/>
            <a:ext cx="16761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Line 23"/>
          <p:cNvSpPr/>
          <p:nvPr/>
        </p:nvSpPr>
        <p:spPr>
          <a:xfrm flipV="1">
            <a:off x="6019920" y="6629040"/>
            <a:ext cx="167616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60199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Line 25"/>
          <p:cNvSpPr/>
          <p:nvPr/>
        </p:nvSpPr>
        <p:spPr>
          <a:xfrm flipV="1">
            <a:off x="5867280" y="6705360"/>
            <a:ext cx="106704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1294920" y="66294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0" y="6553080"/>
            <a:ext cx="5867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5791320" y="6553080"/>
            <a:ext cx="33526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1066680" y="6629400"/>
            <a:ext cx="5943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ONTO, CANADA, 1998, SANT.JOS. HO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PLAC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ce the diagnosis is made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vacuati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 the uterus should be done but prior to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CG preevac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est x-r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rrect: anemia, toxemia, hyperthyroidism, pulmonary compromi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75f55"/>
                </a:solidFill>
                <a:latin typeface="Tw Cen MT"/>
              </a:rPr>
              <a:t>Follow up</a:t>
            </a:r>
            <a:endParaRPr b="0" lang="en-US" sz="8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CG weekly until normal for two values then monthly for one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at x- ray if HCG rises or platea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eption for one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lvic examination every 3 weeks for 3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stational trophoblast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lar pregna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Complete hydatiditform m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Incomplete hydatiditform m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horiocarcinom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Placental-site trophoblastic tumo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lete mo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 Fertilization an empty egg by one sper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All placental villa swoll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Fetus, cord, amniotic membrane are abs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Paternal chromosomes only. 46 XX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diploid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complete mo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rtilization of an egg by two spe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some placental villa swoll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tus, cord, amniotic membrane are pres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ernal and matern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9XX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iplo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441972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isk factors for molar pregnanc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Extreme of a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Lower socioeconomic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Race and ethnic orig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Blacks have lower incid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ymptoms and signs of molar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bnormal bleeding in early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Lower abdominal p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Toxemia before 24 weeks of ges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hyperemesis gravidar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Uterus large for d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No fetal heart 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Enlargement of the ovari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Hyperthyroidis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Expulsion of swollen vil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Diagnos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Ultrasoun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hows snowstorm-like appearance, no fetus, theca lutein cy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eta hC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 normal pregnancy the level is at it peak at around 14 weeks (100,000 mIU/m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6:20:32Z</dcterms:created>
  <dc:creator>Valued Sony Customer</dc:creator>
  <dc:description/>
  <dc:language>en-US</dc:language>
  <cp:lastModifiedBy>dell</cp:lastModifiedBy>
  <dcterms:modified xsi:type="dcterms:W3CDTF">2015-05-11T20:29:55Z</dcterms:modified>
  <cp:revision>39</cp:revision>
  <dc:subject/>
  <dc:title>Molar Pregnancy</dc:title>
</cp:coreProperties>
</file>