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F6A-CC99-42A1-8A2F-A83A641A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0B6-32BE-4595-B3BC-1A02FF5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19E-4366-4AF6-8ED2-2D7AD311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E56-0071-4A43-8B52-7A1A5F4C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4009-5DE6-4262-97F6-86C77E5E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2889-74EB-42EA-80C7-BB4FB5F4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EC7D-9CC1-4037-93B3-04D17669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ECC1-D84D-4CDA-9DCB-67108334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50AF-D58D-4D8D-9C49-9F0AEC42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679-7004-406C-95E4-4AC03BEC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EAE-4B91-4E69-AA45-40E9D95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A83-3FFA-43D7-868D-8B0404E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D401-A647-42E5-87AD-68F4C90C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D77D-7FD1-44BC-BE2E-8E78578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7A5-F267-498C-B1D3-E472348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D515-CF6A-4C31-9EBA-18CE6E1C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AE8B-E513-49D6-9333-7E44B63B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7036D-8478-454A-BAD4-97AB32DE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717E5-FECB-49DE-B8C9-EB9B4EAB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F6310-5DCB-4F09-8C1A-39D19EA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FEE56-0E59-4A98-AC32-9FE11819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B8E12-887D-4608-B723-B71C244C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A41-21E1-4A50-8B92-B27E2E0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88197-95F5-42C7-BEC4-CF0D595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A54CE-9987-4BBD-B3A0-D5D6ADC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57E34-A283-4BCE-A4FA-39C2EB7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58A25-D4A2-487F-9B17-1EE0E73C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10282-C288-483D-B74E-5FFB12E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F14DC-747A-410C-9D33-10559B79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45CC7-55B3-41D8-8CCC-F3AB1ED4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1F325-DA58-4E5A-97A1-12C8C10B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9B5C2-29CD-4924-A626-4CEC5EC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AB1FD-1613-452D-8DA3-CBDED9D3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51F-8EA7-4F80-B622-218C584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22A1D-894A-44ED-ACED-0491E41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D5594-6C06-4667-BD3D-9E3770F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41DF4-4B3B-40E3-B041-2E334702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F6FC9-0C6E-4E5F-AAA3-E5DFB88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94133-420D-46A8-8401-CBCA48A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ED130-017F-480F-A53B-0873A8C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906B2-793B-4537-8924-223160D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93D64-3BE5-4543-8E6C-E5C331CA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9E6FD-823B-46FC-B94D-21CFD45F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4CF99-EBD9-4B9D-921D-55194890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25A-4A82-4CAC-A5CC-1DBE2FB9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AE1BB-D8CD-4905-86F7-90CBFE53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6E7C6-2B85-4015-AAB4-B36E62F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AC64A-BED0-4F55-9451-86CEFCE5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6A058-F9BC-4C17-92BD-72763EF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2E803-298E-444F-91CC-C8F95390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86E00-6AFD-4183-BFFA-937983B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9D783-9F20-4A2B-B63F-D4D05A2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B62E3-F31A-46A4-BA50-A31A95D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E9FB5-4639-430D-A28A-4A40A2B0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BA964-29A9-40BB-B4B5-4F818B5C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2EF-DE36-4673-BE00-0EF3A5AD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B9770-089D-4E31-9E94-10282CD5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FC8C-EDB9-4D8E-BC28-45FB5AAD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2996-CEFC-4D2A-AD20-8668E44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211E6-4A14-4903-BFB4-0219537D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834B-E511-47D0-A2D3-BA172C29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18E7-1B7B-44E4-91E0-AD13BBC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BFA2-BDD4-45BE-BEC4-A990FD1F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6895-5A28-4372-BA80-0D70E06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09DC9-B8BC-4768-AA42-DAE16084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82921-B28C-407B-821D-07B3F1B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CB2-E799-48F0-8FBE-A45A0A7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561EE-0BEB-47DE-93B8-A4FA7321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F0CB-B0FB-4492-8BBC-6D2C675A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D42C-7B3F-445C-AF63-5CB7174F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A52B3-6A6F-44E1-BA58-94D0CE4B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7D087-4E3A-4F01-B6C3-01BE65C8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A22DE-FDD3-4290-A6F7-5650C60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36D4F-169F-4437-8AF9-A961AD1F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C668F-AFBB-4C2E-BAD0-F873340D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A4613-0B51-4789-9FBB-A94E5822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6FFC9-E32E-483A-BB73-1847ECFA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263-C354-4006-8F69-D4FE68B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9E22A-5B6A-47CA-8891-59FE0D0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DA832-51B6-48DE-B9B1-3D1A92F0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48C74-05E9-4DB1-8FF5-EF14603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BD30C-12C3-48A5-8F44-AE4CED23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484F2-6821-4A03-BD24-6BC4758E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9D9DC-6EF2-4618-A87F-B5490A7C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2EF29-BC28-426F-ACFA-4F56764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B1BF6-473A-4412-9E78-DF438A62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7CAD-42DB-45B8-AC15-1A9867F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09A9-E9B4-444F-9310-DDBA3F3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A96-2CCC-49AD-B32A-C52CAD95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DB332-F41E-4AE3-9A94-CF84F97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E3D74-F115-4FAC-A4C1-4735D22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221A-67F6-4CE1-9E16-567E498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7947-759C-45C5-A07C-ECDFCC0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FE872-35D8-4436-A160-990B922B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F82CA-CD66-46DB-BCA1-B266F62D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D520-32FC-46E8-BC87-FD274A0A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5AC-5A0B-40F4-A6F1-4842B3DA480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FE9-0DCE-4005-AC7A-5446B0CC87DD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1719-F60D-43F4-B5E4-94D09D677FBE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94B3-CB50-427A-910E-FDEB405E1D6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3FF-F131-4838-A8B5-02427EC4A8F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626F-553A-41F3-9F5B-E771BE1C32B9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مستطيل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B5A9-6391-4A6E-8CFD-925A5CC7A9F6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170-9404-4D61-91D2-36047FF5412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ncology.medscape.com/Medscape/features/pictours/pt0897.hrung/pt0897.hrung.gif.map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Lucida Sans Unicode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Lucida Sans Unicode"/>
              </a:rPr>
              <a:t>Dr. Fatima Makee AL-Haka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Lucida Sans Unicode"/>
              </a:rPr>
              <a:t>University of kerbal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Lucida Sans Unicode"/>
              </a:rPr>
              <a:t>College of nur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TVUS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775f55"/>
            </a:solidFill>
            <a:miter/>
          </a:ln>
        </p:spPr>
      </p:pic>
      <p:sp>
        <p:nvSpPr>
          <p:cNvPr id="370" name="Line 4"/>
          <p:cNvSpPr/>
          <p:nvPr/>
        </p:nvSpPr>
        <p:spPr>
          <a:xfrm>
            <a:off x="1905120" y="495288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Line 5"/>
          <p:cNvSpPr/>
          <p:nvPr/>
        </p:nvSpPr>
        <p:spPr>
          <a:xfrm>
            <a:off x="5029200" y="49528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5029200" y="49528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Line 7"/>
          <p:cNvSpPr/>
          <p:nvPr/>
        </p:nvSpPr>
        <p:spPr>
          <a:xfrm flipH="1">
            <a:off x="2057040" y="4952880"/>
            <a:ext cx="6858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5029200" y="495288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Line 11"/>
          <p:cNvSpPr/>
          <p:nvPr/>
        </p:nvSpPr>
        <p:spPr>
          <a:xfrm flipV="1">
            <a:off x="6248520" y="4952880"/>
            <a:ext cx="4572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0" y="6858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0" y="662940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0" y="67057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Line 17"/>
          <p:cNvSpPr/>
          <p:nvPr/>
        </p:nvSpPr>
        <p:spPr>
          <a:xfrm flipV="1">
            <a:off x="5943600" y="6629400"/>
            <a:ext cx="236232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Line 18"/>
          <p:cNvSpPr/>
          <p:nvPr/>
        </p:nvSpPr>
        <p:spPr>
          <a:xfrm flipV="1">
            <a:off x="5715000" y="6705360"/>
            <a:ext cx="3657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Line 19"/>
          <p:cNvSpPr/>
          <p:nvPr/>
        </p:nvSpPr>
        <p:spPr>
          <a:xfrm flipV="1">
            <a:off x="5943600" y="6553080"/>
            <a:ext cx="32004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Line 20"/>
          <p:cNvSpPr/>
          <p:nvPr/>
        </p:nvSpPr>
        <p:spPr>
          <a:xfrm flipV="1">
            <a:off x="6172200" y="6629040"/>
            <a:ext cx="29718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Line 21"/>
          <p:cNvSpPr/>
          <p:nvPr/>
        </p:nvSpPr>
        <p:spPr>
          <a:xfrm flipH="1">
            <a:off x="1294920" y="662940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Line 22"/>
          <p:cNvSpPr/>
          <p:nvPr/>
        </p:nvSpPr>
        <p:spPr>
          <a:xfrm flipV="1">
            <a:off x="6248520" y="6705360"/>
            <a:ext cx="16761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Line 23"/>
          <p:cNvSpPr/>
          <p:nvPr/>
        </p:nvSpPr>
        <p:spPr>
          <a:xfrm flipV="1">
            <a:off x="6019920" y="6629040"/>
            <a:ext cx="167616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60199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Line 25"/>
          <p:cNvSpPr/>
          <p:nvPr/>
        </p:nvSpPr>
        <p:spPr>
          <a:xfrm flipV="1">
            <a:off x="5867280" y="6705360"/>
            <a:ext cx="106704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1294920" y="66294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0" y="6553080"/>
            <a:ext cx="5867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5791320" y="6553080"/>
            <a:ext cx="33526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Rectangle 31"/>
          <p:cNvSpPr/>
          <p:nvPr/>
        </p:nvSpPr>
        <p:spPr>
          <a:xfrm>
            <a:off x="1066680" y="6629400"/>
            <a:ext cx="5943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RONTO, CANADA, 1998, SANT.JOS. HO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PLAC0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Managemen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ce the diagnosis is made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vacuati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 the uterus should be done but prior to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CG preevacu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est x-ra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rrect: anemia, toxemia, hyperthyroidism, pulmonary compromis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75f55"/>
                </a:solidFill>
                <a:latin typeface="Tw Cen MT"/>
              </a:rPr>
              <a:t>Follow up</a:t>
            </a:r>
            <a:endParaRPr b="0" lang="en-US" sz="8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CG weekly until normal for two values then monthly for one ye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eat x- ray if HCG rises or platea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raception for one yea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lvic examination every 3 weeks for 3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estational trophoblast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lar pregna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Complete hydatiditform m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Incomplete hydatiditform m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Choriocarcinom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Placental-site trophoblastic tumo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lete mo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 Fertilization an empty egg by one sper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All placental villa swoll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Fetus, cord, amniotic membrane are abs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Paternal chromosomes only. 46 XX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diploid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complete mo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rtilization of an egg by two spe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-some placental villa swoll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tus, cord, amniotic membrane are pres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ernal and matern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9XX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iplo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441972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isk factors for molar pregnanc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Extreme of ag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Lower socioeconomic sta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Race and ethnic origi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Blacks have lower inciden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ymptoms and signs of molar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bnormal bleeding in early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Lower abdominal p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Toxemia before 24 weeks of ges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hyperemesis gravidar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Uterus large for d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No fetal heart 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Enlargement of the ovari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Hyperthyroidis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Expulsion of swollen vil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Molar Pregnancy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Diagnos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Ultrasoun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shows snowstorm-like appearance, no fetus, theca lutein cy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Beta hC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 normal pregnancy the level is at it peak at around 14 weeks (100,000 mIU/ml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4T16:20:32Z</dcterms:created>
  <dc:creator>Valued Sony Customer</dc:creator>
  <dc:description/>
  <dc:language>en-US</dc:language>
  <cp:lastModifiedBy>dell</cp:lastModifiedBy>
  <dcterms:modified xsi:type="dcterms:W3CDTF">2015-05-11T20:29:55Z</dcterms:modified>
  <cp:revision>39</cp:revision>
  <dc:subject/>
  <dc:title>Molar Pregnancy</dc:title>
</cp:coreProperties>
</file>