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3223-CAA4-45BB-B357-47474C5476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0CEB-F7FF-4F10-A1B3-4A42D19D06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87B2-85D0-418B-BA1D-64F0F25979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AFC-739E-48D3-9578-90D2733659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C36F-2639-431F-A634-AC8D8AAD2B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9AC0-1D5A-4406-98AF-C17C68AB69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4444-A9A2-4B1E-81A5-D71A2CEF3D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79A1-6F62-410F-A93E-019C5BF632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5DE0-EB7E-493E-840D-3D47BA3F3B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0CCF-2D80-4853-9DB5-113E994DCC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53B8-A9E5-4E50-A3F4-DE5DB291C0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A217-F4F1-411B-BDA5-6D52C6E6BF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132C-6FED-49CB-A27C-D0BDA44897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206-D549-4ED7-841C-861213E3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FA7-E37B-4D9B-9B81-B326A206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601-CB8F-40B0-B061-657C8608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4E3-2A85-4DC2-B08F-248F3BC2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66B0-CC17-4EDA-9A47-90CF777E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3238-385A-4B54-9302-BF6387E7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5556-6746-4989-B3A1-F832C3C2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9400-FFAD-4AC1-84EB-E2A4676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19B5-9BC2-4D70-ADC5-4BE1C145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563D-4414-4C0E-A9B1-6812493F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2B78-5667-4D4D-9403-89630E2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249-A4B5-4B4D-92AD-976301B6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F691-CCB4-45DE-8B63-5F421424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9CA5-5F1B-4349-8A4E-F4EE29E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3A11-AB2A-4746-A4CE-7897A2BD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71EA-D9F3-48F8-ACAD-B740B6E2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C71C-70D4-4068-93BC-9A4F2453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EE73-C535-4FD9-8759-76A72A3E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B376-9366-4EAF-B1C1-B661C3DF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ABC4-002E-44CA-9721-A033E7DD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70BB-46AE-457A-B570-7D1CECF2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036F-FC8E-45B3-AAA0-FC4599C9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464-C1E9-44C0-9E1F-D3F575AF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6814-862E-419F-AFB2-FABBC45D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FBD0-EEA4-48A6-BB8A-0E9BF08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6842-CCE5-41AE-89C4-ADBA8769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FB11-B842-4BCA-BB4F-BAFEB45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CAF0-EB2F-4FFD-A271-485AAE4E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45DC-0814-4E76-BD6A-53AF3080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CC8B-E597-44EE-9480-AA7439A3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C123-8AAC-43FD-B355-CA810422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5935D-3632-4985-AA6A-7A2BD298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57C3-2ACF-43EE-9ECB-7C3F829C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37E-06EA-4C2B-8C5C-1B56DA4D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4B8A-BBC7-4B6D-A765-E7789713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A86C-70DD-4FCE-9939-8C702116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80587-0F95-4193-A888-5EF1C02B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B91A-2F7E-4DDD-B7B7-FB17975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3E29-6D7F-4569-B42E-2B11B96A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22F5-50C9-455F-9364-B81E6BD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BEAB7-058D-43D2-BFF1-5EB64C73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9628-CC0C-4BC6-8A90-14192F7C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B1DF-3F0A-4122-89E7-D86FA0B9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9652A-D227-44B6-940E-8A3A4298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6F9-14BB-415A-B3C1-4369C058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BBEBE-CFDA-49CB-9CF5-B05EA32D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CF9DB-DD3A-4537-A180-C1B435CB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AA80-0881-4BA4-B54F-76682EBA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AF51D-CC65-4936-8ABF-A85E5F2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36CCD-20DF-43FA-AF63-571B46CB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B93FE-FAFC-403B-9829-F775570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2BD3-1E44-43E7-AD64-7AD2BC3C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C4B0-4CB1-4D9D-A2F9-8918152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DB94D-31BF-403E-8247-4C5447AC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F1FD6-8FD9-43C5-AB96-AAA1C439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AB3-6B3C-4A04-A3CE-6110E650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0590E-BEE2-4D15-86D8-3A785BDA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575F-BA31-41BA-B8DF-0664B85B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E0DC1-A4A3-481F-90C8-AF538573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5B4C-AC33-402B-992D-758ED6C1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D55F5-2158-49E3-BF68-55559045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FF13D-D7F6-41EB-A856-B53F1CA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16346-9AD8-4B18-AB7B-4F4097A3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5255F-AB2E-485D-9EB3-17610A9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DEF8-ACC0-4BB3-8462-4D9BEF1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ECA2B-7022-4994-A9B0-656B204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DAC-6CB1-43D7-9380-75F4D14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7F53-6924-42EE-95FA-23850283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5AA73-A1FC-4624-8221-52084B5C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6613-CBE0-4E8E-8D77-BE49CE80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CE069-92F3-4F79-A0A5-FA27DBB7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58AF8-860F-4579-B664-F7292973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5107F-D1E5-4000-A2F9-2E03EDFB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340F3-380D-47E6-AE3D-C0857024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0E159-5D95-4959-9A7D-CE72D5B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8BB33-1523-43B3-AEC2-3EA16E1D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E32E-1179-43EC-9570-F268C46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7BD-1DBE-43BA-9736-FEDD8C68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F3899-976D-4ED2-AC3F-1F3097FD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5B171-0192-47A5-8B43-0F319A5B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65E6C-768B-4E0F-AF95-C7C05E88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E8962-B311-43A9-8DCA-218C515C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133FB-3E0F-4D9C-9F53-71467539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7EBD8-5EAD-4B9E-B348-59F9841D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067BA-6BBC-47C3-A8C0-FD98FDD5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E1961-5C6D-497B-A0FD-15CF6C96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50B4C-8341-4221-B831-169AFE8E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F5918-8895-4B54-AA83-3F2A675E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84C-39F0-4BDD-87AA-DE2B17F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7623E-C154-44E0-B7FE-F5C12D40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CAE33-5AD5-4F6E-968B-9A89E2A6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A0BCE-1E53-45D9-9FAF-5DBB60E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C3D14-1442-45B4-B893-ED827EA2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85514-B10B-48B3-A94C-C4A5DDEF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CD4B-AFE0-49E8-A25F-B4820014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E2F85-9211-4CC3-87E4-93B4BFDD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D06E-1FE4-4DA1-B973-618DDED24AC1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FC9E-A20F-4CB5-A1B2-B89640CB4D1D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4FE-7465-4964-B058-EB6EB48E8476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A8A8-A850-4B7A-9F96-7AEB290C8D29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1134-07FF-45C3-86F6-51FF805E2424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473F-8250-43E4-B86D-042F0A72F380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857B-AD21-48E9-86FE-9421ED59515B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E5F8-CBB1-4886-BD8E-944668BCB04F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622440"/>
            <a:ext cx="8083440" cy="159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13372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Lucida Sans Unicode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Lucida Sans Unicode"/>
              </a:rPr>
              <a:t>Dr. Fatima Makee AL-Haka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Lucida Sans Unicode"/>
              </a:rPr>
              <a:t>University of kerbal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Lucida Sans Unicode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14200" y="5643720"/>
            <a:ext cx="2214720" cy="1085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mily history of diabe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es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ce/ethnic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erten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-density lipo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tory of gestational diabe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eart Proble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rok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ye sight proble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idney proble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ot proble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4296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3786120" y="714240"/>
            <a:ext cx="4643640" cy="1714680"/>
          </a:xfrm>
          <a:prstGeom prst="rect">
            <a:avLst/>
          </a:prstGeom>
          <a:solidFill>
            <a:srgbClr val="ffff00">
              <a:alpha val="31000"/>
            </a:srgbClr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Lucida Sans Unicode"/>
              </a:rPr>
              <a:t>Management of Diabetes Melli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1392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major components of the treatment of diabet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5" name="Diagram 5" descr=""/>
          <p:cNvPicPr/>
          <p:nvPr/>
        </p:nvPicPr>
        <p:blipFill>
          <a:blip r:embed="rId2"/>
          <a:stretch/>
        </p:blipFill>
        <p:spPr>
          <a:xfrm>
            <a:off x="1474920" y="2262240"/>
            <a:ext cx="6151320" cy="4199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lpha Glucosidase Inhibit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mylin Analog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etfor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spir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Self-care should includ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lood glucose monitor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ody weight monitor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ot-c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ersonal hygie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ealthy lifestyle/diet or physical a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Identify targets for contro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topping smo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pic>
        <p:nvPicPr>
          <p:cNvPr id="410" name="Content Placeholder 3" descr=""/>
          <p:cNvPicPr/>
          <p:nvPr/>
        </p:nvPicPr>
        <p:blipFill>
          <a:blip r:embed="rId2"/>
          <a:stretch/>
        </p:blipFill>
        <p:spPr>
          <a:xfrm>
            <a:off x="5929200" y="2857680"/>
            <a:ext cx="2928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ore fluid/electrolyte and acid-base bal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rect/reverse metabolic abnormal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/assist with management of underlying cause/disease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ent com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ide information about disease process/prognosis, self-care, and treatment nee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is the difference between diabetes type 1 and diabetes type 2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عنوان 2" descr=""/>
          <p:cNvPicPr/>
          <p:nvPr/>
        </p:nvPicPr>
        <p:blipFill>
          <a:blip r:embed="rId1"/>
          <a:stretch/>
        </p:blipFill>
        <p:spPr>
          <a:xfrm>
            <a:off x="719280" y="1427040"/>
            <a:ext cx="7510320" cy="271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Infection, ulceration or destruction of deep tissues associated with neurological abnormalities &amp; various degrees of peripheral vascular diseases</a:t>
            </a:r>
            <a:r>
              <a:rPr b="0" lang="ar-SA" sz="27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in the lower lim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عنوان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2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28760" y="121392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iabetes mellitus (DM) is a group of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tabolic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diseases characterized by high levels of blood glucose resulting from defects in insulin production, insulin action, or bo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ge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nical condi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1                               Norm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2                               High ris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3                               Ulcer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4                              celluli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5                              Necro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6                              Major amp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صورة 3" descr="Diab&amp;Foot 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صورة 5" descr="10814275_1533556733592671_559264528_n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صورة 1" descr="images.jpg"/>
          <p:cNvPicPr/>
          <p:nvPr/>
        </p:nvPicPr>
        <p:blipFill>
          <a:blip r:embed="rId1"/>
          <a:stretch/>
        </p:blipFill>
        <p:spPr>
          <a:xfrm>
            <a:off x="1000080" y="714240"/>
            <a:ext cx="7572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صورة 1" descr="10877433_1533557876925890_74080273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rning, tingling, or painful f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ss of sensation of heat, cold, or tou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s in color or shape of your f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ss of hair on the toes, feet, and lower le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ckening and color change (yellow) of the toenail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set of blisters, sores, ulcers, infected corns, or ingrown toenai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عنوان 2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Sugar Contro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spect Your Feet Dail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sh and Moisturize Your Feet Dail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oid Thermal Injur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erc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5" descr=""/>
          <p:cNvPicPr/>
          <p:nvPr/>
        </p:nvPicPr>
        <p:blipFill>
          <a:blip r:embed="rId1"/>
          <a:stretch/>
        </p:blipFill>
        <p:spPr>
          <a:xfrm>
            <a:off x="725400" y="106056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922560" y="2714400"/>
            <a:ext cx="457200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Lucida Sans Unicode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571680" y="4714920"/>
            <a:ext cx="2500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ype 1 Diabetes Mellitu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ype 2 Diabetes Mellit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Gestational Diabet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Other typ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18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Was previously called insulin-dependent diabetes mellitus (IDDM) or juvenile-onset diabete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18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Type 1 diabetes develops when the body’s immune system destroys pancreatic beta cells, the only cells in the body that make the hormone insulin that regulates blood glucos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18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Type 1 diabetes may account for 5% to 10% of all diagnosed cases of diabete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18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Risk factors for type 1 diabetes may include autoimmune, genetic, and environmental factor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068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Was previously called non-insulin-dependent diabetes mellitus (NIDDM) or adult-onset diabete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Type 2 diabetes may account for about 90% to 95% of all diagnosed cases of diabete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It usually begins as insulin resistance, a disorder in which the cells do not use insulin properly. As the need for insulin rises, the pancreas gradually loses its ability to produce insulin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Type 2 diabetes is associated with older age, obesity, family history of diabetes, history of gestational diabetes, impaired glucose metabolism, physical inactivity, and race/ethnicity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Type 2 diabetes is increasingly being diagnosed in children and adolescen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068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A form of glucose intolerance that is diagnosed in some women during pregna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Gestational diabetes occurs more common among obese women and women with a family history of diabe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Other specific types of diabetes result from specific genetic conditions (such as maturity-onset diabetes of youth), surgery, drugs, malnutrition, infections, and other illness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BS  80-12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BS  80-18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equent urin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ive thir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explained weight lo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reme hun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dden vision chan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ngling or numbness in the hands or f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eeling very tired much of the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dry sk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res that are slow to he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re infections than usu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28:50Z</dcterms:created>
  <dc:creator>Rasha Salama</dc:creator>
  <dc:description/>
  <dc:language>en-US</dc:language>
  <cp:lastModifiedBy>dell</cp:lastModifiedBy>
  <dcterms:modified xsi:type="dcterms:W3CDTF">2015-04-29T10:00:51Z</dcterms:modified>
  <cp:revision>99</cp:revision>
  <dc:subject/>
  <dc:title>Diabetes Mellitus</dc:title>
</cp:coreProperties>
</file>