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8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5.jpeg" ContentType="image/jpeg"/>
  <Override PartName="/ppt/media/image35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10.png" ContentType="image/png"/>
  <Override PartName="/ppt/media/image18.png" ContentType="image/png"/>
  <Override PartName="/ppt/media/image6.jpeg" ContentType="image/jpeg"/>
  <Override PartName="/ppt/media/image30.jpeg" ContentType="image/jpeg"/>
  <Override PartName="/ppt/media/image15.png" ContentType="image/png"/>
  <Override PartName="/ppt/media/image31.jpeg" ContentType="image/jpeg"/>
  <Override PartName="/ppt/media/image2.png" ContentType="image/png"/>
  <Override PartName="/ppt/media/image25.png" ContentType="image/png"/>
  <Override PartName="/ppt/media/image11.png" ContentType="image/png"/>
  <Override PartName="/ppt/media/image37.png" ContentType="image/png"/>
  <Override PartName="/ppt/media/image7.png" ContentType="image/png"/>
  <Override PartName="/ppt/media/image12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33.jpeg" ContentType="image/jpeg"/>
  <Override PartName="/ppt/media/image27.png" ContentType="image/png"/>
  <Override PartName="/ppt/media/image3.png" ContentType="image/png"/>
  <Override PartName="/ppt/media/image26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6.png" ContentType="image/png"/>
  <Override PartName="/ppt/media/image32.jpeg" ContentType="image/jpeg"/>
  <Override PartName="/ppt/media/image17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66666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4B5E7-6FEC-4CBF-B466-AEEFE8F1653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33E31-A5D0-45D8-8B3A-FA2A94068CAA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7C6E3-5902-4AF2-825D-9E9BA05E6D1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5CA81-D6F0-47B7-9949-91EA65F42CF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72AEC-6DA1-4905-86FA-E113EC53306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602B7-A184-4EBB-8F16-AD5D335953D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74892-9D54-47A7-8A5B-E66D72E893B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C7F16-E196-4FA4-B455-DF4AAEBD5EE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AADCB-FBB2-4E3F-A460-FFC827CE287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AF236-BB3E-4629-87BB-1F4B77B3A32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E34FA-F3AA-4031-87C2-604CCC825AB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447EC-4D10-429B-B6FB-AB668F8E61E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170EC-EE05-4232-BC06-BF682D5DC53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46E79-BD88-44C5-8195-3649B8835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2d2d2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E07CA-21AF-4B19-B9E4-ACF3A348D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2d2d2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4083F-08C4-4241-97E4-5F5138D7F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2d2d2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A844B-A6A3-49D2-B694-0A4C56108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0ED46-21B5-4CB7-95FB-479175E7D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2d2d2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A8E29-6F64-4FAF-99E4-7DFA8537C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2d2d2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63BC4-29B2-4FB6-8103-7551CF02F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2d2d2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8DEA7-990F-44F8-9D6B-2E5A8B0DE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2d2d2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02334-F00D-4AC2-BA2D-5E88BC05A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9D9DE-A0A6-413E-A6E1-3E803E4B7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2d2d2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12446-FD4A-4CDE-A28B-D3717C839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2d2d2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7C02B-374E-4A8B-9F6C-549408595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2d2d2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1B132-099F-476C-91E2-AD89C47BB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2d2d2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3B827-5396-4BD1-83C3-32BA3F153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2d2d2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F0061-46CF-47ED-9E45-55668597C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2d2d2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D2A26-D5C6-4C96-B96D-704446009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2d2d2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981FA-7A44-4EA6-B595-ECDBE5E82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0D2307-C1D4-47CB-846D-70885069A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2d2d2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9AAE5E-8526-4FA1-BB34-85E38E318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2d2d2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A08CB2-F9FD-4B61-B243-D3618D06A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2d2d2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DCB2FF-DE7C-43D2-85D6-F799404CB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2d2d2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C734EA-EEC1-4F62-AC3C-C994D1B7B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2d2d2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9C2F3-28F4-4D27-AED1-CD9D03833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C4F513-677B-4D5D-BD61-D08C8FDF5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2d2d2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DB1EBF-8345-4621-A7D1-E04142083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2d2d2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435AB6-5DDC-4378-96F4-E2049B0D5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2d2d2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42D04E-F759-4518-A168-FF839668C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2d2d2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C96C3D-9BBD-41FD-A3FF-69ABC97CA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2d2d2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AC1A77-0C23-4111-89EC-86B018FF0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2d2d2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F98E05-6333-4D6F-93D4-DF023320C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8C7623-3297-40F6-A146-987AB9181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2d2d2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10A113-A77A-421B-A088-1D1D6780D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2d2d2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E80C49-EDB7-4D17-AD16-5A5F696E2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2d2d2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E9124-38F6-4166-9597-2A3BFF7BC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2d2d2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FDDA9F-9DD1-4E08-AC0D-C7C6BB093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2d2d2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25CE20-C662-4EAE-9294-3F734A95D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C36B60-9C55-4875-95E7-B7F0D4922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2d2d2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709A4F-A320-4528-A414-EA0A11ADC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2d2d2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5DEBDD-A143-4A1F-B732-D702AA088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2d2d2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486D9C-BB32-4FE3-B803-AB1A48E1B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2d2d2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2E8626-3CE7-4EB0-916B-4B9C2994B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2d2d2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390B21-660D-4333-AC96-A7FBE080A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2d2d2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DE0640-A389-4874-91BF-1F1B98408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41DA29-C36A-474D-9A2E-976C85CEF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2d2d2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B6DEA-80F5-49CF-8DD3-6E668457E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2d2d2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81A9A6-5323-4117-8D3D-E1749B977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2d2d2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AEF46D-B14C-4E2B-B82A-3CE5C793B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2d2d2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84B51E-1FD2-4393-A3FF-CEFA5967B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2d2d2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6D2281-97EE-4367-BFB0-C1A00A519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7FE4F2-4D51-48C8-9AC7-9DC27CA85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2d2d2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EFE5D0-C7D0-4419-A286-32C8CABCE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2d2d2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D55F67-DC07-4EF2-B8B0-88D501F1B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2d2d2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690ACE-38F8-42A2-BA4D-36FD9F11C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2d2d2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9CF108-937F-4FF0-A89E-B884939EA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2d2d2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EA8916-5157-4B39-A833-302751FF3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4FD5B-83DE-4EEA-89ED-5DE785531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2d2d2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80DE6C-DD6B-4DCF-90B6-FA4F7F397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2CC89D-91C8-4084-9243-DE1A1749F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2d2d2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CEEC92-4EEB-4CE7-A489-FE5A705F9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2d2d2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43EC03-1D78-4A7A-9699-0A707E3C8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2d2d2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82A3CB-C2BC-475E-8DFE-0056B06AA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2d2d2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BB8C5E-E9EE-4C7C-9FAF-53C420950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7698E9-A6D0-46DD-94C3-B06F26642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2d2d2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478881-4AF5-46D5-A9D0-3221915D7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2d2d2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C004F6-33B6-44F2-81A5-9458E59EC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2d2d2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16F1C8-9454-4FF0-8F97-036BB33C8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2d2d2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4F6CE-852E-4F43-9BC9-51064C210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2d2d2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C2AD83-A120-471E-A2DF-910CC2EF4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2d2d2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083F0B-6F0F-4901-B8C4-67577FA12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2d2d2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63895C-5996-462C-BA9F-0A3F07032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B4B231-A48E-41D9-92AF-036BFABD3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2d2d2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D3913A-1B69-433C-AD4E-2D66D9F26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2d2d2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9C9C68-0B15-4007-A052-2EA7B4FC4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2d2d2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D14656-08D4-4602-9A77-5633867E4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2d2d2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5703C9-1AB1-46F7-B60A-0911DCF16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8D31D9-BB6D-4BA9-8D15-B17625E9C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2d2d2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303C70-53CA-46BC-92B2-D4D050A18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2d2d2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59FB7-CC8F-4D27-A47F-69AC686F1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2d2d2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077961-A828-441B-B599-A9CB23243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2d2d2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964631-27E6-4239-B6DC-E3C5E9ACB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2d2d2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3634EC-DD83-4A5C-ACC7-12534E92A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2d2d2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A4FDD4-CE2E-469D-8779-F1FE00D57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2d2d2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78972C-0C14-4EFE-8AEC-B4F4D04CA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04E2FC-2BDD-4BEB-92BB-9CC6D2037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2d2d2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2E87E2-EFBB-4AB1-BA54-132CCE834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2d2d2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2CD320-27A9-474F-BD68-EDEF88B8D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2d2d2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5AD012-32BC-48E2-830B-F413BAB67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2d2d2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2E9A47-6DD2-4270-850A-0C3D34F7C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2d2d2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955DA-2192-4D31-A3ED-0735E5420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A8B062-04D5-43AE-8E5C-5DDABF997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2d2d2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AA4211-139C-4DE3-BC77-C896F08BA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2d2d2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768189-6DA7-49C5-B77B-C0D9C4CAF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2d2d2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28F617-40E2-4131-B41B-ACFF28451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2d2d2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726374-AFFA-4162-8BE6-EDC0671C9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2d2d2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926ABE-6850-44D0-983E-DFD0B3AC2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2d2d2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BE7D5A-DD22-4493-A76C-BEE2E44C1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ff9eb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66666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ff388c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EAAA9-A854-4B93-83FC-21AE10D73ED6}" type="slidenum">
              <a:rPr b="0" lang="en-GB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cd004e"/>
              </a:gs>
              <a:gs pos="50000">
                <a:srgbClr val="ff4192"/>
              </a:gs>
              <a:gs pos="100000">
                <a:srgbClr val="cd004e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ff9eb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66666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ff388c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34D08-86D7-4889-B29F-A8780CAFE437}" type="slidenum">
              <a:rPr b="0" lang="en-GB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ff9eb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e0166b"/>
              </a:gs>
              <a:gs pos="100000">
                <a:srgbClr val="ff7aa9"/>
              </a:gs>
            </a:gsLst>
            <a:lin ang="16200000"/>
          </a:gradFill>
          <a:ln cap="rnd" w="3240">
            <a:solidFill>
              <a:srgbClr val="bc2665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e0166b"/>
              </a:gs>
              <a:gs pos="100000">
                <a:srgbClr val="ff7aa9"/>
              </a:gs>
            </a:gsLst>
            <a:lin ang="16200000"/>
          </a:gradFill>
          <a:ln cap="rnd" w="3240">
            <a:solidFill>
              <a:srgbClr val="bc2665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2d2d2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2d2d2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ff388c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A7B07-40FB-4B2D-9DF0-230CC90DA5F3}" type="slidenum">
              <a:rPr b="0" lang="en-GB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ff9eb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2d2d2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2d2d2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ff388c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13D3A-B0AA-4290-8F54-0AB77C2EB838}" type="slidenum">
              <a:rPr b="0" lang="en-GB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66666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ff388c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3BF43-AC13-4C14-B0CA-39D781DFF8A4}" type="slidenum">
              <a:rPr b="0" lang="en-GB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ff9eb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2d2d2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2d2d2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ff388c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A4CCB-60D5-492E-B323-1E2A39709A9D}" type="slidenum">
              <a:rPr b="0" lang="en-GB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66666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ff388c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90B46-E5BB-49DB-BE2F-8C9883BD9AF7}" type="slidenum">
              <a:rPr b="0" lang="en-GB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ff9eb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e0166b"/>
              </a:gs>
              <a:gs pos="100000">
                <a:srgbClr val="ff7aa9"/>
              </a:gs>
            </a:gsLst>
            <a:lin ang="16200000"/>
          </a:gradFill>
          <a:ln cap="rnd" w="3240">
            <a:solidFill>
              <a:srgbClr val="bc2665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e0166b"/>
              </a:gs>
              <a:gs pos="100000">
                <a:srgbClr val="ff7aa9"/>
              </a:gs>
            </a:gsLst>
            <a:lin ang="16200000"/>
          </a:gradFill>
          <a:ln cap="rnd" w="3240">
            <a:solidFill>
              <a:srgbClr val="bc2665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2d2d2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2d2d2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ff388c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63EFC-6B55-49D0-85D1-757C554952F0}" type="slidenum">
              <a:rPr b="0" lang="en-GB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Title 1" descr=""/>
          <p:cNvPicPr/>
          <p:nvPr/>
        </p:nvPicPr>
        <p:blipFill>
          <a:blip r:embed="rId1"/>
          <a:stretch/>
        </p:blipFill>
        <p:spPr>
          <a:xfrm>
            <a:off x="689040" y="622440"/>
            <a:ext cx="8083440" cy="159696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971640" y="2133720"/>
            <a:ext cx="7772400" cy="352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6666"/>
                </a:solidFill>
                <a:latin typeface="Lucida Sans Unicode"/>
              </a:rPr>
              <a:t>By: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6666"/>
                </a:solidFill>
                <a:latin typeface="Lucida Sans Unicode"/>
              </a:rPr>
              <a:t>Dr. Fatima Makee AL-Hakak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6666"/>
                </a:solidFill>
                <a:latin typeface="Lucida Sans Unicode"/>
              </a:rPr>
              <a:t>University of kerbala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6666"/>
                </a:solidFill>
                <a:latin typeface="Lucida Sans Unicode"/>
              </a:rPr>
              <a:t>College of nursing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9" name="Picture 2" descr=""/>
          <p:cNvPicPr/>
          <p:nvPr/>
        </p:nvPicPr>
        <p:blipFill>
          <a:blip r:embed="rId2"/>
          <a:stretch/>
        </p:blipFill>
        <p:spPr>
          <a:xfrm>
            <a:off x="214200" y="5643720"/>
            <a:ext cx="2214720" cy="108576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amily history of diabet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Obesity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Race/ethnicity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g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Hypertens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High-density lipoprotei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History of gestational diabet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7" name="عنوان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6216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Heart Problem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Stroke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Eye sight problem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Kidney problem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Foot problem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9" name="عنوان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6216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pic>
        <p:nvPicPr>
          <p:cNvPr id="401" name="Picture 2" descr=""/>
          <p:cNvPicPr/>
          <p:nvPr/>
        </p:nvPicPr>
        <p:blipFill>
          <a:blip r:embed="rId1"/>
          <a:stretch/>
        </p:blipFill>
        <p:spPr>
          <a:xfrm>
            <a:off x="214200" y="214200"/>
            <a:ext cx="8786880" cy="6429600"/>
          </a:xfrm>
          <a:prstGeom prst="rect">
            <a:avLst/>
          </a:prstGeom>
          <a:ln w="0">
            <a:noFill/>
          </a:ln>
        </p:spPr>
      </p:pic>
      <p:sp>
        <p:nvSpPr>
          <p:cNvPr id="402" name="Rectangle 6"/>
          <p:cNvSpPr/>
          <p:nvPr/>
        </p:nvSpPr>
        <p:spPr>
          <a:xfrm>
            <a:off x="3786120" y="714240"/>
            <a:ext cx="4643640" cy="1714680"/>
          </a:xfrm>
          <a:prstGeom prst="rect">
            <a:avLst/>
          </a:prstGeom>
          <a:solidFill>
            <a:srgbClr val="ffff00">
              <a:alpha val="31000"/>
            </a:srgbClr>
          </a:solidFill>
          <a:ln w="5508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Lucida Sans Unicode"/>
              </a:rPr>
              <a:t>Management of Diabetes Melli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 txBox="1"/>
          <p:nvPr/>
        </p:nvSpPr>
        <p:spPr>
          <a:xfrm>
            <a:off x="457200" y="1213920"/>
            <a:ext cx="8229600" cy="479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The major components of the treatment of diabetes are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4" name="Tit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405" name="Diagram 5" descr=""/>
          <p:cNvPicPr/>
          <p:nvPr/>
        </p:nvPicPr>
        <p:blipFill>
          <a:blip r:embed="rId2"/>
          <a:stretch/>
        </p:blipFill>
        <p:spPr>
          <a:xfrm>
            <a:off x="1474920" y="2262240"/>
            <a:ext cx="6151320" cy="419904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Alpha Glucosidase Inhibitor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Amylin Analogu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Metformi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Aspiri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7" name="عنوان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Sans Unicode"/>
              </a:rPr>
              <a:t>Self-care should include: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ff388c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ff388c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Sans Unicode"/>
              </a:rPr>
              <a:t>Blood glucose monitoring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ff388c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Sans Unicode"/>
              </a:rPr>
              <a:t>Body weight monitoring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ff388c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Sans Unicode"/>
              </a:rPr>
              <a:t>Foot-care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ff388c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Sans Unicode"/>
              </a:rPr>
              <a:t>Personal hygiene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ff388c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Sans Unicode"/>
              </a:rPr>
              <a:t>Healthy lifestyle/diet or physical activity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ff388c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Sans Unicode"/>
              </a:rPr>
              <a:t>Identify targets for control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ff388c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Sans Unicode"/>
              </a:rPr>
              <a:t>Stopping smoking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9" name="Title 2" descr=""/>
          <p:cNvPicPr/>
          <p:nvPr/>
        </p:nvPicPr>
        <p:blipFill>
          <a:blip r:embed="rId1"/>
          <a:stretch/>
        </p:blipFill>
        <p:spPr>
          <a:xfrm>
            <a:off x="231840" y="128520"/>
            <a:ext cx="8454960" cy="1292400"/>
          </a:xfrm>
          <a:prstGeom prst="rect">
            <a:avLst/>
          </a:prstGeom>
          <a:ln w="0">
            <a:noFill/>
          </a:ln>
        </p:spPr>
      </p:pic>
      <p:pic>
        <p:nvPicPr>
          <p:cNvPr id="410" name="Content Placeholder 3" descr=""/>
          <p:cNvPicPr/>
          <p:nvPr/>
        </p:nvPicPr>
        <p:blipFill>
          <a:blip r:embed="rId2"/>
          <a:stretch/>
        </p:blipFill>
        <p:spPr>
          <a:xfrm>
            <a:off x="5929200" y="2857680"/>
            <a:ext cx="2928960" cy="207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Restore fluid/electrolyte and acid-base balanc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orrect/reverse metabolic abnormaliti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dentify/assist with management of underlying cause/disease proces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revent complication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rovide information about disease process/prognosis, self-care, and treatment need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2" name="عنوان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6216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What is the difference between diabetes type 1 and diabetes type 2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4" name="عنوان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6216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عنوان 2" descr=""/>
          <p:cNvPicPr/>
          <p:nvPr/>
        </p:nvPicPr>
        <p:blipFill>
          <a:blip r:embed="rId1"/>
          <a:stretch/>
        </p:blipFill>
        <p:spPr>
          <a:xfrm>
            <a:off x="719280" y="1427040"/>
            <a:ext cx="7510320" cy="27180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Arial Rounded MT Bold"/>
              </a:rPr>
              <a:t>Infection, ulceration or destruction of deep tissues associated with neurological abnormalities &amp; various degrees of peripheral vascular diseases</a:t>
            </a:r>
            <a:r>
              <a:rPr b="0" lang="ar-SA" sz="27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Arial Rounded MT Bold"/>
              </a:rPr>
              <a:t>in the lower limb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7" name="عنوان 2" descr=""/>
          <p:cNvPicPr/>
          <p:nvPr/>
        </p:nvPicPr>
        <p:blipFill>
          <a:blip r:embed="rId1"/>
          <a:stretch/>
        </p:blipFill>
        <p:spPr>
          <a:xfrm>
            <a:off x="176040" y="274680"/>
            <a:ext cx="8510760" cy="129204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428760" y="1213920"/>
            <a:ext cx="8229600" cy="480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Diabetes mellitus (DM) is a group of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metabolic</a:t>
            </a: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 diseases characterized by high levels of blood glucose resulting from defects in insulin production, insulin action, or both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1" name="Title 2" descr=""/>
          <p:cNvPicPr/>
          <p:nvPr/>
        </p:nvPicPr>
        <p:blipFill>
          <a:blip r:embed="rId1"/>
          <a:stretch/>
        </p:blipFill>
        <p:spPr>
          <a:xfrm>
            <a:off x="231840" y="128520"/>
            <a:ext cx="8454960" cy="12924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Stage</a:t>
            </a:r>
            <a:r>
              <a:rPr b="0" lang="en-US" sz="2700" spc="-1" strike="noStrike">
                <a:solidFill>
                  <a:srgbClr val="000000"/>
                </a:solidFill>
                <a:latin typeface="Arial Rounded MT Bold"/>
              </a:rPr>
              <a:t>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Clinical condition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 Rounded MT Bold"/>
              </a:rPr>
              <a:t>     </a:t>
            </a:r>
            <a:r>
              <a:rPr b="0" lang="en-US" sz="2700" spc="-1" strike="noStrike">
                <a:solidFill>
                  <a:srgbClr val="000000"/>
                </a:solidFill>
                <a:latin typeface="Arial Rounded MT Bold"/>
              </a:rPr>
              <a:t>1                               Norma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 Rounded MT Bold"/>
              </a:rPr>
              <a:t>     </a:t>
            </a:r>
            <a:r>
              <a:rPr b="0" lang="en-US" sz="2700" spc="-1" strike="noStrike">
                <a:solidFill>
                  <a:srgbClr val="000000"/>
                </a:solidFill>
                <a:latin typeface="Arial Rounded MT Bold"/>
              </a:rPr>
              <a:t>2                               High risk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 Rounded MT Bold"/>
              </a:rPr>
              <a:t>     </a:t>
            </a:r>
            <a:r>
              <a:rPr b="0" lang="en-US" sz="2700" spc="-1" strike="noStrike">
                <a:solidFill>
                  <a:srgbClr val="000000"/>
                </a:solidFill>
                <a:latin typeface="Arial Rounded MT Bold"/>
              </a:rPr>
              <a:t>3                               Ulcerated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 Rounded MT Bold"/>
              </a:rPr>
              <a:t>     </a:t>
            </a:r>
            <a:r>
              <a:rPr b="0" lang="en-US" sz="2700" spc="-1" strike="noStrike">
                <a:solidFill>
                  <a:srgbClr val="000000"/>
                </a:solidFill>
                <a:latin typeface="Arial Rounded MT Bold"/>
              </a:rPr>
              <a:t>4                              cellulitic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 Rounded MT Bold"/>
              </a:rPr>
              <a:t>     </a:t>
            </a:r>
            <a:r>
              <a:rPr b="0" lang="en-US" sz="2700" spc="-1" strike="noStrike">
                <a:solidFill>
                  <a:srgbClr val="000000"/>
                </a:solidFill>
                <a:latin typeface="Arial Rounded MT Bold"/>
              </a:rPr>
              <a:t>5                              Necrotic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 Rounded MT Bold"/>
              </a:rPr>
              <a:t>     </a:t>
            </a:r>
            <a:r>
              <a:rPr b="0" lang="en-US" sz="2700" spc="-1" strike="noStrike">
                <a:solidFill>
                  <a:srgbClr val="000000"/>
                </a:solidFill>
                <a:latin typeface="Arial Rounded MT Bold"/>
              </a:rPr>
              <a:t>6                              Major amputat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9" name="عنوان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92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صورة 3" descr="Diab&amp;Foot (3)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صورة 5" descr="10814275_1533556733592671_559264528_n.jpg"/>
          <p:cNvPicPr/>
          <p:nvPr/>
        </p:nvPicPr>
        <p:blipFill>
          <a:blip r:embed="rId1"/>
          <a:stretch/>
        </p:blipFill>
        <p:spPr>
          <a:xfrm>
            <a:off x="500040" y="428760"/>
            <a:ext cx="8143920" cy="58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صورة 1" descr="images.jpg"/>
          <p:cNvPicPr/>
          <p:nvPr/>
        </p:nvPicPr>
        <p:blipFill>
          <a:blip r:embed="rId1"/>
          <a:stretch/>
        </p:blipFill>
        <p:spPr>
          <a:xfrm>
            <a:off x="1000080" y="714240"/>
            <a:ext cx="7572600" cy="53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صورة 1" descr="10877433_1533557876925890_740802735_n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burning, tingling, or painful fee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loss of sensation of heat, cold, or touch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hanges in color or shape of your fee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loss of hair on the toes, feet, and lower leg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ckening and color change (yellow) of the toenails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onset of blisters, sores, ulcers, infected corns, or ingrown toenail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5" name="عنوان 2" descr=""/>
          <p:cNvPicPr/>
          <p:nvPr/>
        </p:nvPicPr>
        <p:blipFill>
          <a:blip r:embed="rId1"/>
          <a:stretch/>
        </p:blipFill>
        <p:spPr>
          <a:xfrm>
            <a:off x="231840" y="133200"/>
            <a:ext cx="8454960" cy="160992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Blood Sugar Control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nspect Your Feet Daily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ash and Moisturize Your Feet Daily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void Thermal Injury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Exercis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7" name="عنوان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Title 5" descr=""/>
          <p:cNvPicPr/>
          <p:nvPr/>
        </p:nvPicPr>
        <p:blipFill>
          <a:blip r:embed="rId1"/>
          <a:stretch/>
        </p:blipFill>
        <p:spPr>
          <a:xfrm>
            <a:off x="725400" y="1060560"/>
            <a:ext cx="7772400" cy="1828800"/>
          </a:xfrm>
          <a:prstGeom prst="rect">
            <a:avLst/>
          </a:prstGeom>
          <a:ln w="0">
            <a:noFill/>
          </a:ln>
        </p:spPr>
      </p:pic>
      <p:sp>
        <p:nvSpPr>
          <p:cNvPr id="429" name="PlaceHolder 1"/>
          <p:cNvSpPr>
            <a:spLocks noGrp="1"/>
          </p:cNvSpPr>
          <p:nvPr>
            <p:ph/>
          </p:nvPr>
        </p:nvSpPr>
        <p:spPr>
          <a:xfrm>
            <a:off x="3922560" y="2714400"/>
            <a:ext cx="4572000" cy="167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Lucida Sans Unicode"/>
              </a:rPr>
              <a:t>Thank You</a:t>
            </a:r>
            <a:endParaRPr b="0" lang="en-US" sz="60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430" name="Picture 2" descr=""/>
          <p:cNvPicPr/>
          <p:nvPr/>
        </p:nvPicPr>
        <p:blipFill>
          <a:blip r:embed="rId2"/>
          <a:stretch/>
        </p:blipFill>
        <p:spPr>
          <a:xfrm>
            <a:off x="571680" y="4714920"/>
            <a:ext cx="250020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457200" y="1357200"/>
            <a:ext cx="8229600" cy="464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Sans Unicode"/>
              </a:rPr>
              <a:t>Type 1 Diabetes Mellitus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Sans Unicode"/>
              </a:rPr>
              <a:t>Type 2 Diabetes Mellitus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Sans Unicode"/>
              </a:rPr>
              <a:t>Gestational Diabetes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Sans Unicode"/>
              </a:rPr>
              <a:t>Other types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3" name="Title 2" descr=""/>
          <p:cNvPicPr/>
          <p:nvPr/>
        </p:nvPicPr>
        <p:blipFill>
          <a:blip r:embed="rId1"/>
          <a:stretch/>
        </p:blipFill>
        <p:spPr>
          <a:xfrm>
            <a:off x="231840" y="128520"/>
            <a:ext cx="8454960" cy="12924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45160">
              <a:lnSpc>
                <a:spcPct val="90000"/>
              </a:lnSpc>
              <a:spcBef>
                <a:spcPts val="18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Lucida Sans Unicode"/>
              </a:rPr>
              <a:t>Was previously called insulin-dependent diabetes mellitus (IDDM) or juvenile-onset diabetes. 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lnSpc>
                <a:spcPct val="90000"/>
              </a:lnSpc>
              <a:spcBef>
                <a:spcPts val="18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Lucida Sans Unicode"/>
              </a:rPr>
              <a:t>Type 1 diabetes develops when the body’s immune system destroys pancreatic beta cells, the only cells in the body that make the hormone insulin that regulates blood glucose. 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lnSpc>
                <a:spcPct val="90000"/>
              </a:lnSpc>
              <a:spcBef>
                <a:spcPts val="18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Lucida Sans Unicode"/>
              </a:rPr>
              <a:t>Type 1 diabetes may account for 5% to 10% of all diagnosed cases of diabetes. 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lnSpc>
                <a:spcPct val="90000"/>
              </a:lnSpc>
              <a:spcBef>
                <a:spcPts val="18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Lucida Sans Unicode"/>
              </a:rPr>
              <a:t>Risk factors for type 1 diabetes may include autoimmune, genetic, and environmental factors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lnSpc>
                <a:spcPct val="90000"/>
              </a:lnSpc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5" name="Tit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457200" y="1480680"/>
            <a:ext cx="822960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1199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Lucida Sans Unicode"/>
              </a:rPr>
              <a:t>Was previously called non-insulin-dependent diabetes mellitus (NIDDM) or adult-onset diabetes.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1199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Lucida Sans Unicode"/>
              </a:rPr>
              <a:t>Type 2 diabetes may account for about 90% to 95% of all diagnosed cases of diabetes.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1199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Lucida Sans Unicode"/>
              </a:rPr>
              <a:t>It usually begins as insulin resistance, a disorder in which the cells do not use insulin properly. As the need for insulin rises, the pancreas gradually loses its ability to produce insulin.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1199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Lucida Sans Unicode"/>
              </a:rPr>
              <a:t>Type 2 diabetes is associated with older age, obesity, family history of diabetes, history of gestational diabetes, impaired glucose metabolism, physical inactivity, and race/ethnicity.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1199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Lucida Sans Unicode"/>
              </a:rPr>
              <a:t>Type 2 diabetes is increasingly being diagnosed in children and adolescents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7" name="Tit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457200" y="1480680"/>
            <a:ext cx="8229600" cy="480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1199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700" spc="-1" strike="noStrike">
                <a:solidFill>
                  <a:srgbClr val="000000"/>
                </a:solidFill>
                <a:latin typeface="Lucida Sans Unicode"/>
              </a:rPr>
              <a:t>A form of glucose intolerance that is diagnosed in some women during pregnancy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1199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700" spc="-1" strike="noStrike">
                <a:solidFill>
                  <a:srgbClr val="000000"/>
                </a:solidFill>
                <a:latin typeface="Lucida Sans Unicode"/>
              </a:rPr>
              <a:t>Gestational diabetes occurs more common among obese women and women with a family history of diabetes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9" name="Tit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700" spc="-1" strike="noStrike">
                <a:solidFill>
                  <a:srgbClr val="000000"/>
                </a:solidFill>
                <a:latin typeface="Lucida Sans Unicode"/>
              </a:rPr>
              <a:t>Other specific types of diabetes result from specific genetic conditions (such as maturity-onset diabetes of youth), surgery, drugs, malnutrition, infections, and other illnesses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1" name="Tit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BS  80-126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RBS  80-180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3" name="عنوان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requent urinat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Excessive thirs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Unexplained weight los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Extreme hunge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udden vision chang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ingling or numbness in the hands or fee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eeling very tired much of the tim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Very dry ski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ores that are slow to hea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ore infections than usua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5" name="Tit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3T21:28:50Z</dcterms:created>
  <dc:creator>Rasha Salama</dc:creator>
  <dc:description/>
  <dc:language>en-US</dc:language>
  <cp:lastModifiedBy>dell</cp:lastModifiedBy>
  <dcterms:modified xsi:type="dcterms:W3CDTF">2015-04-29T10:00:51Z</dcterms:modified>
  <cp:revision>99</cp:revision>
  <dc:subject/>
  <dc:title>Diabetes Mellitus</dc:title>
</cp:coreProperties>
</file>