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6F56-5624-44AA-9276-193524A5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7CFE3-52BF-42FF-9809-596C55E8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3451-D0B5-4168-B2B2-86B169353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21BB4-7957-4E5C-8062-3F4EDB208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21C49-45FE-484D-B81E-E433A9FE8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89D0C-9224-43D4-9CBB-B3D7FA0E4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DE090-0564-421F-A3A6-6359D08D6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5E0E7-00C9-40E3-8332-F7B061FFE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34D16-B700-4E6D-8DB3-E6E883A06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CEFF2-0E00-4BFE-BF9A-CBA89B86A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C9CEC-7D2C-424A-A002-11FAEE5D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EEA7-398E-43B6-89B4-88C3EC90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AB52B-F3C2-4503-A9C3-40FA75947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6BD37-F214-4FB1-9A37-A6682B6B3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5AA7D-32A6-4447-BEE0-5CE9D4DA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637C6-9A5B-46B9-A0FA-B9858A7D4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D5936-1717-4601-B94C-03E293BDF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2270-A107-423C-845D-F9AF9851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6DA10-B19E-41BC-8EA1-9FEA56D1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765A-F38F-4EE1-B733-C7977BA5C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5F0CF-BF02-4E31-9BA2-EBF22B24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78EB-F3D8-45F3-93E5-DBDCD793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73D2-05E6-4EDF-8C41-2C973D89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8090-7E3E-42E8-84E5-07FCFB477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C3F4-5B56-4ABC-9C28-D5CA15355B5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712E-DC1A-45EB-9B18-FDBAB4185D49}"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Quality of life</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lity of life is better when a person is loved, accepted, and feels that they belong in their:</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Home</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School</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Place of work and/or</a:t>
            </a:r>
            <a:endParaRPr b="0" lang="en-US" sz="3200" spc="-1" strike="noStrike">
              <a:solidFill>
                <a:srgbClr val="000000"/>
              </a:solidFill>
              <a:latin typeface="Arial"/>
            </a:endParaRPr>
          </a:p>
          <a:p>
            <a:pPr marL="343080" indent="0" algn="just">
              <a:lnSpc>
                <a:spcPct val="11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Place of living, that is, their house or nursing home</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5920"/>
            <a:ext cx="8229600" cy="5654520"/>
          </a:xfrm>
          <a:prstGeom prst="rect">
            <a:avLst/>
          </a:prstGeom>
          <a:noFill/>
          <a:ln w="0">
            <a:noFill/>
          </a:ln>
        </p:spPr>
        <p:txBody>
          <a:bodyPr anchor="t">
            <a:normAutofit fontScale="99000"/>
          </a:bodyPr>
          <a:p>
            <a:pPr marL="339480" indent="-3394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Spiritual Quality of Life</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re are also things that affect a person’s spiritual quality of life. Some of the things that add to or take away from spiritual quality of life are the person’s:</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31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iritual beliefs</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31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standards and values</a:t>
            </a:r>
            <a:endParaRPr b="0" lang="en-US" sz="3200" spc="-1" strike="noStrike">
              <a:solidFill>
                <a:srgbClr val="000000"/>
              </a:solidFill>
              <a:latin typeface="Arial"/>
            </a:endParaRPr>
          </a:p>
          <a:p>
            <a:pPr marL="339480" indent="-339480" algn="just">
              <a:lnSpc>
                <a:spcPct val="115000"/>
              </a:lnSpc>
              <a:spcBef>
                <a:spcPts val="10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gn="just">
              <a:lnSpc>
                <a:spcPct val="115000"/>
              </a:lnSpc>
              <a:spcBef>
                <a:spcPts val="10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trong spiritual beliefs and personal values add to the quality of life. A poor spiritual quality of life can happen when these things are not present. People that do not believe in a spiritual life may be less happy with life than those who do believe in a spiritual life.</a:t>
            </a:r>
            <a:endParaRPr b="0" lang="en-US" sz="4000" spc="-1" strike="noStrike">
              <a:solidFill>
                <a:srgbClr val="000000"/>
              </a:solidFill>
              <a:latin typeface="Arial"/>
            </a:endParaRPr>
          </a:p>
          <a:p>
            <a:pPr marL="32580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75920"/>
            <a:ext cx="8229600" cy="5654520"/>
          </a:xfrm>
          <a:prstGeom prst="rect">
            <a:avLst/>
          </a:prstGeom>
          <a:noFill/>
          <a:ln w="0">
            <a:noFill/>
          </a:ln>
        </p:spPr>
        <p:txBody>
          <a:bodyPr anchor="t">
            <a:normAutofit fontScale="97000"/>
          </a:bodyPr>
          <a:p>
            <a:pPr marL="332640" indent="-332640" algn="just">
              <a:lnSpc>
                <a:spcPct val="115000"/>
              </a:lnSpc>
              <a:spcBef>
                <a:spcPts val="6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human body has to be taken care of every day. Humans need:</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ir</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Food</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Water</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Exercise</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Sleep</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Rest</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Cleanliness and comfort.</a:t>
            </a:r>
            <a:endParaRPr b="0" lang="en-US" sz="2400" spc="-1" strike="noStrike">
              <a:solidFill>
                <a:srgbClr val="000000"/>
              </a:solidFill>
              <a:latin typeface="Arial"/>
            </a:endParaRPr>
          </a:p>
          <a:p>
            <a:pPr lvl="1" marL="960840" indent="0"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rsing assistants can help increase the physical quality of life by making sure that their patients and residents have:</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 good diet,</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Plenty of fluids,</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Regular exercise,</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nough sleep and rest,</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Comfort and freedom from pain and</a:t>
            </a:r>
            <a:endParaRPr b="0" lang="en-US" sz="2800" spc="-1" strike="noStrike">
              <a:solidFill>
                <a:srgbClr val="000000"/>
              </a:solidFill>
              <a:latin typeface="Arial"/>
            </a:endParaRPr>
          </a:p>
          <a:p>
            <a:pPr marL="343080" indent="0" algn="just">
              <a:lnSpc>
                <a:spcPct val="115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 clean, well groomed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eople that are sick or old may need the nursing assistant to feed them or to at least help them with meals and fluids. Many sick and old people are not even able to drink water without your help. They will be thirsty and dehydrated if their need for fluid is not met</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901"/>
              </a:spcBef>
              <a:spcAft>
                <a:spcPts val="11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t is up to the nursing staff to make sure that these patients get enough fluids, especially when they are very sick, confused, weak and not able to help themselves. Offer sips of water every time you enter a person’s room if they are allowed to drin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33000"/>
            <a:ext cx="8229600" cy="6264360"/>
          </a:xfrm>
          <a:prstGeom prst="rect">
            <a:avLst/>
          </a:prstGeom>
          <a:noFill/>
          <a:ln w="0">
            <a:noFill/>
          </a:ln>
        </p:spPr>
        <p:txBody>
          <a:bodyPr anchor="t">
            <a:normAutofit fontScale="97000"/>
          </a:bodyPr>
          <a:p>
            <a:pPr marL="332640" indent="-332640" algn="just">
              <a:lnSpc>
                <a:spcPct val="115000"/>
              </a:lnSpc>
              <a:spcBef>
                <a:spcPts val="901"/>
              </a:spcBef>
              <a:spcAft>
                <a:spcPts val="11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rsing assistants must also make sure that a person gets enough sleep and rest. These needs are greatest when a person is sick or ill. We should give our patients a quiet, comfortable, home like place to sleep and rest. Rest and sleep are needed so that the patient has a good quality of life. People will be unhappy and unhealthy when they do not get enough sleep and r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06" name="Picture 4" descr="Tulips"/>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620640"/>
            <a:ext cx="8229600" cy="5726160"/>
          </a:xfrm>
          <a:prstGeom prst="rect">
            <a:avLst/>
          </a:prstGeom>
          <a:noFill/>
          <a:ln w="0">
            <a:noFill/>
          </a:ln>
        </p:spPr>
        <p:txBody>
          <a:bodyPr anchor="t">
            <a:normAutofit/>
          </a:bodyPr>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quality of life?</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me people like life. Life is good to them. They enjoy it. Others do not feel good about their life. They have little joy. Quality of life is how much a person likes or does not enjoy their life. This class will help you learn ways that you can make a person’s quality of life better.</a:t>
            </a:r>
            <a:endParaRPr b="0" lang="en-US" sz="3200" spc="-1" strike="noStrike">
              <a:solidFill>
                <a:srgbClr val="000000"/>
              </a:solidFill>
              <a:latin typeface="Arial"/>
            </a:endParaRPr>
          </a:p>
          <a:p>
            <a:pPr marL="343080" indent="0"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People in good health have a better quality of life than those that are sick, ill, or in pain. People with good physical, mental and spiritual health have a high quality of life. They are usually happy and satis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eople with poor physical health, those with mental or emotional problems and a lack of spiritual health usually have a low quality of life. People with a poor quality of life do not enjoy life. They may be very unhapp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ality of life depends on a person’s:</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Physical Quality of Life</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me of the things that add to or take away from a person’s physical quality of life are:</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ysical state of health</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tritional state</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hygiene and grooming</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bility to do exercise and a regular exercise routine.</a:t>
            </a:r>
            <a:endParaRPr b="0" lang="en-US" sz="3200" spc="-1" strike="noStrike">
              <a:solidFill>
                <a:srgbClr val="000000"/>
              </a:solidFill>
              <a:latin typeface="Arial"/>
            </a:endParaRPr>
          </a:p>
          <a:p>
            <a:pPr marL="343080" indent="0">
              <a:lnSpc>
                <a:spcPct val="115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llness, poor nutrition, poor personal hygiene, grooming and the lack of exercise lower the quality of life for some people. Many old adults have chronic physical disorders, such as diabetes, a stroke and weakness also lower the quality of life for those people. </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health, nutrition, hygiene and grooming and regular exercise add to the quality of lif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343080">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Mental Quality of Life</a:t>
            </a:r>
            <a:endParaRPr b="0" lang="en-US" sz="2800" spc="-1" strike="noStrike">
              <a:solidFill>
                <a:srgbClr val="000000"/>
              </a:solidFill>
              <a:latin typeface="Arial"/>
            </a:endParaRPr>
          </a:p>
          <a:p>
            <a:pPr marL="343080" indent="-343080" algn="just">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of the things that add to or take away from a person’s mental quality of life are:</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ental status</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bility to think clearly and make decisions</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Feelings about themselves. Does a person feel good about himself or herself? Do they like themselves? People want to feel good about themselves and what they are able to do.</a:t>
            </a:r>
            <a:endParaRPr b="0" lang="en-US" sz="2800" spc="-1" strike="noStrike">
              <a:solidFill>
                <a:srgbClr val="000000"/>
              </a:solidFill>
              <a:latin typeface="Arial"/>
            </a:endParaRPr>
          </a:p>
          <a:p>
            <a:pPr marL="343080" indent="-343080" algn="just">
              <a:lnSpc>
                <a:spcPct val="115000"/>
              </a:lnSpc>
              <a:spcBef>
                <a:spcPts val="700"/>
              </a:spcBef>
              <a:spcAft>
                <a:spcPts val="1001"/>
              </a:spcAft>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Level of self-control. Do your patients or residents have control over things that affec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8229600" cy="5870520"/>
          </a:xfrm>
          <a:prstGeom prst="rect">
            <a:avLst/>
          </a:prstGeom>
          <a:noFill/>
          <a:ln w="0">
            <a:noFill/>
          </a:ln>
        </p:spPr>
        <p:txBody>
          <a:bodyPr anchor="t">
            <a:normAutofit fontScale="94000"/>
          </a:bodyPr>
          <a:p>
            <a:pPr marL="572760" indent="0"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en a person has a mental disorder, such as Alzheimer’s disease, when they cannot think clearly, when they have poor self-esteem and the feeling that they have no control over themselves and the things around them, they will have a poor quality of life.  Good mental health, the ability to think clearly, good self-esteem and feelings of control over one’s life and one’s own decisions add to a good quality of life and happiness</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lity of life is also good when a person is able to </a:t>
            </a:r>
            <a:r>
              <a:rPr b="1" lang="en-US" sz="3200" spc="-1" strike="noStrike">
                <a:solidFill>
                  <a:srgbClr val="000000"/>
                </a:solidFill>
                <a:latin typeface="Times New Roman"/>
                <a:ea typeface="Times New Roman"/>
              </a:rPr>
              <a:t>grow</a:t>
            </a:r>
            <a:r>
              <a:rPr b="0" lang="en-US" sz="3200" spc="-1" strike="noStrike">
                <a:solidFill>
                  <a:srgbClr val="000000"/>
                </a:solidFill>
                <a:latin typeface="Times New Roman"/>
                <a:ea typeface="Times New Roman"/>
              </a:rPr>
              <a:t> each and every day. It is good when they learn something </a:t>
            </a:r>
            <a:r>
              <a:rPr b="1" lang="en-US" sz="3200" spc="-1" strike="noStrike">
                <a:solidFill>
                  <a:srgbClr val="000000"/>
                </a:solidFill>
                <a:latin typeface="Times New Roman"/>
                <a:ea typeface="Times New Roman"/>
              </a:rPr>
              <a:t>new</a:t>
            </a:r>
            <a:r>
              <a:rPr b="0" lang="en-US" sz="3200" spc="-1" strike="noStrike">
                <a:solidFill>
                  <a:srgbClr val="000000"/>
                </a:solidFill>
                <a:latin typeface="Times New Roman"/>
                <a:ea typeface="Times New Roman"/>
              </a:rPr>
              <a:t>. It is good when they can do something </a:t>
            </a:r>
            <a:r>
              <a:rPr b="1" lang="en-US" sz="3200" spc="-1" strike="noStrike">
                <a:solidFill>
                  <a:srgbClr val="000000"/>
                </a:solidFill>
                <a:latin typeface="Times New Roman"/>
                <a:ea typeface="Times New Roman"/>
              </a:rPr>
              <a:t>well.</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eople of all ages want to be able to reach their goals and to be a part of a group. They want to be accepted, wanted and needed by others. They want to feel important and to have a place in this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4-03-22T15:05:41Z</dcterms:modified>
  <cp:revision>25</cp:revision>
  <dc:subject/>
  <dc:title> Health , Wellness and Wellbeing</dc:title>
</cp:coreProperties>
</file>