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0DB-66F3-4414-BF9E-928BCA02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09E-4F20-4898-98EF-BFAE405E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563-4EE5-495F-8A1E-86FFA358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052-5888-40C2-BB7D-289444A0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319B-D300-484D-9C21-A500ACFD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A1C6-4549-4336-8BFD-588D1154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9D8C-CB4D-4969-8F7F-80FD4BDA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A74-05FD-4AAA-8218-C79765C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1E89-A934-4AF9-994D-759D1EF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5C9-7665-4E20-9DCA-DC83D61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8936-D10D-47CA-A2FE-599FD2E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221-FE88-4359-BD1B-FE57DFE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39FD-5A8A-4824-B413-AF125AF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E063-DF92-4E5A-B6C9-B55E981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9846-D786-4531-BEBA-E3D8C30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CF04-BCFB-4BC6-80D4-CD5BD38E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711-8F8E-4004-9165-D904A4EC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3A7-2397-4526-9FA6-7A4ADD3E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A65-8D3F-46EA-B04A-AC5A46D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0CC-1C39-4040-A362-51B753E8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96E-4D25-42CD-B13C-3F8D6CE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2E1-1835-4478-A0F8-28E7BF3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191-137C-4283-8D4C-2A4CCB3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3A0-DCAF-44F4-A2FF-7282580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79A3-47AA-4DC5-94A0-46BE4A614A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8502-DADE-49B5-AAAE-A88CD3D91EF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rofessional Nurs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6229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sist.Professor .Dr.Ali Kareem Al-jubo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ialjbori@yaho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ob +9647901494104 ,   +964771381939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59280" y="965160"/>
            <a:ext cx="1874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iteria which recognized nursing as a profe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d body of specific 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services ori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authority by a professiona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of et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organization that sets standa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going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ني بدون هذه الصفات لا تعد التمريض مهن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7308720" y="5470560"/>
            <a:ext cx="14050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of clinical nursing practice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tandards of ca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sess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collect pati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agnosi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analyzes the assessment data in determining  nursing diagn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 identifica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identifies expected outcome Individualized to the 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69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la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rse develops a plan of care that prescribe intervention to attain expected outco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mplemen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rse implements the interventions identified in the Plan of 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evaluates the pts. Progress toward attainment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utco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7308720" y="5373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85960" y="47592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Standards of professional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ality of car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systematically evaluates the quality and Effectiveness of nursing pract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apprais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evaluate ones own nursing practice in relation to professional practice standards and relevant statutes and reg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وانين والانظم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s and maintains current knowledge and competency in nursing p ract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833240" y="22766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Comic Sans MS"/>
              </a:rPr>
              <a:t>تقييم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993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ia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interacts with and contributes to the professional development of peers and other health care providers as colleag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s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's decision and action on behalf of pts. Are determined in an ethical mann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174360" y="9810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الزمال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308720" y="5535720"/>
            <a:ext cx="1401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nks for lis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Koala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nursing according to humanistic and holistic c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ccountability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ؤول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iplin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ظا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d by science, theory, ,code of ethics, and the art of care and comfort to treat human responses to health and ill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act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ut the science and art of nursing in to 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i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ociation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ses (CAN) defin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actices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dynamic, caring, helping relationship in which the nurses assists the client to achieve and maintain opti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l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olution of the nursing profess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actices requires a combination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achiev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al standa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Ski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mpa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Factors which affected on nursing profe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s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ياسا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dvanc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lifesty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in the early history was a community services that preserved &amp; protected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ف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7524720" y="530064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of professional nurs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is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ني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behavior that upholds the status methods, character, and standards of given prof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السل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 الذي ي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فع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يعكس م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صفات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معاي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ن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9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profession: These characteristics which distinguish nursing from occup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provided are vital to human beings &amp; welfare of soci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exists a special body of knowledge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g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al growth &amp;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ضع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s provided involve intellectual activities and individual responsibility or accoun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 receive education in institution of               higher lear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225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96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 have autonomy and control their own policies and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otivated by service they provide and consider their work an important to their lives (altruis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يثا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isions &amp; conduct are guided by a code of et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tandards of practice are encouraged &amp; supported by an organ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524720" y="5445000"/>
            <a:ext cx="12254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lements that emerging professi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يثار الحقيق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altru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ع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لمسؤول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ة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 vital human 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of Et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2254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9:06:33Z</dcterms:created>
  <dc:creator>k</dc:creator>
  <dc:description/>
  <dc:language>en-US</dc:language>
  <cp:lastModifiedBy>hp</cp:lastModifiedBy>
  <dcterms:modified xsi:type="dcterms:W3CDTF">2014-12-17T19:11:05Z</dcterms:modified>
  <cp:revision>19</cp:revision>
  <dc:subject/>
  <dc:title>الشريحة 1</dc:title>
</cp:coreProperties>
</file>