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9E3-15EB-452A-9E8C-1792814C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642-7BB9-4C83-8968-CC25ACBB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F9F-3421-4CF2-8237-3A9EA493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FA6-9D70-4639-9414-BADDFFA7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B829-0329-4898-987C-70768497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500E-C79E-4D27-85AA-0C9AEA1F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89A5-560E-4C6B-8B3B-B04B6003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D9BF-37CB-4DBC-983B-4271444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EA93-CB02-4189-BD30-5A6B9B75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1FC4-C497-47BB-AE1F-6C4F1D68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1F7F-9C4A-4683-B90D-4D96705C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C3B-2E05-4426-A2AD-2E7E154B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0EAD-8DF5-40A6-988F-060DC82A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E2B5-5A47-432D-9BCD-A192F83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E757-6435-424D-A9A7-A636CA2E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F832-E4BA-4FF6-82A0-3DBD564E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7063-E0C7-4801-8C84-B11A449A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764-429E-4734-B28D-45E1BE5A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292-5964-48A0-9ED4-6DC64174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0A2-4BA4-4C12-8849-5A8262A7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9FF-6C26-4A25-A5EE-4C9AFD74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484-763F-49BB-A930-195B53C5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81C-4214-488E-B3F4-851894D3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ADB-F6BE-44B1-8EB9-2006DE9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A4D0-9DE9-4189-AE3D-434346851B7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1E75-3D47-4338-AA6D-9655FD0FBA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rofessional Nurs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62292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sist.Professor .Dr.Ali Kareem Al-jubo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ialjbori@yahoo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ob +9647901494104 ,   +964771381939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4859280" y="965160"/>
            <a:ext cx="1874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iteria which recognized nursing as a profes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defined body of specific knowl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services ori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d authority by a professional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of et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organization that sets standa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going 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ني بدون هذه الصفات لا تعد التمريض مهن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7308720" y="5470560"/>
            <a:ext cx="140508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of clinical nursing practice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tandards of car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sessm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collect pati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agnosi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analyzes the assessment data in determining  nursing diagn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 identifica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identifies expected outcome Individualized to the 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4018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7696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la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nurse develops a plan of care that prescribe intervention to attain expected outco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mplemen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nurse implements the interventions identified in the Plan of c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evaluates the pts. Progress toward attainment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utco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7308720" y="5373720"/>
            <a:ext cx="14018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85960" y="475920"/>
            <a:ext cx="7696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 Standards of professional perform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ality of car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systematically evaluates the quality and Effectiveness of nursing pract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apprais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evaluate ones own nursing practice in relation to professional practice standards and relevant statutes and reg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IQ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وانين والانظم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s and maintains current knowledge and competency in nursing p ract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833240" y="227664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Comic Sans MS"/>
              </a:rPr>
              <a:t>تقييم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4018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7993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ial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interacts with and contributes to the professional development of peers and other health care providers as colleag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c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's decision and action on behalf of pts. Are determined in an ethical mann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174360" y="98100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زمال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308720" y="5535720"/>
            <a:ext cx="14018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nks for lis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Koala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nursing according to humanistic and holistic c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accountability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ؤول</a:t>
            </a: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iplin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ظا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d by science, theory, ,code of ethics, and the art of care and comfort to treat human responses to health and illn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pract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ut the science and art of nursing in to 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di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ociation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ses (CAN) define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practices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dynamic, caring, helping relationship in which the nurses assists the client to achieve and maintain opti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l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7524720" y="544500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06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olution of the nursing professio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practices requires a combination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achiev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cal standa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Ski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compa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7524720" y="544500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5564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Factors which affected on nursing profes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g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s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ياسا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dvanc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lifesty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in the early history was a community services that preserved &amp; protected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IQ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فظ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7524720" y="530064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of professional nurs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is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هنية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behavior that upholds the status methods, character, and standards of given profes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السل</a:t>
            </a:r>
            <a:r>
              <a:rPr b="0" lang="ar-IQ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 الذي ي</a:t>
            </a:r>
            <a:r>
              <a:rPr b="0" lang="ar-IQ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فع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يعكس م</a:t>
            </a:r>
            <a:r>
              <a:rPr b="0" lang="ar-IQ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صفات</a:t>
            </a:r>
            <a:r>
              <a:rPr b="0" lang="ar-IQ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معايي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هنة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7524720" y="544500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92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profession: These characteristics which distinguish nursing from occup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 provided are vital to human beings &amp; welfare of socie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exists a special body of knowledge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g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inual growth &amp; 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IQ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ضع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ices provided involve intellectual activities and individual responsibility or account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es receive education in institution of               higher lear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76960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es have autonomy and control their own policies and activ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otivated by service they provide and consider their work an important to their lives (altruis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يثا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isions &amp; conduct are guided by a code of eth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tandards of practice are encouraged &amp; supported by an organ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524720" y="5445000"/>
            <a:ext cx="12254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lements that emerging professio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يثار الحقيق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of altru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ع</a:t>
            </a: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المسؤول</a:t>
            </a: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ة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ing vital human ser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of Eth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12254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9:06:33Z</dcterms:created>
  <dc:creator>k</dc:creator>
  <dc:description/>
  <dc:language>en-US</dc:language>
  <cp:lastModifiedBy>hp</cp:lastModifiedBy>
  <dcterms:modified xsi:type="dcterms:W3CDTF">2014-12-17T19:11:05Z</dcterms:modified>
  <cp:revision>19</cp:revision>
  <dc:subject/>
  <dc:title>الشريحة 1</dc:title>
</cp:coreProperties>
</file>