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C252-0F3E-47E4-8D2C-EFD188A9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FB8D-4358-49F4-900C-AFC72C31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E83C-B1D9-4488-9B34-0AF717E6A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, all business is conducted through personal relationships.  Dave H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, all business is conducted through personal relationships.  THE DAVE HILL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34E8-D2FB-49F6-B659-F9E2B295D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cy – this one really needs help.  I’m trying to depict three types of networks, internal, external and supporting 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E5BD-5428-4ECE-9456-96A038509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the stage for performance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6A3-E6C5-4A2E-9DFB-1D2CC246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 appropriate level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mother employees, and don’t leave them to fend for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74B-3B19-410C-9866-933C7370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EE2-0AC7-486A-92F8-88CECBD4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D53-5E6D-4222-B2CB-ACBFF163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5F3-499D-42D2-B61D-59A591BA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144-83F9-48C5-A57D-10288A0F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90B-C2D0-41C5-A7A2-02B17718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F62-E690-4BBC-922B-45473760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6E8-7B1D-481F-85A0-35E17675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6F0-9CA5-4491-9AF6-94313382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2C4-74B3-410F-8D2B-AB522EB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080-9C2F-4593-84DF-A4EB9217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322-ABEB-4102-B4C6-0F29A49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B87-D186-4748-A1FF-4AABA7630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NNING PRO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Rectangle 3"/>
          <p:cNvGrpSpPr/>
          <p:nvPr/>
        </p:nvGrpSpPr>
        <p:grpSpPr>
          <a:xfrm>
            <a:off x="228600" y="1447920"/>
            <a:ext cx="8686440" cy="5181120"/>
            <a:chOff x="228600" y="1447920"/>
            <a:chExt cx="8686440" cy="5181120"/>
          </a:xfrm>
        </p:grpSpPr>
        <p:sp>
          <p:nvSpPr>
            <p:cNvPr id="50" name="AutoShape 4"/>
            <p:cNvSpPr/>
            <p:nvPr/>
          </p:nvSpPr>
          <p:spPr>
            <a:xfrm>
              <a:off x="228600" y="1447920"/>
              <a:ext cx="8686440" cy="51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17765"/>
            <p:cNvSpPr/>
            <p:nvPr/>
          </p:nvSpPr>
          <p:spPr>
            <a:xfrm flipV="1">
              <a:off x="3845520" y="1792800"/>
              <a:ext cx="1452600" cy="1497240"/>
            </a:xfrm>
            <a:prstGeom prst="pie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op M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17766"/>
            <p:cNvSpPr/>
            <p:nvPr/>
          </p:nvSpPr>
          <p:spPr>
            <a:xfrm flipV="1">
              <a:off x="3119760" y="3290760"/>
              <a:ext cx="2904120" cy="1494720"/>
            </a:xfrm>
            <a:prstGeom prst="pie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d-M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ac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17767"/>
            <p:cNvSpPr/>
            <p:nvPr/>
          </p:nvSpPr>
          <p:spPr>
            <a:xfrm flipV="1">
              <a:off x="2394000" y="4785120"/>
              <a:ext cx="4355640" cy="1497240"/>
            </a:xfrm>
            <a:prstGeom prst="pie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irst-Line M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per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Project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Major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Resource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Solutions or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Key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eam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CPM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ritical Path Example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Gantt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Gantt example"/>
          <p:cNvPicPr/>
          <p:nvPr/>
        </p:nvPicPr>
        <p:blipFill>
          <a:blip r:embed="rId1"/>
          <a:stretch/>
        </p:blipFill>
        <p:spPr>
          <a:xfrm>
            <a:off x="380880" y="2209680"/>
            <a:ext cx="8209080" cy="3951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57200" y="178452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ntt Chart:  Construct Curb 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:  Gantt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Gantt example 2"/>
          <p:cNvPicPr/>
          <p:nvPr/>
        </p:nvPicPr>
        <p:blipFill>
          <a:blip r:embed="rId1"/>
          <a:stretch/>
        </p:blipFill>
        <p:spPr>
          <a:xfrm>
            <a:off x="685800" y="2200320"/>
            <a:ext cx="7772400" cy="36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Timeline Example"/>
          <p:cNvPicPr/>
          <p:nvPr/>
        </p:nvPicPr>
        <p:blipFill>
          <a:blip r:embed="rId1"/>
          <a:stretch/>
        </p:blipFill>
        <p:spPr>
          <a:xfrm>
            <a:off x="939960" y="2057400"/>
            <a:ext cx="6984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Pert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Pert Chart Example"/>
          <p:cNvPicPr/>
          <p:nvPr/>
        </p:nvPicPr>
        <p:blipFill>
          <a:blip r:embed="rId1"/>
          <a:stretch/>
        </p:blipFill>
        <p:spPr>
          <a:xfrm>
            <a:off x="1600200" y="220968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884960" y="1784520"/>
            <a:ext cx="50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Notification – Curb 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ing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w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Reports (weekly/month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reports for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s, Engr. M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Buy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Management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cr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stakeholder interests and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wn 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/equipmen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liable contr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MANAGEMENT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LOYEE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we trying to accomp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ly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2282400" y="2133720"/>
            <a:ext cx="4130640" cy="3429000"/>
            <a:chOff x="2282400" y="2133720"/>
            <a:chExt cx="4130640" cy="3429000"/>
          </a:xfrm>
        </p:grpSpPr>
        <p:sp>
          <p:nvSpPr>
            <p:cNvPr id="96" name="WordArt 5"/>
            <p:cNvSpPr txBox="1"/>
            <p:nvPr/>
          </p:nvSpPr>
          <p:spPr>
            <a:xfrm>
              <a:off x="4625640" y="2890800"/>
              <a:ext cx="1139040" cy="63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l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" name="WordArt 6"/>
            <p:cNvSpPr txBox="1"/>
            <p:nvPr/>
          </p:nvSpPr>
          <p:spPr>
            <a:xfrm>
              <a:off x="4625640" y="4076640"/>
              <a:ext cx="812520" cy="53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WordArt 7"/>
            <p:cNvSpPr txBox="1"/>
            <p:nvPr/>
          </p:nvSpPr>
          <p:spPr>
            <a:xfrm>
              <a:off x="2905200" y="3905280"/>
              <a:ext cx="107280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hec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9" name="WordArt 8"/>
            <p:cNvSpPr txBox="1"/>
            <p:nvPr/>
          </p:nvSpPr>
          <p:spPr>
            <a:xfrm>
              <a:off x="2905200" y="2819520"/>
              <a:ext cx="1072800" cy="7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c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Oval 9"/>
            <p:cNvSpPr/>
            <p:nvPr/>
          </p:nvSpPr>
          <p:spPr>
            <a:xfrm>
              <a:off x="2592360" y="2133720"/>
              <a:ext cx="3471120" cy="3429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2592360" y="3791160"/>
              <a:ext cx="347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4291200" y="2133720"/>
              <a:ext cx="0" cy="342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 rot="435600">
              <a:off x="5490000" y="2248200"/>
              <a:ext cx="781920" cy="914040"/>
            </a:xfrm>
            <a:custGeom>
              <a:avLst/>
              <a:gdLst>
                <a:gd name="textAreaLeft" fmla="*/ 0 w 781920"/>
                <a:gd name="textAreaRight" fmla="*/ 782280 w 7819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 rot="15708000">
              <a:off x="2350800" y="2315880"/>
              <a:ext cx="857160" cy="8341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 rot="11458200">
              <a:off x="2361960" y="4362120"/>
              <a:ext cx="781920" cy="914400"/>
            </a:xfrm>
            <a:custGeom>
              <a:avLst/>
              <a:gdLst>
                <a:gd name="textAreaLeft" fmla="*/ 0 w 781920"/>
                <a:gd name="textAreaRight" fmla="*/ 782280 w 781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 rot="4586400">
              <a:off x="5478480" y="4374000"/>
              <a:ext cx="857160" cy="8341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LOAD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rter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i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4960" y="1980720"/>
            <a:ext cx="5638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lan for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&amp;M Objectives for Ma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e 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delive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 flipH="1" flipV="1">
            <a:off x="2866680" y="2271600"/>
            <a:ext cx="7621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 flipH="1">
            <a:off x="2895480" y="2286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HREE P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Rectangle 3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109" name="AutoShape 4"/>
            <p:cNvSpPr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58373"/>
            <p:cNvSpPr/>
            <p:nvPr/>
          </p:nvSpPr>
          <p:spPr>
            <a:xfrm>
              <a:off x="3840480" y="2679480"/>
              <a:ext cx="1460880" cy="15429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58374"/>
            <p:cNvSpPr/>
            <p:nvPr/>
          </p:nvSpPr>
          <p:spPr>
            <a:xfrm>
              <a:off x="3840480" y="2139840"/>
              <a:ext cx="146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OP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58375"/>
            <p:cNvSpPr/>
            <p:nvPr/>
          </p:nvSpPr>
          <p:spPr>
            <a:xfrm>
              <a:off x="4321800" y="3560400"/>
              <a:ext cx="1460880" cy="15433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58376"/>
            <p:cNvSpPr/>
            <p:nvPr/>
          </p:nvSpPr>
          <p:spPr>
            <a:xfrm>
              <a:off x="5811480" y="4794120"/>
              <a:ext cx="146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ING &amp;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58377"/>
            <p:cNvSpPr/>
            <p:nvPr/>
          </p:nvSpPr>
          <p:spPr>
            <a:xfrm>
              <a:off x="3358080" y="3558960"/>
              <a:ext cx="1460880" cy="15429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58378"/>
            <p:cNvSpPr/>
            <p:nvPr/>
          </p:nvSpPr>
          <p:spPr>
            <a:xfrm>
              <a:off x="1870200" y="4794120"/>
              <a:ext cx="146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L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vs.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914400" y="68580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611280" y="3070080"/>
            <a:ext cx="3427200" cy="21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90720" y="313380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648320" y="2895480"/>
            <a:ext cx="3733560" cy="2113200"/>
          </a:xfrm>
          <a:custGeom>
            <a:avLst/>
            <a:gdLst>
              <a:gd name="textAreaLeft" fmla="*/ 1153800 w 3733560"/>
              <a:gd name="textAreaRight" fmla="*/ 2579760 w 3733560"/>
              <a:gd name="textAreaTop" fmla="*/ 807120 h 2113200"/>
              <a:gd name="textAreaBottom" fmla="*/ 1614600 h 2113200"/>
            </a:gdLst>
            <a:ahLst/>
            <a:rect l="textAreaLeft" t="textAreaTop" r="textAreaRight" b="textAreaBottom"/>
            <a:pathLst>
              <a:path w="3733800" h="2112963">
                <a:moveTo>
                  <a:pt x="4" y="807078"/>
                </a:moveTo>
                <a:lnTo>
                  <a:pt x="1426193" y="807084"/>
                </a:lnTo>
                <a:lnTo>
                  <a:pt x="1866900" y="0"/>
                </a:lnTo>
                <a:lnTo>
                  <a:pt x="2307607" y="807084"/>
                </a:lnTo>
                <a:lnTo>
                  <a:pt x="3733796" y="807078"/>
                </a:lnTo>
                <a:lnTo>
                  <a:pt x="2579980" y="1305876"/>
                </a:lnTo>
                <a:lnTo>
                  <a:pt x="3020709" y="2112956"/>
                </a:lnTo>
                <a:lnTo>
                  <a:pt x="1866900" y="1614149"/>
                </a:lnTo>
                <a:lnTo>
                  <a:pt x="713091" y="2112956"/>
                </a:lnTo>
                <a:lnTo>
                  <a:pt x="1153820" y="130587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219320" y="3352680"/>
            <a:ext cx="961920" cy="5257800"/>
          </a:xfrm>
          <a:custGeom>
            <a:avLst/>
            <a:gdLst>
              <a:gd name="textAreaLeft" fmla="*/ 297360 w 961920"/>
              <a:gd name="textAreaRight" fmla="*/ 664560 w 961920"/>
              <a:gd name="textAreaTop" fmla="*/ 2008440 h 5257800"/>
              <a:gd name="textAreaBottom" fmla="*/ 4016520 h 5257800"/>
            </a:gdLst>
            <a:ahLst/>
            <a:rect l="textAreaLeft" t="textAreaTop" r="textAreaRight" b="textAreaBottom"/>
            <a:pathLst>
              <a:path w="962025" h="5257800">
                <a:moveTo>
                  <a:pt x="1" y="2008295"/>
                </a:moveTo>
                <a:lnTo>
                  <a:pt x="367463" y="2008310"/>
                </a:lnTo>
                <a:lnTo>
                  <a:pt x="481013" y="0"/>
                </a:lnTo>
                <a:lnTo>
                  <a:pt x="594562" y="2008310"/>
                </a:lnTo>
                <a:lnTo>
                  <a:pt x="962024" y="2008295"/>
                </a:lnTo>
                <a:lnTo>
                  <a:pt x="664740" y="3249483"/>
                </a:lnTo>
                <a:lnTo>
                  <a:pt x="778295" y="5257783"/>
                </a:lnTo>
                <a:lnTo>
                  <a:pt x="481013" y="4016574"/>
                </a:lnTo>
                <a:lnTo>
                  <a:pt x="183730" y="5257783"/>
                </a:lnTo>
                <a:lnTo>
                  <a:pt x="297285" y="32494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191120" y="3057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495680" y="36576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mi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4560" y="19051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OCK HUMAN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CH WITH EM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7132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ORMANCE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INTER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 A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43200" y="2286000"/>
            <a:ext cx="358128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981080" y="3048120"/>
            <a:ext cx="50292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TION &amp; 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90720" y="4419720"/>
            <a:ext cx="70102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an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0880" y="5181480"/>
            <a:ext cx="8153640" cy="838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371600" y="3733920"/>
            <a:ext cx="617220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SET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 employee in setting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/Program Accompl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SMART GOAL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-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CO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D EMPLOYE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for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CHABLE MO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-Task P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 and 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Performanc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-Task Ret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takes or L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expec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what the employee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specific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ssume i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should happen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ning Metr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Go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Stand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Requir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SKI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VE 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good judgment – don’t be judg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civilized dialogue – don’t debate or b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employee opportunity to solv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 a positive future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ING A DIFFICUL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feedback style fo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ognizant of tone &amp;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nger out of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the problem –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roo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expectations &amp; check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note of your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T ISN’T WORKING OUT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with manager and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 you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rrectiv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every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within probationary period if performance is not accep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APPRAI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ialized by periodic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as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goals for fut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or employee’s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process particip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ING TO APPRA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appraisal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job responsibilities chang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ve circumstances impacted perform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your performanc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o meet with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ATORY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WITH EMPLOYEE TO PRE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collaborativ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 any changes in expectations up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employee to do self-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employee to identify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appraisa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ST PERFORM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n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UT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go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/Projec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Developmen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evelopmen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c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resources, timelines, bench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what support you’ll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adequat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employee time to 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e employee at 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feedb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for agreement/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your style to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ppraisal a continu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ngoing debrie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n periodically between formal appraisal discu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sking employee to give you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Operation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quire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maintenanc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aily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/monthly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RTING THOUGHT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st rewarding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helping other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ize their pot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Operation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resources to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choices – set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ty check – are we meeting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 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ally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cycles to physical characteristics &amp;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consequence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responsibility for planning/schedul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 Rep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–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backlog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-3967200"/>
            <a:ext cx="8637480" cy="54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habil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threshold trigger for rehabil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eam approach – Ops &amp; En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long-range to meet regulatory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deman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/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ineer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ce to other depts./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36:01Z</dcterms:created>
  <dc:creator>John Ostrowski</dc:creator>
  <dc:description/>
  <dc:language>en-US</dc:language>
  <cp:lastModifiedBy>na</cp:lastModifiedBy>
  <dcterms:modified xsi:type="dcterms:W3CDTF">2015-05-23T09:42:41Z</dcterms:modified>
  <cp:revision>3</cp:revision>
  <dc:subject/>
  <dc:title>THE PLANNING PROCESS</dc:title>
</cp:coreProperties>
</file>