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7B8-15AF-4A09-96CA-EBD964C0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199-3542-4D32-B4F8-4A8A9AB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BC9-FF4C-40EC-A071-2C4B924A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560-319F-4014-97BF-A68A3E30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862A-DB75-444D-8448-2E72B2EB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1471-0E98-41A1-A582-EAD51C0D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1D76-71EC-4360-8B9A-EF45F8BC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7178-E135-4A1C-A929-C471E6F7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E23C-4BCA-4479-AB02-D8526D9F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9F03-483C-4A80-B18B-BE811570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9C21-55DD-4418-8123-0F29EFBC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41E-B08E-4E76-B1A9-D9F6E033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71DB-85D7-4E2C-AA62-6A241D5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8FE1-1A66-41AA-B867-76878D3A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E998-439B-436C-A2A7-FD7423D6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1885-2916-42CE-A1FA-FAE02A51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48E6-0925-4476-B4A9-05D2096D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A293-B4DD-4078-AC98-0BB73E6C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A2262-52F3-4CD3-AAEE-20B1E2E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A5D8-70A7-4A32-8365-5C0BBA6B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AAF7-8C3E-41AD-BF55-314CEC90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DA3B-C736-40F9-83C0-4A3F8836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36FC-877A-45C7-8202-C8DBAA28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9EF1-2E8E-4885-A878-024B0077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9A543-59A3-4148-A259-D9BBD84F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D994-AC68-4C7B-8550-AD483E9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9C34F-E40D-4648-BC4A-E322DF71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869EE-D609-43C4-A746-7692F2D8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45CDE-EE42-48FB-84C3-365F8090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E5F5-9FCC-43F9-BC11-E02D23D5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0963-22B5-4570-A50C-690E92E0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ED5D-D2FC-45D6-94CF-09529F75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B4C4E-4811-4BE5-AE23-A0B5A16D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162-D961-4043-9E59-01AC1053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86421-78E3-4016-8A37-FA95EDD9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86DD0-7DF6-4AA0-A7A8-563C3B66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F2FB1-7980-4666-9D53-80B80BC4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235DD-E398-4110-8BB4-948FF5B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2525-22E2-4A9D-9712-69AEF922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CF603-B5F6-4FE7-B698-B5D6322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D56F8-CF10-4706-A2FA-0EF2FFA5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956E4-758C-4CB6-A4FF-0DFD7478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66B20-A867-4942-856D-1F0561D8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4D751-B5FB-4A4F-A825-02690813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38A-A12D-40B6-A29B-5ACA403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B7D3F-7CEA-4832-A086-00B3FBFA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E21B-F39C-42F1-ACF6-05CF27ED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3F0E4-ADB3-4B03-B076-05FCFCE6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3BC06-ED53-4852-B492-63867540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DDBB1-FCCC-47F7-8C7A-B6333F84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597BF-2590-488C-B255-3C8CC31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6FBA4-1594-4719-8E56-2E47353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00604-2A03-465D-AED4-32674FD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D9D15-3D4A-45E6-BBA5-FE215BC3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44F0-1505-49B9-A5D3-134C698D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B39-4D95-4B56-8DF5-B5CA6CA4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13C91-73FC-4BC4-8A61-40F2394C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BAE-7D4D-43B8-88E4-60916E0D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82E-E5AA-42EB-B1F4-1070699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2E4-2755-4387-A85E-35314735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1EDB-92CE-4DDD-9065-9E0350182FD1}" type="slidenum">
              <a:rPr b="0" lang="ar-S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84F6-DF57-49B8-97A9-72A0D43E40EB}" type="slidenum">
              <a:rPr b="0" lang="ar-S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19AC-A8DA-4CBD-8DA6-741ED6379719}" type="slidenum">
              <a:rPr b="0" lang="ar-S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5826-2189-41DA-B7E1-38FCB280761A}" type="slidenum">
              <a:rPr b="0" lang="ar-SA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 algn="r" rtl="1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99AE-68F5-48FF-A6C8-508CCC2F9D59}" type="slidenum">
              <a:rPr b="0" lang="ar-SA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23640" y="1267920"/>
            <a:ext cx="8351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Franklin Gothic Book"/>
              </a:rPr>
              <a:t>Communication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Franklin Gothic Book"/>
              </a:rPr>
              <a:t>and  Therapeutic Relationship</a:t>
            </a: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algn="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Dr. Ali K. Al-Mesrawi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algn="ctr" rtl="1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algn="r" rtl="1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rtl="1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380360" y="5300640"/>
            <a:ext cx="158436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68360" y="620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Non verbal communication: is sometimes called (body language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t includes gestures, body movement, use of touch, and physical appearanc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Nonverbal communication tells other more about what a person is feeling than what is actually said, because nonverbal behavior is controlled less consciously than verbal behavior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2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78640" y="5229360"/>
            <a:ext cx="14479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29952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ote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Observation and interpreting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is essential skill for nurses to develop the clients nonverbal behavior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To observe nonverbal behavior efficiently requires a systematic assessment of the person's overall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- physical appearance. (clothing and adornments can be source of source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67560" y="5229360"/>
            <a:ext cx="1447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- posture &amp; Gait : (walking, erect posture, physical discomfort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- Facial expressions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- Gestures: hand and body gestures may emphasize and clarity the spoken word, or they may occur without words to indicate a particular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feeling or to give a sign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99520" y="5229360"/>
            <a:ext cx="14461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6836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Factors Influencing the communication process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1- Development: Language &amp;psychosocial and intellectual development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Knowledge of a clients developmental stage will allow the nurse to modify the message according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- gender: female and male differently: girls tend to use language to seek confirmation, minimize differences, and establish intimac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oys use language to establish independence and negotiate status with a group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08880" y="5300640"/>
            <a:ext cx="14461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3- Values and perceptions: Values: are standards that influence behavior  perception: are the personal view of an event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4- Personal space: Is the distance people prefer in interactions with other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Proxemics: is the study of distance between people in their interaction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21400" y="5229360"/>
            <a:ext cx="15433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25092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ommunication thus alters in accordance with four distances (Tamparo and Lindth,2000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- Intimate: Touching 1 ½ feet (Ex: cuddling a baby, touching the sightles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- Personal: 1 ½ to 4 feet ( Ex: nurse sitting with clients during giving drugs)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3- Social: 4 to 12 feet.     (Ex: the nurse who stands in the doorway and ask a client how are you today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2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667640" y="5229360"/>
            <a:ext cx="1303200" cy="11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- Public: 12- 15 feet: require loud, clear vocalizations ( Ex: health teaching lecture)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5- Territoriality: Is a concept of the space and space things that an individual considers as belonging to the self.</a:t>
            </a:r>
            <a:r>
              <a:rPr b="0" lang="ar-IQ" sz="3200" spc="-1" strike="noStrike">
                <a:solidFill>
                  <a:srgbClr val="000000"/>
                </a:solidFill>
                <a:latin typeface="Franklin Gothic Book"/>
              </a:rPr>
              <a:t>الممتلكات الخاصة بالمريض يجب اخذ الاذن من المريض ليغير شي قرب المريض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6- Roles and relationships: between sender and receiver affect the communication process. Ex: clients and physician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51640" y="5300640"/>
            <a:ext cx="156384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95280" y="47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7- Environment: Comfortable, temperature, excessive noise and poorly ventilated environment can interfere with communicatio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8- Congruence: verbal and nonverbal aspects of the message match: Trust prevent miscommunicatio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9- Interpersonal Attitude: Attitudes convey beliefs, thoughts, and feelings about people and events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61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50920" y="3330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Nurse- clients relationship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: (therapeutic relationships) (helping relationship)  have two goals: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- Helps clients manage their problems  living more effectively and develop unused or underused opportunities more fully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- Helps clients become better at helping themselves in their everyday lives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61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Phases of therapeutic relationship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- pre interaction phase: similar to the planning stage before interview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the nurse has information about the client before the first face to face meeting ( during taking client name, address, age, medical history)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96360" y="5300640"/>
            <a:ext cx="1447560" cy="11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68360" y="33336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ommunication have various meanings depending on the context in which it is used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Is the interchange of information between two or more peopl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 Exchange of ideas or thought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Talking &amp;listening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 Writing &amp;reading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* Is the transfer of information &amp; feelings between two or more peopl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70720" y="537372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94920" y="260280"/>
            <a:ext cx="752148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2- Introductory phase:( orientation phase)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The clients and the nurse closely observe each other and form judgments about the others behavior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Franklin Gothic Book"/>
              </a:rPr>
              <a:t>Benefit  of  introductory phase: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opening the relationship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Clarifying the problem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572760" indent="-572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Structuring and formulation 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61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78920" y="476280"/>
            <a:ext cx="87915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3- Working phase: Benefit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xploring and understanding thoughts and feeling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acilitating taking action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- Termination phase: nurse and client accept feelings of loss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37320" y="5229360"/>
            <a:ext cx="14464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                             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Thank s For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                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Listening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lackadder ITC"/>
              </a:rPr>
              <a:t>        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539640" y="476280"/>
            <a:ext cx="410364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Effectiv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nurse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communication depends o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ability to collect (assess) data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ability to 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initiate interventions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-ability to e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valuate outcome of interventions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8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6160" y="5229360"/>
            <a:ext cx="1447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Component of communication proces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ace to face communication involves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1- A sender : A person or group who wishes to convey a message to anothe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ource- encoder: this term suggest that the person or group sending the message must have an idea or reason for communication (source) &amp; must put the idea or feeling in to a form that can be transmitted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Encoding: Is selected of specific signs or symbols (code) to transmit the message. Such as the words, tone of vic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26440" y="5300640"/>
            <a:ext cx="144756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- Message: means what is actually said or writte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ow the message transmitted----- by channel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hannel: The medium used  to convey the messag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he channel should be appropriate for the massage &amp;help the message more clear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alking face to face a person more effective in some instances than telephoning or writing a message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.V, Radio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612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- Receiver (listener): Who must listen, observe, and attend this person is the decoder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Franklin Gothic Book"/>
              </a:rPr>
              <a:t>Decode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: means to relate the message perceived to the receiver s storehouse of knowledge &amp; experience &amp; to sort out the meaning of the message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4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51640" y="5300640"/>
            <a:ext cx="144612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4- Response ( feed back) :Is the message that the receiver returns to the sender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Feedback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: can be -- verbal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-- Non verbal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Modes of communication: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Verbal communication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on verbal communication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Verbal com.: is largely conscious because people choose the words they us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466040" y="5229360"/>
            <a:ext cx="150480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Franklin Gothic Book"/>
              </a:rPr>
              <a:t>Words depend on: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Socioeconomic background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Age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90720" indent="-53352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Education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8" name="Picture 3" descr="C:\Users\hp\Desktop\disktop files\شعار.jpg"/>
          <p:cNvPicPr/>
          <p:nvPr/>
        </p:nvPicPr>
        <p:blipFill>
          <a:blip r:embed="rId1"/>
          <a:stretch/>
        </p:blipFill>
        <p:spPr>
          <a:xfrm>
            <a:off x="7524720" y="5229360"/>
            <a:ext cx="14446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9280" y="620640"/>
            <a:ext cx="8209080" cy="40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** When choosing word the nurse need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ace &amp; intonation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mplicit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arity &amp; brevit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iming &amp; relevanc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daptabilit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redibilit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930960" indent="-501480">
              <a:lnSpc>
                <a:spcPct val="9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umor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7380360" y="5229360"/>
            <a:ext cx="1506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6:56:22Z</dcterms:created>
  <dc:creator>Dr huda</dc:creator>
  <dc:description/>
  <dc:language>en-US</dc:language>
  <cp:lastModifiedBy>hp</cp:lastModifiedBy>
  <dcterms:modified xsi:type="dcterms:W3CDTF">2015-03-25T19:28:27Z</dcterms:modified>
  <cp:revision>17</cp:revision>
  <dc:subject/>
  <dc:title>Slide 1</dc:title>
</cp:coreProperties>
</file>