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0489-FC97-47CA-91CE-9FF036721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D3C7-43AD-472D-B204-E21A0F607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5FEE-8F8B-44E5-B736-F074AF3AA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E5EA-0E60-4AED-9B78-3835F00BF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F710F-963E-427E-8A46-4926EA084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C52E8-ABA5-43CD-95D0-43CB3FAFA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1D2BF-CA05-4937-A110-EC52CE2FB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CEFDB-E50D-43AF-BD69-6ADEA0F9C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1C121-5737-4F93-A81B-1B79CDD76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1297F-B42A-40CC-AE97-29803B5A4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2AE5E-1E0E-4C60-83F3-DFD6F6AB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C6E5-60AE-4B1F-BB8C-C6A047CCB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5D896-188D-4FD0-BE1F-B66E8FCB0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EA352-F5A8-4E2F-88D4-6C8EC2912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08F67-FD62-4935-A1DA-FE5F3BD42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09E0C-524C-4768-A8B6-71AD50EEF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D0207-524C-4513-A7FD-793ABEBCC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641E2-7407-496C-9413-62D1E4E39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CE9C3-5FC1-492F-9EAF-11B384AE9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04D45-B6C1-43FD-A992-1CF935514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83B60-8911-4D8B-8CD1-D18EFC83D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6D28F-C8CE-40B9-90E0-741DE9EE4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7051-2A6B-4B63-AB80-363222BD5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8BC44-01B1-463E-972B-B596E2207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F0281-72B2-4D16-8C35-AD913CF9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990DA-5275-4280-B06F-D0A407B93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503F7-FAA8-4EAF-9F72-8D5D7F080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35A3E-3A5F-474F-BBEE-6F34A58FF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881E5-785A-4E10-BF71-3ACB4D705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D7A74-E9E2-4DEF-ADD5-B863C48D5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D87C8-465B-44D1-9476-4A41BA6E0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BAD77-10A0-46C3-AABB-E6C9BE0E4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F2D8F-D33D-47BD-827F-EC597A0C3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647E-646F-459F-92C2-420C73DBA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3F225-0F5B-4AAE-88ED-C1C120D9E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FA575-7625-4EEE-B91E-BE7218CC0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0CD09-F4C4-492A-8E71-265F0654C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A2603-3B3E-4998-B8AC-541E7806A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22493-FC02-4EA5-ABF1-05A93D007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2D159-1194-4CCC-B5EF-58E7AFBE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E10EF-52E2-4ECF-A98C-3255A1304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A04B1-9BB1-4098-A9D9-12CD2E28C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B4D40-38EE-46B6-A992-E9D6D7D98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BF724-468A-42EC-831A-BAC2141D8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82A7-1471-405B-ADA6-22E133F04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3CA51-65D3-49E7-BF2F-7A46BEE1A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4725C6-A17A-40BE-A5B6-AC15F7227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0E5B3-60C5-4BE4-8ADC-3C0CC906B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11A83-A251-45A3-A42F-44B14430C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A26637-28DF-4C07-83CE-C1431C038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0D362-D3E2-4BB4-821E-96C38817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8FC82-27A5-4BF9-87B1-8F2287A75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AF4DC2-209D-436C-ABCE-49D628D51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531522-C90B-4675-9709-E58B22F1C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FB296E-CE41-40F2-BB52-C54197407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1CA7-7954-4DB2-94E0-DE7757F65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3E73C1-CDAF-403F-9E1F-5BCCBEECC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99A8-A4AC-4FB8-9490-6E6CC9E9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0308-8BC4-4C1F-9B94-C54528C52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CC20-4176-4B87-A32D-60C6974C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 algn="r" rtl="1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 algn="r" rtl="1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 algn="r" rtl="1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 algn="r" rtl="1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9C425-C179-47C0-A594-15F26D29B69D}" type="slidenum">
              <a:rPr b="0" lang="ar-SA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 algn="r" rtl="1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 algn="r" rtl="1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 algn="r" rtl="1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 algn="r" rtl="1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F3A04-4D09-4A22-AA67-470E2A829196}" type="slidenum">
              <a:rPr b="0" lang="ar-SA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 algn="r" rtl="1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 algn="r" rtl="1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 algn="r" rtl="1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 algn="r" rtl="1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F7236-940E-4E38-BB31-E64405321DDE}" type="slidenum">
              <a:rPr b="0" lang="ar-SA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 algn="r" rtl="1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 algn="r" rtl="1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 algn="r" rtl="1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 algn="r" rtl="1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434342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50B28-11F2-4639-8E9F-77A3680FD61A}" type="slidenum">
              <a:rPr b="0" lang="ar-SA" sz="1600" spc="-1" strike="noStrike">
                <a:solidFill>
                  <a:srgbClr val="434342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 algn="r" rtl="1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 algn="r" rtl="1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 algn="r" rtl="1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 algn="r" rtl="1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98BDB-EA58-4454-A210-87D7596951F6}" type="slidenum">
              <a:rPr b="0" lang="ar-SA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323640" y="1267920"/>
            <a:ext cx="83516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Franklin Gothic Book"/>
              </a:rPr>
              <a:t>Communication</a:t>
            </a:r>
            <a:endParaRPr b="1" lang="en-US" sz="50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Franklin Gothic Book"/>
              </a:rPr>
              <a:t>and  Therapeutic Relationship</a:t>
            </a:r>
            <a:endParaRPr b="1" lang="en-US" sz="50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 algn="r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 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Dr. Ali K. Al-Mesrawi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 algn="ctr" rtl="1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 algn="r" rtl="1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 rtl="1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1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24" name="Picture 3" descr="C:\Users\hp\Desktop\disktop files\شعار.jpg"/>
          <p:cNvPicPr/>
          <p:nvPr/>
        </p:nvPicPr>
        <p:blipFill>
          <a:blip r:embed="rId1"/>
          <a:stretch/>
        </p:blipFill>
        <p:spPr>
          <a:xfrm>
            <a:off x="7380360" y="5300640"/>
            <a:ext cx="1584360" cy="129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468360" y="62028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Non verbal communication: is sometimes called (body language)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It includes gestures, body movement, use of touch, and physical appearance.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Nonverbal communication tells other more about what a person is feeling than what is actually said, because nonverbal behavior is controlled less consciously than verbal behavior.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42" name="Picture 3" descr="C:\Users\hp\Desktop\disktop files\شعار.jpg"/>
          <p:cNvPicPr/>
          <p:nvPr/>
        </p:nvPicPr>
        <p:blipFill>
          <a:blip r:embed="rId1"/>
          <a:stretch/>
        </p:blipFill>
        <p:spPr>
          <a:xfrm>
            <a:off x="7478640" y="5229360"/>
            <a:ext cx="1447920" cy="13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468360" y="299520"/>
            <a:ext cx="8229600" cy="565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Note: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Franklin Gothic Book"/>
              </a:rPr>
              <a:t>Observation and interpreting</a:t>
            </a: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 is essential skill for nurses to develop the clients nonverbal behavior.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To observe nonverbal behavior efficiently requires a systematic assessment of the person's overall 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1- physical appearance. (clothing and adornments can be source of source)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       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44" name="Picture 3" descr="C:\Users\hp\Desktop\disktop files\شعار.jpg"/>
          <p:cNvPicPr/>
          <p:nvPr/>
        </p:nvPicPr>
        <p:blipFill>
          <a:blip r:embed="rId1"/>
          <a:stretch/>
        </p:blipFill>
        <p:spPr>
          <a:xfrm>
            <a:off x="7567560" y="5229360"/>
            <a:ext cx="1447920" cy="14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2- posture &amp; Gait : (walking, erect posture, physical discomfort).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3- Facial expressions.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4- Gestures: hand and body gestures may emphasize and clarity the spoken word, or they may occur without words to indicate a particular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feeling or to give a sign.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46" name="Picture 3" descr="C:\Users\hp\Desktop\disktop files\شعار.jpg"/>
          <p:cNvPicPr/>
          <p:nvPr/>
        </p:nvPicPr>
        <p:blipFill>
          <a:blip r:embed="rId1"/>
          <a:stretch/>
        </p:blipFill>
        <p:spPr>
          <a:xfrm>
            <a:off x="7499520" y="5229360"/>
            <a:ext cx="1446120" cy="13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468360" y="33336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Franklin Gothic Book"/>
              </a:rPr>
              <a:t>Factors Influencing the communication process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1- Development: Language &amp;psychosocial and intellectual development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Knowledge of a clients developmental stage will allow the nurse to modify the message accordingly.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2- gender: female and male differently: girls tend to use language to seek confirmation, minimize differences, and establish intimacy.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Boys use language to establish independence and negotiate status with a group.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48" name="Picture 3" descr="C:\Users\hp\Desktop\disktop files\شعار.jpg"/>
          <p:cNvPicPr/>
          <p:nvPr/>
        </p:nvPicPr>
        <p:blipFill>
          <a:blip r:embed="rId1"/>
          <a:stretch/>
        </p:blipFill>
        <p:spPr>
          <a:xfrm>
            <a:off x="7508880" y="5300640"/>
            <a:ext cx="1446120" cy="13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3- Values and perceptions: Values: are standards that influence behavior  perception: are the personal view of an event.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4- Personal space: Is the distance people prefer in interactions with others.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Proxemics: is the study of distance between people in their interaction 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50" name="Picture 3" descr="C:\Users\hp\Desktop\disktop files\شعار.jpg"/>
          <p:cNvPicPr/>
          <p:nvPr/>
        </p:nvPicPr>
        <p:blipFill>
          <a:blip r:embed="rId1"/>
          <a:stretch/>
        </p:blipFill>
        <p:spPr>
          <a:xfrm>
            <a:off x="7421400" y="5229360"/>
            <a:ext cx="1543320" cy="14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250920" y="259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Communication thus alters in accordance with four distances (Tamparo and Lindth,2000)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1- Intimate: Touching 1 ½ feet (Ex: cuddling a baby, touching the sightless.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2- Personal: 1 ½ to 4 feet ( Ex: nurse sitting with clients during giving drugs).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3- Social: 4 to 12 feet.     (Ex: the nurse who stands in the doorway and ask a client how are you today.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52" name="Picture 3" descr="C:\Users\hp\Desktop\disktop files\شعار.jpg"/>
          <p:cNvPicPr/>
          <p:nvPr/>
        </p:nvPicPr>
        <p:blipFill>
          <a:blip r:embed="rId1"/>
          <a:stretch/>
        </p:blipFill>
        <p:spPr>
          <a:xfrm>
            <a:off x="7667640" y="5229360"/>
            <a:ext cx="1303200" cy="113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4- Public: 12- 15 feet: require loud, clear vocalizations ( Ex: health teaching lecture).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5- Territoriality: Is a concept of the space and space things that an individual considers as belonging to the self.</a:t>
            </a:r>
            <a:r>
              <a:rPr b="0" lang="ar-IQ" sz="3200" spc="-1" strike="noStrike">
                <a:solidFill>
                  <a:srgbClr val="000000"/>
                </a:solidFill>
                <a:latin typeface="Franklin Gothic Book"/>
              </a:rPr>
              <a:t>الممتلكات الخاصة بالمريض يجب اخذ الاذن من المريض ليغير شي قرب المريض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6- Roles and relationships: between sender and receiver affect the communication process. Ex: clients and physician.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54" name="Picture 3" descr="C:\Users\hp\Desktop\disktop files\شعار.jpg"/>
          <p:cNvPicPr/>
          <p:nvPr/>
        </p:nvPicPr>
        <p:blipFill>
          <a:blip r:embed="rId1"/>
          <a:stretch/>
        </p:blipFill>
        <p:spPr>
          <a:xfrm>
            <a:off x="7451640" y="5300640"/>
            <a:ext cx="1563840" cy="113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395280" y="4759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572760" indent="-5727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7- Environment: Comfortable, temperature, excessive noise and poorly ventilated environment can interfere with communication.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572760" indent="-5727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8- Congruence: verbal and nonverbal aspects of the message match: Trust prevent miscommunication.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572760" indent="-5727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9- Interpersonal Attitude: Attitudes convey beliefs, thoughts, and feelings about people and events.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56" name="Picture 3" descr="C:\Users\hp\Desktop\disktop files\شعار.jpg"/>
          <p:cNvPicPr/>
          <p:nvPr/>
        </p:nvPicPr>
        <p:blipFill>
          <a:blip r:embed="rId1"/>
          <a:stretch/>
        </p:blipFill>
        <p:spPr>
          <a:xfrm>
            <a:off x="7524720" y="5229360"/>
            <a:ext cx="1446120" cy="12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250920" y="33300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Franklin Gothic Book"/>
              </a:rPr>
              <a:t>Nurse- clients relationship</a:t>
            </a: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: (therapeutic relationships) (helping relationship)  have two goals: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1- Helps clients manage their problems  living more effectively and develop unused or underused opportunities more fully.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2- Helps clients become better at helping themselves in their everyday lives 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58" name="Picture 3" descr="C:\Users\hp\Desktop\disktop files\شعار.jpg"/>
          <p:cNvPicPr/>
          <p:nvPr/>
        </p:nvPicPr>
        <p:blipFill>
          <a:blip r:embed="rId1"/>
          <a:stretch/>
        </p:blipFill>
        <p:spPr>
          <a:xfrm>
            <a:off x="7524720" y="5229360"/>
            <a:ext cx="1446120" cy="12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Franklin Gothic Book"/>
              </a:rPr>
              <a:t>Phases of therapeutic relationship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1- pre interaction phase: similar to the planning stage before interview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the nurse has information about the client before the first face to face meeting ( during taking client name, address, age, medical history)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60" name="Picture 3" descr="C:\Users\hp\Desktop\disktop files\شعار.jpg"/>
          <p:cNvPicPr/>
          <p:nvPr/>
        </p:nvPicPr>
        <p:blipFill>
          <a:blip r:embed="rId1"/>
          <a:stretch/>
        </p:blipFill>
        <p:spPr>
          <a:xfrm>
            <a:off x="7596360" y="5300640"/>
            <a:ext cx="1447560" cy="113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468360" y="33336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Communication have various meanings depending on the context in which it is used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*Is the interchange of information between two or more people.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* Exchange of ideas or thoughts.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*Talking &amp;listening.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* Writing &amp;reading.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* Is the transfer of information &amp; feelings between two or more people.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26" name="Picture 3" descr="C:\Users\hp\Desktop\disktop files\شعار.jpg"/>
          <p:cNvPicPr/>
          <p:nvPr/>
        </p:nvPicPr>
        <p:blipFill>
          <a:blip r:embed="rId1"/>
          <a:stretch/>
        </p:blipFill>
        <p:spPr>
          <a:xfrm>
            <a:off x="7470720" y="5373720"/>
            <a:ext cx="1447920" cy="12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394920" y="260280"/>
            <a:ext cx="7521480" cy="43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marL="572760" indent="-5727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marL="572760" indent="-5727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Franklin Gothic Book"/>
              </a:rPr>
              <a:t>2- Introductory phase:( orientation phase)</a:t>
            </a:r>
            <a:endParaRPr b="1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marL="572760" indent="-5727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Franklin Gothic Book"/>
              </a:rPr>
              <a:t>The clients and the nurse closely observe each other and form judgments about the others behavior.</a:t>
            </a:r>
            <a:endParaRPr b="1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marL="572760" indent="-5727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Franklin Gothic Book"/>
              </a:rPr>
              <a:t>Benefit  of  introductory phase:</a:t>
            </a:r>
            <a:endParaRPr b="1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marL="572760" indent="-5727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Franklin Gothic Book"/>
              </a:rPr>
              <a:t>opening the relationship.</a:t>
            </a:r>
            <a:endParaRPr b="1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marL="572760" indent="-5727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Franklin Gothic Book"/>
              </a:rPr>
              <a:t>Clarifying the problem.</a:t>
            </a:r>
            <a:endParaRPr b="1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marL="572760" indent="-5727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Franklin Gothic Book"/>
              </a:rPr>
              <a:t>Structuring and formulation </a:t>
            </a:r>
            <a:endParaRPr b="1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62" name="Picture 3" descr="C:\Users\hp\Desktop\disktop files\شعار.jpg"/>
          <p:cNvPicPr/>
          <p:nvPr/>
        </p:nvPicPr>
        <p:blipFill>
          <a:blip r:embed="rId1"/>
          <a:stretch/>
        </p:blipFill>
        <p:spPr>
          <a:xfrm>
            <a:off x="7524720" y="5229360"/>
            <a:ext cx="1446120" cy="13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178920" y="476280"/>
            <a:ext cx="87915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Franklin Gothic Book"/>
              </a:rPr>
              <a:t>3- Working phase: Benefit 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Exploring and understanding thoughts and feelings.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acilitating taking action.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4- Termination phase: nurse and client accept feelings of loss 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64" name="Picture 3" descr="C:\Users\hp\Desktop\disktop files\شعار.jpg"/>
          <p:cNvPicPr/>
          <p:nvPr/>
        </p:nvPicPr>
        <p:blipFill>
          <a:blip r:embed="rId1"/>
          <a:stretch/>
        </p:blipFill>
        <p:spPr>
          <a:xfrm>
            <a:off x="7537320" y="5229360"/>
            <a:ext cx="1446480" cy="13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-360" y="0"/>
            <a:ext cx="93963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                                                                      </a:t>
            </a:r>
            <a:r>
              <a:rPr b="1" lang="en-US" sz="5400" spc="-1" strike="noStrike">
                <a:solidFill>
                  <a:srgbClr val="000000"/>
                </a:solidFill>
                <a:latin typeface="Blackadder ITC"/>
              </a:rPr>
              <a:t>Thank s For</a:t>
            </a:r>
            <a:endParaRPr b="1" lang="en-US" sz="5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lackadder ITC"/>
              </a:rPr>
              <a:t>                                        </a:t>
            </a:r>
            <a:r>
              <a:rPr b="1" lang="en-US" sz="5400" spc="-1" strike="noStrike">
                <a:solidFill>
                  <a:srgbClr val="000000"/>
                </a:solidFill>
                <a:latin typeface="Blackadder ITC"/>
              </a:rPr>
              <a:t>Listening</a:t>
            </a:r>
            <a:endParaRPr b="1" lang="en-US" sz="5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lackadder ITC"/>
              </a:rPr>
              <a:t>        </a:t>
            </a:r>
            <a:endParaRPr b="1" lang="en-US" sz="5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66" name="Picture 3" descr="C:\Users\hp\Desktop\disktop files\شعار.jpg"/>
          <p:cNvPicPr/>
          <p:nvPr/>
        </p:nvPicPr>
        <p:blipFill>
          <a:blip r:embed="rId1"/>
          <a:stretch/>
        </p:blipFill>
        <p:spPr>
          <a:xfrm>
            <a:off x="539640" y="476280"/>
            <a:ext cx="4103640" cy="43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Franklin Gothic Book"/>
              </a:rPr>
              <a:t>Effective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Franklin Gothic Book"/>
              </a:rPr>
              <a:t>nurses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Franklin Gothic Book"/>
              </a:rPr>
              <a:t>communication depends on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Franklin Gothic Book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-ability to collect (assess) data.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-ability to 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initiate interventions.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-ability to e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valuate outcome of interventions.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28" name="Picture 3" descr="C:\Users\hp\Desktop\disktop files\شعار.jpg"/>
          <p:cNvPicPr/>
          <p:nvPr/>
        </p:nvPicPr>
        <p:blipFill>
          <a:blip r:embed="rId1"/>
          <a:stretch/>
        </p:blipFill>
        <p:spPr>
          <a:xfrm>
            <a:off x="7526160" y="5229360"/>
            <a:ext cx="1447920" cy="12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Franklin Gothic Book"/>
              </a:rPr>
              <a:t>Component of communication process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Face to face communication involves: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1- A sender : A person or group who wishes to convey a message to another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Source- encoder: this term suggest that the person or group sending the message must have an idea or reason for communication (source) &amp; must put the idea or feeling in to a form that can be transmitted.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Encoding: Is selected of specific signs or symbols (code) to transmit the message. Such as the words, tone of vice.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30" name="Picture 3" descr="C:\Users\hp\Desktop\disktop files\شعار.jpg"/>
          <p:cNvPicPr/>
          <p:nvPr/>
        </p:nvPicPr>
        <p:blipFill>
          <a:blip r:embed="rId1"/>
          <a:stretch/>
        </p:blipFill>
        <p:spPr>
          <a:xfrm>
            <a:off x="7426440" y="5300640"/>
            <a:ext cx="1447560" cy="129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2- Message: means what is actually said or written.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How the message transmitted----- by channel.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Channel: The medium used  to convey the message.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the channel should be appropriate for the massage &amp;help the message more clear.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Talking face to face a person more effective in some instances than telephoning or writing a message.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T.V, Radio.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32" name="Picture 3" descr="C:\Users\hp\Desktop\disktop files\شعار.jpg"/>
          <p:cNvPicPr/>
          <p:nvPr/>
        </p:nvPicPr>
        <p:blipFill>
          <a:blip r:embed="rId1"/>
          <a:stretch/>
        </p:blipFill>
        <p:spPr>
          <a:xfrm>
            <a:off x="7524720" y="5229360"/>
            <a:ext cx="1446120" cy="128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3- Receiver (listener): Who must listen, observe, and attend this person is the decoder.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Franklin Gothic Book"/>
              </a:rPr>
              <a:t>Decode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: means to relate the message perceived to the receiver s storehouse of knowledge &amp; experience &amp; to sort out the meaning of the message.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34" name="Picture 3" descr="C:\Users\hp\Desktop\disktop files\شعار.jpg"/>
          <p:cNvPicPr/>
          <p:nvPr/>
        </p:nvPicPr>
        <p:blipFill>
          <a:blip r:embed="rId1"/>
          <a:stretch/>
        </p:blipFill>
        <p:spPr>
          <a:xfrm>
            <a:off x="7451640" y="5300640"/>
            <a:ext cx="1446120" cy="128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4- Response ( feed back) :Is the message that the receiver returns to the sender.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Franklin Gothic Book"/>
              </a:rPr>
              <a:t>Feedback</a:t>
            </a: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: can be -- verbal 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-- Non verbal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Franklin Gothic Book"/>
              </a:rPr>
              <a:t>Modes of communication: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Verbal communication.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Non verbal communication.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Verbal com.: is largely conscious because people choose the words they use.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36" name="Picture 3" descr="C:\Users\hp\Desktop\disktop files\شعار.jpg"/>
          <p:cNvPicPr/>
          <p:nvPr/>
        </p:nvPicPr>
        <p:blipFill>
          <a:blip r:embed="rId1"/>
          <a:stretch/>
        </p:blipFill>
        <p:spPr>
          <a:xfrm>
            <a:off x="7466040" y="5229360"/>
            <a:ext cx="1504800" cy="13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Franklin Gothic Book"/>
              </a:rPr>
              <a:t>Words depend on:</a:t>
            </a:r>
            <a:endParaRPr b="1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990720" indent="-53352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Book"/>
              </a:rPr>
              <a:t>culture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990720" indent="-53352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Book"/>
              </a:rPr>
              <a:t>Socioeconomic background.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990720" indent="-53352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Book"/>
              </a:rPr>
              <a:t>Age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990720" indent="-53352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Book"/>
              </a:rPr>
              <a:t>Education 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38" name="Picture 3" descr="C:\Users\hp\Desktop\disktop files\شعار.jpg"/>
          <p:cNvPicPr/>
          <p:nvPr/>
        </p:nvPicPr>
        <p:blipFill>
          <a:blip r:embed="rId1"/>
          <a:stretch/>
        </p:blipFill>
        <p:spPr>
          <a:xfrm>
            <a:off x="7524720" y="5229360"/>
            <a:ext cx="1444680" cy="12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9280" y="620640"/>
            <a:ext cx="8209080" cy="40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930960" indent="-5014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Franklin Gothic Book"/>
              </a:rPr>
              <a:t>** When choosing word the nurse need: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930960" indent="-50148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Pace &amp; intonation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930960" indent="-50148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mplicity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930960" indent="-50148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arity &amp; brevity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930960" indent="-50148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iming &amp; relevance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930960" indent="-50148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Adaptability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930960" indent="-50148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redibility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930960" indent="-50148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Humor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22200" indent="-32220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7380360" y="5229360"/>
            <a:ext cx="150660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2T16:56:22Z</dcterms:created>
  <dc:creator>Dr huda</dc:creator>
  <dc:description/>
  <dc:language>en-US</dc:language>
  <cp:lastModifiedBy>hp</cp:lastModifiedBy>
  <dcterms:modified xsi:type="dcterms:W3CDTF">2015-03-25T19:28:27Z</dcterms:modified>
  <cp:revision>17</cp:revision>
  <dc:subject/>
  <dc:title>Slide 1</dc:title>
</cp:coreProperties>
</file>