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653-CEEC-43A4-95C9-547A6275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607-DEB2-4F06-A2EE-AB4B04DB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B54-A120-42ED-9C64-E974352F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447-0992-42A5-866D-3BA58E9C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4E59A-7101-44D7-B20F-0BA5176B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A82B1-3989-43A5-92BD-267C5556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95601-A2A6-4438-9239-01C90ED8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807DE-C317-464D-B589-F5AD94F4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431FD-1581-4C1E-84D6-53162757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C8215-4A7B-4432-882F-1428ED16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C2714-13B7-4A9C-BFC6-98186B0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200-D895-44A2-A875-5744A2F6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F9394-3CE4-45AB-901A-50B017C2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17327-397D-475A-AB89-7EA5FBFD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BAFAF-6805-497E-8A2B-0BAEC03F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DA2C3-86D2-4392-ACE2-CD5A3A48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4A0D3-78D7-41A7-A5D5-F83B0E76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257-2806-4C9A-AA1B-7AE47F02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451-EF7B-40E4-AAD7-408D8B83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841-08C1-4F3A-8B1B-65DA106C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4F6-18C3-4D30-AB75-B936F181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2C05-5BF8-4CDD-AB8C-0164962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FF1-0228-4390-A482-278C6882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1B1-CD62-47A3-895B-CBE4C55B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1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30609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30609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30609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30609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C6CA-20C6-4820-83A0-487F2D3833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1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30609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30609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30609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30609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9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0609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A765-9C22-43DB-A2C8-F1034D343A5A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8e001b"/>
                </a:solidFill>
                <a:latin typeface="Tahoma"/>
              </a:rPr>
              <a:t>TREATMENT OF 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540071"/>
                </a:solidFill>
                <a:latin typeface="Tahoma"/>
              </a:rPr>
              <a:t>ACUTE LARGE BOWEL OBSTRUCTION</a:t>
            </a:r>
            <a:r>
              <a:rPr b="0" lang="en-US" sz="4800" spc="-1" strike="noStrike">
                <a:solidFill>
                  <a:srgbClr val="540071"/>
                </a:solidFill>
                <a:latin typeface="Tahoma"/>
              </a:rPr>
              <a:t> </a:t>
            </a:r>
            <a:br>
              <a:rPr sz="4800"/>
            </a:b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8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A0FB-796D-4BB8-A94F-4B9DB82EEAED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In </a:t>
            </a: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young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patients, an elective </a:t>
            </a:r>
            <a:r>
              <a:rPr b="1" lang="en-US" sz="2800" spc="-1" strike="noStrike">
                <a:solidFill>
                  <a:srgbClr val="44ff44"/>
                </a:solidFill>
                <a:latin typeface="Tahoma"/>
              </a:rPr>
              <a:t>sigmoid colectomy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is required but in the </a:t>
            </a: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elderl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 endoscopic decompression may be </a:t>
            </a:r>
            <a:r>
              <a:rPr b="1" lang="en-US" sz="2800" spc="-1" strike="noStrike">
                <a:solidFill>
                  <a:srgbClr val="44ff44"/>
                </a:solidFill>
                <a:latin typeface="Tahoma"/>
              </a:rPr>
              <a:t>enough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Failure results in an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early laparotomy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, with </a:t>
            </a:r>
            <a:r>
              <a:rPr b="1" lang="en-US" sz="2800" spc="-1" strike="noStrike">
                <a:solidFill>
                  <a:srgbClr val="a800e2"/>
                </a:solidFill>
                <a:latin typeface="Tahoma"/>
              </a:rPr>
              <a:t>untwisting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of the loop and per anum decompress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When bowel is viable,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fixation of the sigmoid colon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o the posterior abdominal wall may be a safer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igmoid colectomy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90AD-8785-4809-BC7F-A730FB0CD4D5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0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9D36-A292-4122-B6FF-74D5D6B93D0A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  <p:pic>
        <p:nvPicPr>
          <p:cNvPr id="107" name="Picture 2" descr="C:\Users\DR-ABDULRAZZAK\Desktop\intestinal obstruction pictures\sv5.jpg"/>
          <p:cNvPicPr/>
          <p:nvPr/>
        </p:nvPicPr>
        <p:blipFill>
          <a:blip r:embed="rId1"/>
          <a:stretch/>
        </p:blipFill>
        <p:spPr>
          <a:xfrm>
            <a:off x="2743200" y="1828800"/>
            <a:ext cx="43894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206000"/>
            <a:ext cx="86868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540071"/>
                </a:solidFill>
                <a:latin typeface="Tahoma"/>
              </a:rPr>
              <a:t>CHRONIC LARGE BOWEL OBSTRUCTION</a:t>
            </a:r>
            <a:endParaRPr b="0" lang="en-US" sz="5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0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DB66-2ECF-4E2C-A9DE-EC4504600AF0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symptoms of chronic intestinal obstruction may arise from 2 source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– </a:t>
            </a: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caus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&amp; </a:t>
            </a: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subsequent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obstruc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causes of obstruction may be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A:  organic</a:t>
            </a: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intraluminal (rare) – faecal impaction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intrinsic intramural – strictures (Crohn's disease, ischaemia, diverticular), anastomotic stenosis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extrinsic intramural (rare) – metastatic deposits (ovarian), endometriosis, stomal stenosis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11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3501-32F8-4162-934F-5520AE807C45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28240" y="45720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B:  functional</a:t>
            </a: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Hirschsprung's disease, idiopathic megacolon, pseudo-obstruc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symptoms of chronic obstruction differ in their predominance, timing and degree from acute obstructio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In functional cases, the symptoms may have been present for months or years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onstipation appears first, It is initially relative and then absolute, associated with distens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1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67F3-0FF4-4F7D-A7A3-00E5C49E7BF7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In large bowel disease, the point of greatest distension is in the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aecum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, and this is heralded by the onset of pain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Vomiting is a late feature and therefore dehydration is less sever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Examination is unremarkable, only  distension (which can be profound)  &amp;  the  peritonism is late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ctal examination may confirm the presence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aecal impacti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r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umou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1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895F-D467-4F06-9558-6D746E51E342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e001b"/>
                </a:solidFill>
                <a:latin typeface="Britannic Bold"/>
              </a:rPr>
              <a:t>Investigation</a:t>
            </a:r>
            <a:r>
              <a:rPr b="0" lang="en-US" sz="4400" spc="-1" strike="noStrike">
                <a:solidFill>
                  <a:srgbClr val="8e001b"/>
                </a:solidFill>
                <a:latin typeface="Tahom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Plain abdominal radiography confirms the presence of large bowel distens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single-contrast water-soluble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enema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CT scan or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endoscopic assessment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o rule out functional diseas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Organic disease requires decompression with either a laparotomy or stent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Functional disease requires colonoscopic decompression in the first instance and conservative management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1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4256-8FBC-4F48-8222-2AEEF54D60AD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73040"/>
            <a:ext cx="8229600" cy="18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e001b"/>
                </a:solidFill>
                <a:latin typeface="Tahoma"/>
              </a:rPr>
              <a:t>ADYNAMIC OBSTRUCTION</a:t>
            </a:r>
            <a:r>
              <a:rPr b="1" lang="en-US" sz="5400" spc="-1" strike="noStrike">
                <a:solidFill>
                  <a:srgbClr val="8e001b"/>
                </a:solidFill>
                <a:latin typeface="Tahoma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2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019-A6DC-4D0F-8071-4F5975ACAAB7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e001b"/>
                </a:solidFill>
                <a:latin typeface="Tahoma"/>
              </a:rPr>
              <a:t>Paralytic ileus</a:t>
            </a:r>
            <a:r>
              <a:rPr b="1" lang="en-US" sz="4400" spc="-1" strike="noStrike">
                <a:solidFill>
                  <a:srgbClr val="8e001b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228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 a state in which there is failure of transmission of peristaltic waves secondary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euromuscular failu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(i.e. in the myenteric (Auerbach's) and submucous (Meissner's) plexuses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he resultant stasis leads to accumulation of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fluid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&amp;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gas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within the bowel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with associated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distens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vomiting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absence of bowel sounds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&amp;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absolute constipation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2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73DB-2A26-4EA1-B06B-28875B7CD0DC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001b"/>
                </a:solidFill>
                <a:latin typeface="Tahoma"/>
              </a:rPr>
              <a:t>Types of paralytic ileus</a:t>
            </a:r>
            <a:r>
              <a:rPr b="1" lang="en-US" sz="3600" spc="-1" strike="noStrike">
                <a:solidFill>
                  <a:srgbClr val="8e001b"/>
                </a:solidFill>
                <a:latin typeface="Tahoma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228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ostoperative: 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A degree of ileus occurs after any abdominal procedure and is self-limiting, with a variable duration of 24–72 hour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Postoperative ileus may be prolonged in the presence of </a:t>
            </a: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hypoproteinaemia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metabolic abnormality</a:t>
            </a: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fection: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Intra-abdominal sepsis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flex ileus: 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following fractures of the spine or ribs, retroperitoneal haemorrhag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etabolic: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Uraemia and hypokalaemia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2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EE92-A30E-454D-8565-43DEE3248D18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4920" y="45720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rge bowel obstruction is caused b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Carcinoma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or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Diverticular diseas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&amp;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esents in acute or chronic form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condition of </a:t>
            </a:r>
            <a:r>
              <a:rPr b="0" lang="en-US" sz="2800" spc="-1" strike="noStrike">
                <a:solidFill>
                  <a:srgbClr val="8e001b"/>
                </a:solidFill>
                <a:latin typeface="Tahoma"/>
              </a:rPr>
              <a:t>pseudo-obstruc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should always be considered and excluded by a limited contrast study or CT sca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D860-D24F-4C1D-BAA0-20B4B8B83678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e001b"/>
                </a:solidFill>
                <a:latin typeface="Aharoni"/>
                <a:ea typeface="Aharoni"/>
              </a:rPr>
              <a:t>Clinical features</a:t>
            </a:r>
            <a:r>
              <a:rPr b="0" lang="en-US" sz="4800" spc="-1" strike="noStrike">
                <a:solidFill>
                  <a:srgbClr val="8e001b"/>
                </a:solidFill>
                <a:latin typeface="Aharoni"/>
                <a:ea typeface="Aharoni"/>
              </a:rPr>
              <a:t>:</a:t>
            </a:r>
            <a:endParaRPr b="0" lang="en-US" sz="48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Paralytic ileus takes on a clinical significance if 72 hrs after laparotomy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re has been no return of bowel sound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     -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re has been no passage of flatu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Abd distension becomes more marked &amp; tympanitic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Colicky pain is </a:t>
            </a:r>
            <a:r>
              <a:rPr b="1" lang="en-US" sz="2800" spc="-1" strike="noStrike">
                <a:solidFill>
                  <a:srgbClr val="2b2bfe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 a feature</a:t>
            </a: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00ef"/>
                </a:solidFill>
                <a:latin typeface="Tahoma"/>
              </a:rPr>
              <a:t>In the absence of NG , effortless vomiting may occur</a:t>
            </a:r>
            <a:r>
              <a:rPr b="0" lang="en-US" sz="2800" spc="-1" strike="noStrike">
                <a:solidFill>
                  <a:srgbClr val="ac00e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Radiologically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:  the abdomen shows gas-filled loops of intestine with multiple fluid levels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2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94EF-7A16-48CE-B165-BCE336843E4C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e001b"/>
                </a:solidFill>
                <a:uFillTx/>
                <a:latin typeface="Tahoma"/>
              </a:rPr>
              <a:t>Management</a:t>
            </a:r>
            <a:r>
              <a:rPr b="1" lang="en-US" sz="4400" spc="-1" strike="noStrike" u="sng">
                <a:solidFill>
                  <a:srgbClr val="8e001b"/>
                </a:solidFill>
                <a:uFillTx/>
                <a:latin typeface="Tahoma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If a primary cause is identified, this must be treated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GIT distension must be relieved by decompression      by NG suction and restriction of oral intake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Close attention to fluid &amp; electrolyte balance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3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03BA-4769-4640-A7CD-FE9C4C5584D7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re is no place for the routine use of peristaltic stimulant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arely, in resistant cases, medical   therapy with 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gastroprokinetic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agent, such as </a:t>
            </a:r>
            <a:r>
              <a:rPr b="1" lang="en-US" sz="2800" spc="-1" strike="noStrike">
                <a:solidFill>
                  <a:srgbClr val="2b2bfe"/>
                </a:solidFill>
                <a:latin typeface="Tahoma"/>
              </a:rPr>
              <a:t>domperidon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2b2bfe"/>
                </a:solidFill>
                <a:latin typeface="Tahoma"/>
              </a:rPr>
              <a:t>erythromyci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y be use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If paralytic ileus is prolonged, CT scanning is the most effective investigation; it will demonstrate any intra-abdominal sepsis or mechanical obstruction and therefore guide any requirement for laparotomy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the need for a laparotomy becomes increasingly likely if it lasts for more than 7 days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3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965E-801F-49EB-ABE2-0D0D85430977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e001b"/>
                </a:solidFill>
                <a:latin typeface="Tahoma"/>
              </a:rPr>
              <a:t>Pseudo-obstruction</a:t>
            </a: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24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his condition describes an obstruction, usually of the colon, that occurs in the absence of a mechanical cause or acute intra-abdominal diseas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It is associated with a variety of syndromes in which there is an underlying </a:t>
            </a:r>
            <a:r>
              <a:rPr b="1" lang="en-US" sz="2800" spc="-1" strike="noStrike">
                <a:solidFill>
                  <a:srgbClr val="24486c"/>
                </a:solidFill>
                <a:latin typeface="Tahoma"/>
              </a:rPr>
              <a:t>neuropathy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 &amp;/or </a:t>
            </a:r>
            <a:r>
              <a:rPr b="1" lang="en-US" sz="2800" spc="-1" strike="noStrike">
                <a:solidFill>
                  <a:srgbClr val="24486c"/>
                </a:solidFill>
                <a:latin typeface="Tahoma"/>
              </a:rPr>
              <a:t>myopathy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 and a range of other factors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1FB3-18C0-4D98-B8F8-F45392882343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28240" y="3805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Metabolic: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DM, Hypokalaemia, Uraemia, Myxodoema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- 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Severe trauma: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o the lumbar spine and pelvi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Shock: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Burns, MI, Stroke, Idiopathic, Septicaemia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Retroperitoneal irritation: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Blood, Urine, Enzymes (pancreatitis), Tumour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Drugs: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antidepressants, Phenothiazines, Laxatives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6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-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Secondary gastrointestinal involvement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: Scleroderma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39480" indent="-339480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F61-49D8-46E6-B7A1-F1994A5EAB28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8e001b"/>
                </a:solidFill>
                <a:latin typeface="Tahoma"/>
              </a:rPr>
              <a:t>Small intestinal pseudo-obstruction</a:t>
            </a:r>
            <a:r>
              <a:rPr b="1" lang="en-US" sz="3600" spc="-1" strike="noStrike">
                <a:solidFill>
                  <a:srgbClr val="8e001b"/>
                </a:solidFill>
                <a:latin typeface="Tahoma"/>
              </a:rPr>
              <a:t>: </a:t>
            </a:r>
            <a:br>
              <a:rPr sz="3600"/>
            </a:br>
            <a:endParaRPr b="0" lang="en-US" sz="36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60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The clinical picture consists of recurrent subacute obstruction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00ef"/>
                </a:solidFill>
                <a:latin typeface="Tahoma"/>
              </a:rPr>
              <a:t>The diagnosis is made by the exclusion of a mechanical cause</a:t>
            </a:r>
            <a:r>
              <a:rPr b="0" lang="en-US" sz="2800" spc="-1" strike="noStrike">
                <a:solidFill>
                  <a:srgbClr val="ac00e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reatment consists of initial correction of any underlying disorder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ahoma"/>
              </a:rPr>
              <a:t>Metoclopramid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&amp; </a:t>
            </a:r>
            <a:r>
              <a:rPr b="1" lang="en-US" sz="2800" spc="-1" strike="noStrike">
                <a:solidFill>
                  <a:srgbClr val="00b0f0"/>
                </a:solidFill>
                <a:latin typeface="Tahoma"/>
              </a:rPr>
              <a:t>erythromyci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may be of us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93B3-5A48-4566-8BD2-83991F4649F7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001b"/>
                </a:solidFill>
                <a:latin typeface="Tahoma"/>
              </a:rPr>
              <a:t>Colonic pseudo-obstruction</a:t>
            </a:r>
            <a:r>
              <a:rPr b="1" lang="en-US" sz="3600" spc="-1" strike="noStrike">
                <a:solidFill>
                  <a:srgbClr val="8e001b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14479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either  </a:t>
            </a: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acut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or a </a:t>
            </a: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chronic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The acute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gilvie's syndrom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) presents as acute LBO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Abdominal radiographs show evidence of colonic obstruction, with marked caecal distension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Caecal perforation is a well-recognised complication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The absence of a mechanical cause requires urgent confirmation by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Tahoma"/>
              </a:rPr>
              <a:t>Colonoscopy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 or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Tahoma"/>
              </a:rPr>
              <a:t>Single-contrast water-soluble barium enema 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or </a:t>
            </a:r>
            <a:r>
              <a:rPr b="1" lang="en-US" sz="2800" spc="-1" strike="noStrike">
                <a:solidFill>
                  <a:srgbClr val="00004d"/>
                </a:solidFill>
                <a:latin typeface="Tahoma"/>
              </a:rPr>
              <a:t>CT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45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1079-EB04-4795-A7AC-E2F6A2CDA79A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51920" y="10663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nce confirmed, pseudo-obstruction requires treatment of any identifiable caus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If this is ineffective, intravenous neostigmine should be given (1 mg intravenously) If neostigmine is not effective, colonoscopic decompression should be performed</a:t>
            </a:r>
            <a:r>
              <a:rPr b="0" lang="en-US" sz="2800" spc="-1" strike="noStrike">
                <a:solidFill>
                  <a:srgbClr val="00004d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47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AFA9-2081-4229-9136-195DCB777EF5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Caecal perforation can occur in pseudo-obstruction</a:t>
            </a:r>
            <a:r>
              <a:rPr b="0" lang="en-US" sz="2800" spc="-1" strike="noStrike">
                <a:solidFill>
                  <a:srgbClr val="540071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Abdominal examination should pay attention to tenderness &amp; peritonism over the caecum &amp; as with mechanical obstruction, caecal perforation is more likely if the caecal diameter is 14 cm or greater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Surgery is associated with high morbidity and mortality &amp; should be reserved for those with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impending perforation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when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other treatments have failed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or 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perforation has occurred</a:t>
            </a:r>
            <a:r>
              <a:rPr b="1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9040" indent="-3290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ED6F-521E-45F7-B13B-8522F7BFABFA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0CC9-D861-4079-8E5B-948BE65FFA54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  <p:pic>
        <p:nvPicPr>
          <p:cNvPr id="151" name="Picture 6" descr="C:\Users\DR-ABDULRAZZAK\Desktop\جاهزةL7\Play_Quiz.gif"/>
          <p:cNvPicPr/>
          <p:nvPr/>
        </p:nvPicPr>
        <p:blipFill>
          <a:blip r:embed="rId1"/>
          <a:stretch/>
        </p:blipFill>
        <p:spPr>
          <a:xfrm>
            <a:off x="939960" y="1886040"/>
            <a:ext cx="7594560" cy="322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52280" y="30492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When a </a:t>
            </a: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removable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 lesion is found in the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caecum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ascending colon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hepatic flexure or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proximal transverse colon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an emergency </a:t>
            </a:r>
            <a:r>
              <a:rPr b="1" lang="en-US" sz="2800" spc="-1" strike="noStrike">
                <a:solidFill>
                  <a:srgbClr val="8e001b"/>
                </a:solidFill>
                <a:latin typeface="Tahoma"/>
              </a:rPr>
              <a:t>right hemicolectomy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is performed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* 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If the lesion is </a:t>
            </a:r>
            <a:r>
              <a:rPr b="1" lang="en-US" sz="2800" spc="-1" strike="noStrike">
                <a:solidFill>
                  <a:srgbClr val="38ff38"/>
                </a:solidFill>
                <a:latin typeface="Tahoma"/>
              </a:rPr>
              <a:t>irremovable</a:t>
            </a:r>
            <a:r>
              <a:rPr b="1" lang="en-US" sz="2800" spc="-1" strike="noStrike">
                <a:solidFill>
                  <a:srgbClr val="008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1b"/>
                </a:solidFill>
                <a:latin typeface="Tahoma"/>
              </a:rPr>
              <a:t>proximal stoma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(colostomy or ileosotomy) or </a:t>
            </a:r>
            <a:r>
              <a:rPr b="1" lang="en-US" sz="2800" spc="-1" strike="noStrike">
                <a:solidFill>
                  <a:srgbClr val="8e001b"/>
                </a:solidFill>
                <a:latin typeface="Tahoma"/>
              </a:rPr>
              <a:t>ileotransverse bypass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8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950-0D01-4C01-83DE-0810E375CA74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8600" y="121896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* 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Obstructing lesions at the 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splenic flexure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should be treated by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e001b"/>
                </a:solidFill>
                <a:latin typeface="Tahoma"/>
              </a:rPr>
              <a:t>extended right hemicolectomy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with ileo-descending colonic anastomosis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0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9F50-4689-4408-81CA-FE27ECF52919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28600" y="6858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*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or obstructing lesions of the 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left colo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2800" spc="-1" strike="noStrike">
                <a:solidFill>
                  <a:srgbClr val="010173"/>
                </a:solidFill>
                <a:latin typeface="Tahoma"/>
              </a:rPr>
              <a:t>rectosigmoid junction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 immediate resection should be considered unless there are clear contraindication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Inexperienced surge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Moribund patient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Advanced disease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6140-DC11-4399-9874-FAE07B5E8A16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t is safest to bring the proximal colon to the surface as a colostomy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When possible, the distal bowel should be brought out at the same time (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Paul–Mikulicz procedure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) to facilitate subsequent closure</a:t>
            </a:r>
            <a:r>
              <a:rPr b="0" lang="en-US" sz="2800" spc="-1" strike="noStrike">
                <a:solidFill>
                  <a:srgbClr val="0095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In the majority of cases, the distal bowel will not reach and is closed and returned to the abdomen (</a:t>
            </a:r>
            <a:r>
              <a:rPr b="1" lang="en-US" sz="2800" spc="-1" strike="noStrike">
                <a:solidFill>
                  <a:srgbClr val="002060"/>
                </a:solidFill>
                <a:latin typeface="Tahoma"/>
              </a:rPr>
              <a:t>Hartmann's procedure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AA85-258B-4D99-B3DF-A7112E59D470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28600" y="19051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224c"/>
                </a:solidFill>
                <a:latin typeface="Tahoma"/>
              </a:rPr>
              <a:t>Decompression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 of the obstructed left colon using </a:t>
            </a:r>
            <a:r>
              <a:rPr b="1" lang="en-US" sz="2800" spc="-1" strike="noStrike">
                <a:solidFill>
                  <a:srgbClr val="44ff44"/>
                </a:solidFill>
                <a:latin typeface="Tahoma"/>
              </a:rPr>
              <a:t>endoscopically placed stents 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often as a bridge to surgery has been widely reported</a:t>
            </a:r>
            <a:r>
              <a:rPr b="0" lang="en-US" sz="28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9FEE-45D6-4CC6-9EC3-CE8F113C439A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8e001b"/>
                </a:solidFill>
                <a:latin typeface="Aharoni"/>
                <a:ea typeface="Aharoni"/>
              </a:rPr>
              <a:t>Treatment of caecal volvulus</a:t>
            </a:r>
            <a:r>
              <a:rPr b="0" lang="en-US" sz="4400" spc="-1" strike="noStrike">
                <a:solidFill>
                  <a:srgbClr val="8e001b"/>
                </a:solidFill>
                <a:latin typeface="Aharoni"/>
                <a:ea typeface="Aharon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32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At operation, is usually ischaemic &amp; needs resection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If, viable, the volvulus should be reduced &amp; fixation of the caecum to RIF (</a:t>
            </a:r>
            <a:r>
              <a:rPr b="1" lang="en-US" sz="2800" spc="-1" strike="noStrike">
                <a:solidFill>
                  <a:srgbClr val="44ff44"/>
                </a:solidFill>
                <a:latin typeface="Tahoma"/>
              </a:rPr>
              <a:t>caecopexy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) &amp;/or </a:t>
            </a:r>
            <a:r>
              <a:rPr b="1" lang="en-US" sz="2800" spc="-1" strike="noStrike">
                <a:solidFill>
                  <a:srgbClr val="44ff44"/>
                </a:solidFill>
                <a:latin typeface="Tahoma"/>
              </a:rPr>
              <a:t>caecostomy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Recurrence after caecopexy  is up to 40</a:t>
            </a:r>
            <a:r>
              <a:rPr b="0" lang="en-US" sz="2800" spc="-1" strike="noStrike">
                <a:solidFill>
                  <a:srgbClr val="306090"/>
                </a:solidFill>
                <a:latin typeface="Tahoma"/>
              </a:rPr>
              <a:t> %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9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CDAA-8C1C-42A8-9CB1-A4E1142727B6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8e001b"/>
                </a:solidFill>
                <a:latin typeface="Aharoni"/>
                <a:ea typeface="Aharoni"/>
              </a:rPr>
              <a:t>Treatment of sigmoid volvulus</a:t>
            </a:r>
            <a:r>
              <a:rPr b="0" lang="en-US" sz="4400" spc="-1" strike="noStrike">
                <a:solidFill>
                  <a:srgbClr val="8e001b"/>
                </a:solidFill>
                <a:latin typeface="Aharoni"/>
                <a:ea typeface="Aharon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8e001b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752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Flexible or rigid </a:t>
            </a:r>
            <a:r>
              <a:rPr b="1" lang="en-US" sz="2800" spc="-1" strike="noStrike">
                <a:solidFill>
                  <a:srgbClr val="a800e2"/>
                </a:solidFill>
                <a:latin typeface="Tahoma"/>
              </a:rPr>
              <a:t>sigmoidoscopy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 and insertion of a </a:t>
            </a:r>
            <a:r>
              <a:rPr b="1" lang="en-US" sz="2800" spc="-1" strike="noStrike">
                <a:solidFill>
                  <a:srgbClr val="a800e2"/>
                </a:solidFill>
                <a:latin typeface="Tahoma"/>
              </a:rPr>
              <a:t>flatus tube 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out to allow deflation of the gut</a:t>
            </a:r>
            <a:r>
              <a:rPr b="0" lang="en-US" sz="2800" spc="-1" strike="noStrike">
                <a:solidFill>
                  <a:srgbClr val="a800e2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The tube should be secured in place with tape for 24 hours &amp; a repeat x-ray taken to ensure that decompression has occurred</a:t>
            </a:r>
            <a:r>
              <a:rPr b="0" lang="en-US" sz="2800" spc="-1" strike="noStrike">
                <a:solidFill>
                  <a:srgbClr val="0086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Successful deflation, as long as ischaemic bowel is excluded, will resolve the acute problem</a:t>
            </a:r>
            <a:r>
              <a:rPr b="0" lang="en-US" sz="2800" spc="-1" strike="noStrike">
                <a:solidFill>
                  <a:srgbClr val="ff224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6090"/>
              </a:solidFill>
              <a:latin typeface="Tahoma"/>
            </a:endParaRPr>
          </a:p>
        </p:txBody>
      </p:sp>
      <p:sp>
        <p:nvSpPr>
          <p:cNvPr id="10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BA19-A628-47A1-BEFD-4D7894097B75}" type="slidenum">
              <a:rPr b="0" lang="ar-SA" sz="1400" spc="-1" strike="noStrike">
                <a:solidFill>
                  <a:srgbClr val="30609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0609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-ABDULRAZZAK</cp:lastModifiedBy>
  <dcterms:modified xsi:type="dcterms:W3CDTF">2014-01-02T06:06:10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