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918-9EA9-4C98-A430-28F1F86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06B-A154-4EED-81DC-27648F1A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C02-2F29-4A35-88DA-B45296D1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0BB-BBBB-467E-8BE8-33CE28CE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33F19-6219-47D9-B7F6-11EBECE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18D61-ECE9-4C5F-A23F-BAA22B5F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B8619-CF7B-4026-BCDC-8767B5E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44716-33CF-4A22-9FE3-36CEAC6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C0416-2DD8-4B15-90C5-59400C4A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E0165-618A-4AD3-A1B6-EA832FC5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6F8FF-428D-4322-B82A-05CF72C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41C-F14D-4A09-A2B2-9B7CA06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777DD-8313-4251-A491-0BA8625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356AF-BBCC-44A8-8A5A-A4F21F5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8EFF-6B0A-4BC6-B762-E852AE67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45CE8-60CF-4295-A826-08102E6E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CCC9C-F3CF-4DE3-9F38-6573E281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D3B-342A-44EE-93FB-34BF9C1E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F30-B962-4036-91F1-BECA9E7A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D20-808D-4D67-877C-825EAB95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43E-C370-42A3-80CF-48264714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EED-AA86-4C1D-94C4-3EA6B19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9BA-168A-4BF1-A19C-BAFA32D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E30-C8BD-4016-A4E1-1DD6049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ECD4-AB7F-4578-9F36-11B5F47E8E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4F7B-A6CA-4B27-A3BF-07A314F78FC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Investigation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603-EF37-4821-BB37-E205233E37D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5960" y="4572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Appendicectomy performed under general anaesthetic with the patient supine on the operating table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2types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: Conventional appendicectomy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I: Laparoscopic appendicectom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7B6-61A0-4757-8C99-64AEE9D9B9B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: Conventional appendicectomy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1920" y="10663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Incisions</a:t>
            </a: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Gridiron incision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ade at right angles to a line joining the anterior superior iliac spine to the umbilicus, its centre along at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cBurney'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poi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t is possible to convert the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gridir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to a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Rutherfor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oris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incision by cutting the internal oblique and transversus muscles in the line of the incis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9A40-2833-484C-B026-B4D2D5612B3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10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Gridiron incision for appendicitis, at right angles to a line joining the anterior superior iliac spine and umbilicus, centred on McBurney's point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3944880" cy="5127480"/>
          </a:xfrm>
          <a:prstGeom prst="rect">
            <a:avLst/>
          </a:prstGeom>
          <a:ln w="0">
            <a:noFill/>
          </a:ln>
        </p:spPr>
      </p:pic>
      <p:sp>
        <p:nvSpPr>
          <p:cNvPr id="110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6B4-947A-473D-A568-7B21FD8A84B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Lanz incision (transverse skin crease)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s made approximately 2 cm below the umbilicus centred on the midclavicular–midinguinal lin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en necessary, the incision may be extended medially, with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retrac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ivis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of the rectus abdominis musc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1EC-9B63-4074-829C-E16DEC1B9E3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 :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Transverse or skin crease (Lanz) incision for appendicitis, 2 cm below the umbilicus, centred on the midclavicular–midinguinal line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362320" y="0"/>
            <a:ext cx="4014720" cy="4944960"/>
          </a:xfrm>
          <a:prstGeom prst="rect">
            <a:avLst/>
          </a:prstGeom>
          <a:ln w="0">
            <a:noFill/>
          </a:ln>
        </p:spPr>
      </p:pic>
      <p:sp>
        <p:nvSpPr>
          <p:cNvPr id="115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28B-E2EF-4208-95D8-AE2A402D2D1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lower midline abdominal incision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en the diagnosis is in doubt &amp; it is preferred over a right lower paramedian incis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3CA-05C3-4790-9222-286BFFA3138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2429-B61A-49A8-BCDE-B7B33EE46A8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9" name="Picture 5" descr="C:\Users\DR-ABDULRAZZAK\Desktop\appendicitis pictures\15814.jpg"/>
          <p:cNvPicPr/>
          <p:nvPr/>
        </p:nvPicPr>
        <p:blipFill>
          <a:blip r:embed="rId1"/>
          <a:stretch/>
        </p:blipFill>
        <p:spPr>
          <a:xfrm>
            <a:off x="2286000" y="1905120"/>
            <a:ext cx="4857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2bfe"/>
                </a:solidFill>
                <a:latin typeface="Arial Rounded MT Bold"/>
              </a:rPr>
              <a:t>Removal of the appendix</a:t>
            </a:r>
            <a:r>
              <a:rPr b="1" lang="en-US" sz="4400" spc="-1" strike="noStrike">
                <a:solidFill>
                  <a:srgbClr val="2b2bfe"/>
                </a:solidFill>
                <a:latin typeface="Arial Rounded MT Bold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ecum is identified by the presence of taeniae col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ecum is delivered ou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Base of the mesoappendix is clamped in artery          forceps, divided and ligated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.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ndix is crushed near its junction with the           caecum in artery force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igature is tied around the crushed portion close to    the caecu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urse-string or ‘Z’ suture may then be inserted into    the caecum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8153-5105-448B-95E9-4A479FB5C07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364-97D5-45C3-8D03-42E0FBF36D8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4" name="Picture 2" descr="C:\Users\DR-ABDULRAZZAK\Desktop\appendicitis pictures\appendicectomy-ao-medicine (400 x 300).jpg"/>
          <p:cNvPicPr/>
          <p:nvPr/>
        </p:nvPicPr>
        <p:blipFill>
          <a:blip r:embed="rId1"/>
          <a:stretch/>
        </p:blipFill>
        <p:spPr>
          <a:xfrm>
            <a:off x="1295280" y="457200"/>
            <a:ext cx="6715080" cy="58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I: Laparoscopic appendicectomy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most valuable aspect of laparoscopy in the management of suspected appendicitis is as a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diagnostic tool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, particularly in women of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child-bearing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ge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Patients who undergo laparoscopic appendicectomy have less postoperative pain &amp; discharged from hospital &amp; return to activities of daily living sooner than those have undergone open appendicectomy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dvantage for laparoscopic over open appendicectomy in obese and early pregna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9D35-EF65-49E9-B18B-F185B3577F8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diagnosis of AA is essentially clinica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However, a decision to operate based on clinical suspicion alone can lead to the removal of a normal appendix in 15–30 % of case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 clinical &amp; laboratory-based scoring system: </a:t>
            </a:r>
            <a:r>
              <a:rPr b="0" lang="en-US" sz="3200" spc="-1" strike="noStrike">
                <a:solidFill>
                  <a:srgbClr val="e800e8"/>
                </a:solidFill>
                <a:latin typeface="Tahoma"/>
              </a:rPr>
              <a:t>Alvarado score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is  most widely used to assist diagnosis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7ABF-4553-44A5-88BE-1F0A09E0C91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4B1-79AD-42F0-9CC7-14C8C252331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30" name="Picture 2" descr="33"/>
          <p:cNvPicPr/>
          <p:nvPr/>
        </p:nvPicPr>
        <p:blipFill>
          <a:blip r:embed="rId1"/>
          <a:stretch/>
        </p:blipFill>
        <p:spPr>
          <a:xfrm>
            <a:off x="304920" y="228600"/>
            <a:ext cx="3916080" cy="29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35"/>
          <p:cNvPicPr/>
          <p:nvPr/>
        </p:nvPicPr>
        <p:blipFill>
          <a:blip r:embed="rId2"/>
          <a:stretch/>
        </p:blipFill>
        <p:spPr>
          <a:xfrm>
            <a:off x="3778200" y="3048120"/>
            <a:ext cx="536580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6104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Appendix absc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7330-D411-4A14-8591-DBE0D9E5358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320" y="685800"/>
            <a:ext cx="8991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ilure of resolution of an appendix mass or continued spiking pyrexia usually indicates that there is pus within the phlegmonous appendix ma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US or CT scan may identify an area suitable for the insertion of a percutaneous drain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Rarely, this is unsuccessful and laparotomy through a midline incision is indicated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FFEA-3EEE-4D99-9983-8662857BC0B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Pelvic absces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2CB1-9CD4-4B97-8A47-252DAD9AA98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elvic abscess formation is an occasional complication of appendiciti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occur irrespective of the position of the appendix within the peritoneal cavit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most common presentation is a spiking pyrexia several days after appendiciti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elvic pressure or discomfort associated with loose stool or tenesmus is commo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56E-3318-4A49-9611-C2F45BD2ACC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45720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ctal examination reveals a boggy mass in the pelvis, anterior to the rectum, at the level of the peritoneal reflectio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73"/>
                </a:solidFill>
                <a:latin typeface="Tahoma"/>
              </a:rPr>
              <a:t>Pelvic US or CT scan will confirm</a:t>
            </a:r>
            <a:r>
              <a:rPr b="0" lang="en-US" sz="32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ff38"/>
                </a:solidFill>
                <a:latin typeface="Tahoma"/>
              </a:rPr>
              <a:t>Traditionally, treatment is through transrectal drainage under GA or radiologically guided percutaneous drainage</a:t>
            </a:r>
            <a:r>
              <a:rPr b="0" lang="en-US" sz="3200" spc="-1" strike="noStrike">
                <a:solidFill>
                  <a:srgbClr val="38ff38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4AD-F038-443B-ACF7-332C753AB75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61084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Management of an appendix mass</a:t>
            </a: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F35C-D665-4D1E-8B49-F4F8DD3E1F6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0"/>
            <a:ext cx="883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The standard treatment is the conservative : </a:t>
            </a:r>
            <a:r>
              <a:rPr b="1" i="1" lang="en-US" sz="2800" spc="-1" strike="noStrike">
                <a:solidFill>
                  <a:srgbClr val="269999"/>
                </a:solidFill>
                <a:latin typeface="Tahoma"/>
              </a:rPr>
              <a:t>Ochsner–Sherren regimen</a:t>
            </a: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based on:  that the inflammatory process is already localised &amp; surgery is difficult &amp; dangerou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t may be impossible to find the appendix and, occasionally, a faecal fistula may form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For these reasons, it is wise to observe a non-operative programme but to be prepared to operate if clinical deterioration occur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73F-76F0-4147-9207-66A04221EA2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5192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areful recording of the patient's condition and the abdomen regularly re-examine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k the the mass on the abd wall by skin penci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T examination of the abdomen should be performed. - start antibiotic therap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n abscess, if present, should be drained radiologically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mperature and pulse rate should be recorded 4-hourly and a fluid balance record maintaine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Clinical deterio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r evidence of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peritonit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is an indication for early laparo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26D8-42EA-4E27-BB90-07A2DCF1C76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Criteria for stopping conservative treatment of an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appendix mass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  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rising pulse rat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creasing or spreading abdominal pai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  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ncreasing size of the mas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B409-2E0A-429C-8C19-FCC65D68704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ahoma"/>
              </a:rPr>
              <a:t>The Alvarado </a:t>
            </a: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(MANTRELS) </a:t>
            </a:r>
            <a:r>
              <a:rPr b="1" lang="en-US" sz="3200" spc="-1" strike="noStrike">
                <a:solidFill>
                  <a:srgbClr val="7030a0"/>
                </a:solidFill>
                <a:latin typeface="Tahoma"/>
              </a:rPr>
              <a:t>score</a:t>
            </a: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core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ymptoms: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gratory RIF pain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rexia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usea and vomiting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igns: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enderness (RIF)    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ebound tenderness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levated temperature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Laboratory: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eukocytosis                              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hift to left                                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Total:                                                         </a:t>
            </a: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81A8-F4E8-4877-85EB-6980B2AADA5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320" y="53316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linical improvement is usually evident within 24–48 hr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ilure of the mass to resolve should raise suspicion of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cinom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rohn'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isea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Using this regimen,  90 % of cases resolv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28F7-F7C5-429F-B371-E757569C1A2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great majority of patients will not develop recurrence, and it is no longer considered necessary to remove the appendix after an interval of 6–8 week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Patients over the age of 40 should have colonoscopy and follow-up imaging to ensure resolution as a small minority (less than 5 %) may have an underlying appendicular or colonic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alignancy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C60-225A-4B67-945E-861A754045D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Rounded MT Bold"/>
              </a:rPr>
              <a:t>Checklist for unwell patient following appendicectomy</a:t>
            </a:r>
            <a:r>
              <a:rPr b="1" lang="en-US" sz="3600" spc="-1" strike="noStrike">
                <a:solidFill>
                  <a:srgbClr val="0070c0"/>
                </a:solidFill>
                <a:latin typeface="Arial Rounded MT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960" y="15998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amine the wound and abdomen for an absce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onsider a pelvic abscess &amp; perform P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Examine the lungs – pneumonitis or collap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amine the legs – consider venous thrombos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xamine the conjunctivae for an icteric tinge and the   liver for enlargement, and enquire whether the        patient has had rigors (pylephlebitis)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Examine the urine for organisms (pyelonephritis)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spect subphrenic absce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09A-DD0F-4959-B985-2DD181F0444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Postoperative complications following appendicectomy</a:t>
            </a: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0044-687B-450D-B8D9-7C31AB4EF1D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1920" y="151920"/>
            <a:ext cx="8991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Wound infection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most common postoperative complica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Presents with pain and erythema of the wound on the 4th or 5th postoperative day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Treatment is by wound drainage and antibiotics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organisms responsible are a mixture of Gram-negative bacilli and anaerobic bacter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895-60F9-4C5E-869A-83919E22932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62" name="Picture 5" descr="C:\Users\DR-ABDULRAZZAK\Desktop\appendicitis pictures\image001.jpg"/>
          <p:cNvPicPr/>
          <p:nvPr/>
        </p:nvPicPr>
        <p:blipFill>
          <a:blip r:embed="rId1"/>
          <a:stretch/>
        </p:blipFill>
        <p:spPr>
          <a:xfrm>
            <a:off x="2438280" y="3962520"/>
            <a:ext cx="358452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ntra-abdominal absces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8%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following appendectomy develop intra-abdominal absces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ik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ev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alai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norexi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eveloping 5–7 days is suggestive of an intraperitoneal collec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Interloop, paracolic, pelvic and subphrenic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 )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US and CT scanning facilitate diagnosis and allow percutaneous drainag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parotomy should be considered in patients suspected of having intra-abdominal seps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4D0-C442-488C-B99D-D213C7F6E78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leu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period of adynamic ileus is to be expected after appendicectomy but Ileus persisting for more than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4 or 5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ays, particularly in the presence of a fever, is indicative of continuing intra-abdominal sepsis and should prompt further investigation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espiratory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ostoperative analgesia &amp;                      physiotherapy reduce the incidenc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Venous thrombosis and embolism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re rare after      appendicec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0102-ECA0-4809-9921-EF18A8CDEA7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2280" y="3805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ortal pyaemia (pylephlebitis)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are but very serious complication of gangrenous appendicitis associated with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high fev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rigor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jaundic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t is caused by septicaemia in the portal venous system and leads to the development of intrahepatic abscesses (often multiple)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ment is with systemic antibiotics and percutaneous drainage of hepatic abs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9C5C-BBE8-4229-8741-7D66D18E59D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7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Faecal fistula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kage from the appendicular stump occurs rarel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ccasionally, a fistula may result following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appendicectomy in Crohn's disea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dhesive intestinal obstruction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most common late complication of appendicec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ccasionally, chronic pain in the RIF is attributed to adhesion formation after appendicectom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uch cases, laparoscopy is of value in confirming the presence of adhesions and allowing divi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3B0-1CB4-4585-85E7-E9F57CD0F41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b2bfe"/>
                </a:solidFill>
                <a:latin typeface="Berlin Sans FB Demi"/>
              </a:rPr>
              <a:t>Recurrent acute appendiciti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ppendicitis is notoriously recurren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acks vary in intensity and may occur every few months, and the majority of cases ultimately culminate in severe A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appendix in these cases shows fibrosis indicative of previous inflamma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Chronic appendicitis, per se, does not exist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B693-B317-4AC6-A83E-01BC8FB2C41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 score of 7 or more:  is strongly predictive of A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quivocal score (5–6): US or CT may neede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S is useful in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childre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thin adult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rticularly if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gynaecologica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pathology is suspected, with a diagnostic accuracy in excess of 9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%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Contrast-enhanced CT scan  is useful in particularly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older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 patients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in whom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acute diverticulitis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intestinal obstruction 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neoplasm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 are possible DD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3170-DDA7-4D92-91AB-E55704EC86F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739880"/>
            <a:ext cx="868680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Neoplasms of the appendix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21D-DA4E-4326-BD78-82C7EECEB25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1920" y="3045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1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Carcinoid tumours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cinoid tumours (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rgentaffino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rise in argentaffin tissue (Kulchitsky cells of the crypts of Lieberkühn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Carcinoid tumour is found once in every 300–400 appendices subjected to histological examination &amp; is ten times more common than any other neoplasm of the appendix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49DF-F633-4E6C-B6F8-0BD49A0FACC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n many instances, the appendix had been removed because of symptoms of subacute or recurrent appendiciti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tumour can occur in any part of the appendix, but it is frequently found in the distal thir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carcinoid tumours arising in other parts of the intestinal tract, carcinoid tumour of the appendix rarely gives rise to metasta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188-2B95-4CA9-8F7D-2B15AD8CAE0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52280" y="685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ff44"/>
                </a:solidFill>
                <a:latin typeface="Bernard MT Condensed"/>
              </a:rPr>
              <a:t>Treatment</a:t>
            </a:r>
            <a:r>
              <a:rPr b="0" lang="en-US" sz="3600" spc="-1" strike="noStrike">
                <a:solidFill>
                  <a:srgbClr val="44ff44"/>
                </a:solidFill>
                <a:latin typeface="Bernard MT Condensed"/>
              </a:rPr>
              <a:t>: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endicectom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ight hemicolectomy is indicated 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aecal wall is involv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umour is 2 cm or more in siz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Lymph nodes involveme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C81-CE3F-4FE0-8775-D05DC20D3C4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3805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Goblet cell carcinoid tumour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: 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sual variant, which exhibits a combination of endocrine and glandular different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Primary Adenocarcinoma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: 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extremely r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Mucinous cystadenoma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16B4-A180-475B-B0D5-C0F5823B3CE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Preoperative investigations in appendic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0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outine: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Full blood count,  Urinalys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Selective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regnancy tes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Urea and electrolyte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upine abdominal radiograph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US of the abdomen/pelv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ontrast-enhanced abdomen and pelvic CTsca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08A1-23AE-4CCE-9EB3-C2A818ED2D1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20067600">
            <a:off x="304920" y="2743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8800" spc="-1" strike="noStrike">
                <a:solidFill>
                  <a:srgbClr val="009500"/>
                </a:solidFill>
                <a:latin typeface="Tahoma"/>
              </a:rPr>
              <a:t>Treatment</a:t>
            </a:r>
            <a:br>
              <a:rPr sz="7200"/>
            </a:b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3F15-C345-4198-9CAC-16DE23F37A9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22860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traditional treatment for AA is appendicec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but conservative management in those thought not to have obstructive appendicitis: treatment i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bowel rest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 &amp;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IV antibiotics, (metranidazole &amp; third-generation cephalosporin)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(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successful outcomes in 80–90 %, but there is an approximately 15 % recurrence rate within one year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This approach should be considered in patients with high operative risk (multiple comorbidities)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C0F-5B5E-4936-A023-E3385DD1C24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2286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ppendicectomy is emergency (</a:t>
            </a:r>
            <a:r>
              <a:rPr b="0" lang="en-US" sz="2800" spc="-1" strike="noStrike">
                <a:solidFill>
                  <a:srgbClr val="ff3059"/>
                </a:solidFill>
                <a:latin typeface="Tahoma"/>
              </a:rPr>
              <a:t>out of hours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) operation is essential to prevent the increased morbidity &amp; mortality of peritonitis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Preoperative preparation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IV fluids, to establish adequate urine output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ppropriate antibiotics should be give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Hyperpyrexia in children treated with salicylate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ED0-C9D1-4CE5-8B78-887040FED2E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660200">
            <a:off x="609480" y="2971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009500"/>
                </a:solidFill>
                <a:latin typeface="Tahoma"/>
              </a:rPr>
              <a:t>Appendicectomy</a:t>
            </a:r>
            <a:r>
              <a:rPr b="1" lang="en-US" sz="7200" spc="-1" strike="noStrike">
                <a:solidFill>
                  <a:srgbClr val="009500"/>
                </a:solidFill>
                <a:latin typeface="Tahoma"/>
              </a:rPr>
              <a:t>: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76D-5611-4016-8ACD-49AB63293D4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-ABDULRAZZAK</cp:lastModifiedBy>
  <dcterms:modified xsi:type="dcterms:W3CDTF">2013-12-27T19:29:23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