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9EA-2552-40CA-9097-A4E4854E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7F3-99D2-44BE-AC8D-22C2DB6A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1B0-2FAB-4407-8D6D-82550550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4D2-1E6C-43AE-AAC4-532C9A2C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21F98-91DA-4DCF-91B2-256F2075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CACE1-4E03-4066-BD5C-00A87D47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38880-282B-44C5-B328-10679D48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2F719-889C-4F3E-9887-5214B288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488EF-2E81-46C6-9907-0F485A2B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243F0-C665-4AAF-AD1A-9CF86C7F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BE33C-C84D-4275-BA66-B2F40128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DCC-57EB-4480-B782-E0357270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D5E96-E085-47C1-BDF8-C404AC54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16E42-3F69-4654-9221-FB9EF8F3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108E4-1CCF-46A7-8CAB-88C367B4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23186-36E7-404D-9131-8A1E9AB9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0C15A-2772-4147-BBFC-E9905839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A79-444A-4A3F-9FE7-24BF4FDA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716-A252-4CDE-85B5-E2D7A94F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4E7-5CA4-4C51-8E30-1A51BD63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F17-59E1-459D-AC76-B1DF817A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946-23C4-47F2-8696-90E3199C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3FF-6138-4537-AE96-F5DD3DF9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2F9C-27D3-4EE6-8815-86AC17F3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a50021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a50021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5715-7C91-498A-ABAC-8CB720D0E1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a50021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a50021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5002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F3B7-7E66-489C-9DDE-663CED8E9F1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Tahoma"/>
              </a:rPr>
              <a:t>Investigations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3DD7-6835-4D5B-9BD3-9E3DD6F631EB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5960" y="4572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Appendicectomy performed under general anaesthetic with the patient supine on the operating table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2types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I: Conventional appendicectomy</a:t>
            </a: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.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II: Laparoscopic appendicectomy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36FA-0AA1-4DD2-B20C-5654B25C797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I: Conventional appendicectomy</a:t>
            </a: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1920" y="10663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Incisions</a:t>
            </a: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-  </a:t>
            </a: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Gridiron incision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made at right angles to a line joining the anterior superior iliac spine to the umbilicus, its centre along at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McBurney'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point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t is possible to convert the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gridir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to a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Rutherfor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Moris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incision by cutting the internal oblique and transversus muscles in the line of the incis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5286-0999-46BC-A134-5B3B72DA80C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5105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Gridiron incision for appendicitis, at right angles to a line joining the anterior superior iliac spine and umbilicus, centred on McBurney's point</a:t>
            </a: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3944880" cy="5127480"/>
          </a:xfrm>
          <a:prstGeom prst="rect">
            <a:avLst/>
          </a:prstGeom>
          <a:ln w="0">
            <a:noFill/>
          </a:ln>
        </p:spPr>
      </p:pic>
      <p:sp>
        <p:nvSpPr>
          <p:cNvPr id="110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A58E-E4D0-4EA2-887A-136CDFDB2C4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04920" y="380880"/>
            <a:ext cx="85341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-  </a:t>
            </a: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Lanz incision (transverse skin crease)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s made approximately 2 cm below the umbilicus centred on the midclavicular–midinguinal lin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When necessary, the incision may be extended medially, with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retract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divis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of the rectus abdominis muscl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953A-A446-4FCC-851F-98031AFD661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5028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 :</a:t>
            </a: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Transverse or skin crease (Lanz) incision for appendicitis, 2 cm below the umbilicus, centred on the midclavicular–midinguinal line</a:t>
            </a:r>
            <a:r>
              <a:rPr b="0" lang="en-US" sz="2400" spc="-1" strike="noStrike">
                <a:solidFill>
                  <a:srgbClr val="196666"/>
                </a:solidFill>
                <a:latin typeface="Tahoma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362320" y="0"/>
            <a:ext cx="4014720" cy="4944960"/>
          </a:xfrm>
          <a:prstGeom prst="rect">
            <a:avLst/>
          </a:prstGeom>
          <a:ln w="0">
            <a:noFill/>
          </a:ln>
        </p:spPr>
      </p:pic>
      <p:sp>
        <p:nvSpPr>
          <p:cNvPr id="115" name="عنصر نائب لرقم الشريحة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74FD-AE07-43FD-81AE-1475BF0B681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-  </a:t>
            </a: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lower midline abdominal incision</a:t>
            </a:r>
            <a:r>
              <a:rPr b="1" lang="en-US" sz="2800" spc="-1" strike="noStrike">
                <a:solidFill>
                  <a:srgbClr val="d500d5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When the diagnosis is in doubt &amp; it is preferred over a right lower paramedian incis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AD20-D519-4ED9-A298-D660E5A0025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8B3E-3FA6-40BA-8FBB-63411879D54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19" name="Picture 5" descr="C:\Users\DR-ABDULRAZZAK\Desktop\appendicitis pictures\15814.jpg"/>
          <p:cNvPicPr/>
          <p:nvPr/>
        </p:nvPicPr>
        <p:blipFill>
          <a:blip r:embed="rId1"/>
          <a:stretch/>
        </p:blipFill>
        <p:spPr>
          <a:xfrm>
            <a:off x="2286000" y="1905120"/>
            <a:ext cx="48578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2bfe"/>
                </a:solidFill>
                <a:latin typeface="Arial Rounded MT Bold"/>
              </a:rPr>
              <a:t>Removal of the appendix</a:t>
            </a:r>
            <a:r>
              <a:rPr b="1" lang="en-US" sz="4400" spc="-1" strike="noStrike">
                <a:solidFill>
                  <a:srgbClr val="2b2bfe"/>
                </a:solidFill>
                <a:latin typeface="Arial Rounded MT Bold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ecum is identified by the presence of taeniae col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ecum is delivered out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- 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Base of the mesoappendix is clamped in artery          forceps, divided and ligated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 .  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endix is crushed near its junction with the           caecum in artery force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igature is tied around the crushed portion close to    the caecum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- 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Purse-string or ‘Z’ suture may then be inserted into    the caecum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A6B8-B635-4CE2-9189-C3C64C53BCF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F753-7869-4228-844D-559081F69B7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24" name="Picture 2" descr="C:\Users\DR-ABDULRAZZAK\Desktop\appendicitis pictures\appendicectomy-ao-medicine (400 x 300).jpg"/>
          <p:cNvPicPr/>
          <p:nvPr/>
        </p:nvPicPr>
        <p:blipFill>
          <a:blip r:embed="rId1"/>
          <a:stretch/>
        </p:blipFill>
        <p:spPr>
          <a:xfrm>
            <a:off x="1295280" y="457200"/>
            <a:ext cx="6715080" cy="58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II: Laparoscopic appendicectomy</a:t>
            </a: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The most valuable aspect of laparoscopy in the management of suspected appendicitis is as a 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diagnostic tool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, particularly in women of 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child-bearing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ge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Patients who undergo laparoscopic appendicectomy have less postoperative pain &amp; discharged from hospital &amp; return to activities of daily living sooner than those have undergone open appendicectomy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advantage for laparoscopic over open appendicectomy in obese and early pregna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7" name="عنصر نائب لرقم الشريحة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6002-4140-4369-BBF0-0128CA1B6055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diagnosis of AA is essentially clinical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However, a decision to operate based on clinical suspicion alone can lead to the removal of a normal appendix in 15–30 % of cases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 clinical &amp; laboratory-based scoring system: </a:t>
            </a:r>
            <a:r>
              <a:rPr b="0" lang="en-US" sz="3200" spc="-1" strike="noStrike">
                <a:solidFill>
                  <a:srgbClr val="e800e8"/>
                </a:solidFill>
                <a:latin typeface="Tahoma"/>
              </a:rPr>
              <a:t>Alvarado score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is  most widely used to assist diagnosis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26E3-E541-4DAD-AF6A-01465608E4A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عنصر نائب لرقم الشريحة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222C-FDD8-4FF2-85C4-A382C04E4A67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30" name="Picture 2" descr="33"/>
          <p:cNvPicPr/>
          <p:nvPr/>
        </p:nvPicPr>
        <p:blipFill>
          <a:blip r:embed="rId1"/>
          <a:stretch/>
        </p:blipFill>
        <p:spPr>
          <a:xfrm>
            <a:off x="304920" y="228600"/>
            <a:ext cx="3916080" cy="293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35"/>
          <p:cNvPicPr/>
          <p:nvPr/>
        </p:nvPicPr>
        <p:blipFill>
          <a:blip r:embed="rId2"/>
          <a:stretch/>
        </p:blipFill>
        <p:spPr>
          <a:xfrm>
            <a:off x="3778200" y="3048120"/>
            <a:ext cx="536580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6104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Tahoma"/>
              </a:rPr>
              <a:t>Appendix abscess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عنصر نائب لرقم الشريحة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A8DE-4BD1-40EB-938F-D97C5F49564A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6320" y="685800"/>
            <a:ext cx="89913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ailure of resolution of an appendix mass or continued spiking pyrexia usually indicates that there is pus within the phlegmonous appendix mas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US or CT scan may identify an area suitable for the insertion of a percutaneous drain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Rarely, this is unsuccessful and laparotomy through a midline incision is indicated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FAD1-F353-4147-B640-F4F60872286D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002060"/>
                </a:solidFill>
                <a:latin typeface="Tahoma"/>
              </a:rPr>
              <a:t>Pelvic absces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2026-A8E0-4F34-AFA5-DA150EF7D1BC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28240" y="2286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Pelvic abscess formation is an occasional complication of appendiciti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n occur irrespective of the position of the appendix within the peritoneal cavit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The most common presentation is a spiking pyrexia several days after appendicitis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Pelvic pressure or discomfort associated with loose stool or tenesmus is common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6B4E-962D-4B22-A971-8B919E0CCFA1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45720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ctal examination reveals a boggy mass in the pelvis, anterior to the rectum, at the level of the peritoneal reflectio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. 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73"/>
                </a:solidFill>
                <a:latin typeface="Tahoma"/>
              </a:rPr>
              <a:t>Pelvic US or CT scan will confirm</a:t>
            </a:r>
            <a:r>
              <a:rPr b="0" lang="en-US" sz="3200" spc="-1" strike="noStrike">
                <a:solidFill>
                  <a:srgbClr val="010173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ff38"/>
                </a:solidFill>
                <a:latin typeface="Tahoma"/>
              </a:rPr>
              <a:t>Traditionally, treatment is through transrectal drainage under GA or radiologically guided percutaneous drainage</a:t>
            </a:r>
            <a:r>
              <a:rPr b="0" lang="en-US" sz="3200" spc="-1" strike="noStrike">
                <a:solidFill>
                  <a:srgbClr val="38ff38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82CE-6F3E-4562-8321-FDF2A1782F8A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61084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Tahoma"/>
              </a:rPr>
              <a:t>Management of an appendix mass</a:t>
            </a:r>
            <a:r>
              <a:rPr b="1" lang="en-US" sz="6600" spc="-1" strike="noStrike">
                <a:solidFill>
                  <a:srgbClr val="002060"/>
                </a:solidFill>
                <a:latin typeface="Tahoma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A7B4-66C4-42E3-877B-72321A044323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280" y="0"/>
            <a:ext cx="8839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ff38"/>
                </a:solidFill>
                <a:latin typeface="Tahoma"/>
              </a:rPr>
              <a:t>The standard treatment is the conservative : </a:t>
            </a:r>
            <a:r>
              <a:rPr b="1" i="1" lang="en-US" sz="2800" spc="-1" strike="noStrike">
                <a:solidFill>
                  <a:srgbClr val="269999"/>
                </a:solidFill>
                <a:latin typeface="Tahoma"/>
              </a:rPr>
              <a:t>Ochsner–Sherren regimen</a:t>
            </a:r>
            <a:r>
              <a:rPr b="0" lang="en-US" sz="2800" spc="-1" strike="noStrike">
                <a:solidFill>
                  <a:srgbClr val="38ff38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 based on:  that the inflammatory process is already localised &amp; surgery is difficult &amp; dangerou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It may be impossible to find the appendix and, occasionally, a faecal fistula may form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For these reasons, it is wise to observe a non-operative programme but to be prepared to operate if clinical deterioration occur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EA96-99A3-420D-AD2E-DE8C8715E876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51920" y="-3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Careful recording of the patient's condition and the abdomen regularly re-examined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rk the the mass on the abd wall by skin pencil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CT examination of the abdomen should be performed. - start antibiotic therapy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An abscess, if present, should be drained radiologically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mperature and pulse rate should be recorded 4-hourly and a fluid balance record maintaine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Clinical deteriorati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r evidence of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peritoniti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is an indication for early laparotom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061E-91E9-4587-B181-0B1BA4D8129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Criteria for stopping conservative treatment of an</a:t>
            </a: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appendix mass</a:t>
            </a: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  -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 rising pulse rat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creasing or spreading abdominal pai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  -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Increasing size of the mass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5279-77E6-4601-BC6D-E3136802709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ahoma"/>
              </a:rPr>
              <a:t>The Alvarado </a:t>
            </a:r>
            <a:r>
              <a:rPr b="1" lang="en-US" sz="3200" spc="-1" strike="noStrike">
                <a:solidFill>
                  <a:srgbClr val="008600"/>
                </a:solidFill>
                <a:latin typeface="Tahoma"/>
              </a:rPr>
              <a:t>(MANTRELS) </a:t>
            </a:r>
            <a:r>
              <a:rPr b="1" lang="en-US" sz="3200" spc="-1" strike="noStrike">
                <a:solidFill>
                  <a:srgbClr val="7030a0"/>
                </a:solidFill>
                <a:latin typeface="Tahoma"/>
              </a:rPr>
              <a:t>score</a:t>
            </a:r>
            <a:r>
              <a:rPr b="1" lang="en-US" sz="3200" spc="-1" strike="noStrike">
                <a:solidFill>
                  <a:srgbClr val="008600"/>
                </a:solidFill>
                <a:latin typeface="Tahom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52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Score</a:t>
            </a: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*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ymptoms: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gratory RIF pain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rexia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usea and vomiting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* </a:t>
            </a: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Signs:        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enderness (RIF)                     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ebound tenderness                 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levated temperature                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* 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Laboratory: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eukocytosis                              </a:t>
            </a: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hift to left                                </a:t>
            </a: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8600"/>
                </a:solidFill>
                <a:latin typeface="Tahoma"/>
              </a:rPr>
              <a:t>Total:                                                         </a:t>
            </a:r>
            <a:r>
              <a:rPr b="1" lang="en-US" sz="2400" spc="-1" strike="noStrike">
                <a:solidFill>
                  <a:srgbClr val="008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6D40-A148-47B9-AA69-40AB30DF8E86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6320" y="533160"/>
            <a:ext cx="8991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Clinical improvement is usually evident within 24–48 hrs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ailure of the mass to resolve should raise suspicion of 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arcinoma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rohn'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diseas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Using this regimen,  90 % of cases resolv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F5BC-58C2-42A6-8F3C-6B9DFC690032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great majority of patients will not develop recurrence, and it is no longer considered necessary to remove the appendix after an interval of 6–8 week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Patients over the age of 40 should have colonoscopy and follow-up imaging to ensure resolution as a small minority (less than 5 %) may have an underlying appendicular or colonic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malignancy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7D5A-391B-4DF6-8634-A66D4247256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 Rounded MT Bold"/>
              </a:rPr>
              <a:t>Checklist for unwell patient following appendicectomy</a:t>
            </a:r>
            <a:r>
              <a:rPr b="1" lang="en-US" sz="3600" spc="-1" strike="noStrike">
                <a:solidFill>
                  <a:srgbClr val="0070c0"/>
                </a:solidFill>
                <a:latin typeface="Arial Rounded MT Bold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5960" y="15998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xamine the wound and abdomen for an absces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Consider a pelvic abscess &amp; perform PR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Examine the lungs – pneumonitis or collaps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xamine the legs – consider venous thrombosi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Examine the conjunctivae for an icteric tinge and the   liver for enlargement, and enquire whether the        patient has had rigors (pylephlebitis)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Examine the urine for organisms (pyelonephritis)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uspect subphrenic absces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220C-5374-40D5-89BD-FD165FB37722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ahoma"/>
              </a:rPr>
              <a:t>Postoperative complications following appendicectomy</a:t>
            </a:r>
            <a:r>
              <a:rPr b="1" lang="en-US" sz="4800" spc="-1" strike="noStrike">
                <a:solidFill>
                  <a:srgbClr val="002060"/>
                </a:solidFill>
                <a:latin typeface="Tahoma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4C55-8074-41D8-9356-F1EC6D2BCC8D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51920" y="151920"/>
            <a:ext cx="8991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Wound infection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The most common postoperative complicatio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Presents with pain and erythema of the wound on the 4th or 5th postoperative day</a:t>
            </a: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Treatment is by wound drainage and antibiotics</a:t>
            </a: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organisms responsible are a mixture of Gram-negative bacilli and anaerobic bacteria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84A2-B0B8-491C-B905-1270CB28168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62" name="Picture 5" descr="C:\Users\DR-ABDULRAZZAK\Desktop\appendicitis pictures\image001.jpg"/>
          <p:cNvPicPr/>
          <p:nvPr/>
        </p:nvPicPr>
        <p:blipFill>
          <a:blip r:embed="rId1"/>
          <a:stretch/>
        </p:blipFill>
        <p:spPr>
          <a:xfrm>
            <a:off x="2438280" y="3962520"/>
            <a:ext cx="358452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28240" y="609120"/>
            <a:ext cx="8915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Intra-abdominal abscess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8%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following appendectomy develop intra-abdominal abscess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iking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fever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malais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norexia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developing 5–7 days is suggestive of an intraperitoneal collectio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Interloop, paracolic, pelvic and subphrenic</a:t>
            </a: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 )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US and CT scanning facilitate diagnosis and allow percutaneous drainag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parotomy should be considered in patients suspected of having intra-abdominal sepsi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3426-1477-41F6-B36E-D3C4AA4A485A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Ileus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 period of adynamic ileus is to be expected after appendicectomy but Ileus persisting for more than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4 or 5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days, particularly in the presence of a fever, is indicative of continuing intra-abdominal sepsis and should prompt further investigation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Respiratory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postoperative analgesia &amp;                      physiotherapy reduce the incidenc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Venous thrombosis and embolism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re rare after      appendicectom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343F-5AD7-4627-9F60-58EDFDBA13FC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2280" y="3805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Portal pyaemia (pylephlebitis)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are but very serious complication of gangrenous appendicitis associated with </a:t>
            </a:r>
            <a:r>
              <a:rPr b="1" lang="en-US" sz="2800" spc="-1" strike="noStrike">
                <a:solidFill>
                  <a:srgbClr val="2b2bfe"/>
                </a:solidFill>
                <a:latin typeface="Tahoma"/>
              </a:rPr>
              <a:t>high fever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2b2bfe"/>
                </a:solidFill>
                <a:latin typeface="Tahoma"/>
              </a:rPr>
              <a:t>rigor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&amp; </a:t>
            </a:r>
            <a:r>
              <a:rPr b="1" lang="en-US" sz="2800" spc="-1" strike="noStrike">
                <a:solidFill>
                  <a:srgbClr val="2b2bfe"/>
                </a:solidFill>
                <a:latin typeface="Tahoma"/>
              </a:rPr>
              <a:t>jaundic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It is caused by septicaemia in the portal venous system and leads to the development of intrahepatic abscesses (often multiple)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atment is with systemic antibiotics and percutaneous drainage of hepatic abs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276B-612E-4A53-973D-6A4DE90B0C09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7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Faecal fistula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eakage from the appendicular stump occurs rarel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Occasionally, a fistula may result following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appendicectomy in Crohn's diseas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8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Adhesive intestinal obstruction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most common late complication of appendicectom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Occasionally, chronic pain in the RIF is attributed to adhesion formation after appendicectomy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uch cases, laparoscopy is of value in confirming the presence of adhesions and allowing divi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24D1-32D7-4BCB-9E77-C4CAD3C58B1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b2bfe"/>
                </a:solidFill>
                <a:latin typeface="Berlin Sans FB Demi"/>
              </a:rPr>
              <a:t>Recurrent acute appendiciti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ppendicitis is notoriously recurrent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ttacks vary in intensity and may occur every few months, and the majority of cases ultimately culminate in severe A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appendix in these cases shows fibrosis indicative of previous inflammatio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Chronic appendicitis, per se, does not exist</a:t>
            </a: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53B5-3E1E-4B66-AD8F-02EEF9022D5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0492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 score of 7 or more:  is strongly predictive of AA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Equivocal score (5–6): US or CT may needed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US is useful in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childre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thin adult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articularly if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gynaecological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pathology is suspected, with a diagnostic accuracy in excess of 90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%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300"/>
                </a:solidFill>
                <a:latin typeface="Tahoma"/>
              </a:rPr>
              <a:t>Contrast-enhanced CT scan  is useful in particularly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older</a:t>
            </a:r>
            <a:r>
              <a:rPr b="0" lang="en-US" sz="2800" spc="-1" strike="noStrike">
                <a:solidFill>
                  <a:srgbClr val="006300"/>
                </a:solidFill>
                <a:latin typeface="Tahoma"/>
              </a:rPr>
              <a:t> patients</a:t>
            </a:r>
            <a:r>
              <a:rPr b="0" lang="en-US" sz="2800" spc="-1" strike="noStrike">
                <a:solidFill>
                  <a:srgbClr val="0063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300"/>
                </a:solidFill>
                <a:latin typeface="Tahoma"/>
              </a:rPr>
              <a:t>in whom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acute diverticulitis</a:t>
            </a:r>
            <a:r>
              <a:rPr b="0" lang="en-US" sz="2800" spc="-1" strike="noStrike">
                <a:solidFill>
                  <a:srgbClr val="0063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intestinal obstruction </a:t>
            </a:r>
            <a:r>
              <a:rPr b="0" lang="en-US" sz="2800" spc="-1" strike="noStrike">
                <a:solidFill>
                  <a:srgbClr val="0063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neoplasm</a:t>
            </a:r>
            <a:r>
              <a:rPr b="0" lang="en-US" sz="2800" spc="-1" strike="noStrike">
                <a:solidFill>
                  <a:srgbClr val="006300"/>
                </a:solidFill>
                <a:latin typeface="Tahoma"/>
              </a:rPr>
              <a:t> are possible DD</a:t>
            </a:r>
            <a:r>
              <a:rPr b="0" lang="en-US" sz="2800" spc="-1" strike="noStrike">
                <a:solidFill>
                  <a:srgbClr val="0063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A2A6-F4B7-434F-AFA1-A9EA91B30981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1739880"/>
            <a:ext cx="8686800" cy="29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ahoma"/>
              </a:rPr>
              <a:t>Neoplasms of the appendix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E458-1ADE-4D0F-9B95-8C28C028EF23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51920" y="30456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1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- 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Carcinoid tumours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: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cinoid tumours (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rgentaffinom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rise in argentaffin tissue (Kulchitsky cells of the crypts of Lieberkühn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Carcinoid tumour is found once in every 300–400 appendices subjected to histological examination &amp; is ten times more common than any other neoplasm of the appendix</a:t>
            </a:r>
            <a:r>
              <a:rPr b="0" lang="en-US" sz="2800" spc="-1" strike="noStrike">
                <a:solidFill>
                  <a:srgbClr val="d500d5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4753-1560-442A-A163-4A8E313066F1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2860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In many instances, the appendix had been removed because of symptoms of subacute or recurrent appendicitis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tumour can occur in any part of the appendix, but it is frequently found in the distal thir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 carcinoid tumours arising in other parts of the intestinal tract, carcinoid tumour of the appendix rarely gives rise to metasta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18D6-6E53-4AF6-B953-785209F2C76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52280" y="685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ff44"/>
                </a:solidFill>
                <a:latin typeface="Bernard MT Condensed"/>
              </a:rPr>
              <a:t>Treatment</a:t>
            </a:r>
            <a:r>
              <a:rPr b="0" lang="en-US" sz="3600" spc="-1" strike="noStrike">
                <a:solidFill>
                  <a:srgbClr val="44ff44"/>
                </a:solidFill>
                <a:latin typeface="Bernard MT Condensed"/>
              </a:rPr>
              <a:t>: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pendicectom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ight hemicolectomy is indicated i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Caecal wall is involve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umour is 2 cm or more in siz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Lymph nodes involvement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489D-9225-4BA4-9A12-3AE3F304A7E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38052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- 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Goblet cell carcinoid tumour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: 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usual variant, which exhibits a combination of endocrine and glandular differenti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- 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Primary Adenocarcinoma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: 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extremely r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- 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Mucinous cystadenoma</a:t>
            </a:r>
            <a:r>
              <a:rPr b="1" lang="en-US" sz="3600" spc="-1" strike="noStrike">
                <a:solidFill>
                  <a:srgbClr val="2b2bfe"/>
                </a:solidFill>
                <a:latin typeface="Tahoma"/>
              </a:rPr>
              <a:t>.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F99E-51D2-4C61-8E3A-AC6BD7ABB97B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Preoperative investigations in appendicit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04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Routine:  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Full blood count,  Urinalysi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Selective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Pregnancy test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Urea and electrolyte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upine abdominal radiograph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US of the abdomen/pelvi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Contrast-enhanced abdomen and pelvic CTsca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0FEC-AAD7-411D-A767-5CB9877DFFCA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 rot="20067600">
            <a:off x="304920" y="2743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lang="en-US" sz="8800" spc="-1" strike="noStrike">
                <a:solidFill>
                  <a:srgbClr val="009500"/>
                </a:solidFill>
                <a:latin typeface="Tahoma"/>
              </a:rPr>
              <a:t>Treatment</a:t>
            </a:r>
            <a:br>
              <a:rPr sz="7200"/>
            </a:b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B70F-8196-443D-9CE6-A170FB73EA06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1920" y="228600"/>
            <a:ext cx="8991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traditional treatment for AA is appendicectom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but conservative management in those thought not to have obstructive appendicitis: treatment is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bowel rest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 &amp;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IV antibiotics, (metranidazole &amp; third-generation cephalosporin)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( 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successful outcomes in 80–90 %, but there is an approximately 15 % recurrence rate within one year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)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This approach should be considered in patients with high operative risk (multiple comorbidities)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D9DB-3EE1-4DA5-BF3C-547AC1AB74A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2286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Appendicectomy is emergency (</a:t>
            </a:r>
            <a:r>
              <a:rPr b="0" lang="en-US" sz="2800" spc="-1" strike="noStrike">
                <a:solidFill>
                  <a:srgbClr val="ff3059"/>
                </a:solidFill>
                <a:latin typeface="Tahoma"/>
              </a:rPr>
              <a:t>out of hours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) operation is essential to prevent the increased morbidity &amp; mortality of peritonitis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Preoperative preparation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IV fluids, to establish adequate urine output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ppropriate antibiotics should be given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Hyperpyrexia in children treated with salicylate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0A4C-3311-4A27-8C2C-BADD8B8A949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 rot="1660200">
            <a:off x="609480" y="29710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009500"/>
                </a:solidFill>
                <a:latin typeface="Tahoma"/>
              </a:rPr>
              <a:t>Appendicectomy</a:t>
            </a:r>
            <a:r>
              <a:rPr b="1" lang="en-US" sz="7200" spc="-1" strike="noStrike">
                <a:solidFill>
                  <a:srgbClr val="009500"/>
                </a:solidFill>
                <a:latin typeface="Tahoma"/>
              </a:rPr>
              <a:t>: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13BC-7214-4AEC-B574-33A6BDC6E451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-ABDULRAZZAK</cp:lastModifiedBy>
  <dcterms:modified xsi:type="dcterms:W3CDTF">2013-12-27T19:29:23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