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326-929A-4D31-BD4D-BF4466BD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176-F276-4923-A004-A4B7788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6C1-548D-4264-AE63-00F63E54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8AB-2BE3-4AE9-A86D-35A5D1C1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55CE9-F95A-4CDC-85F6-FD75512D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B2074-E728-4E69-A96B-6F2E17AF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33D9-195D-4723-9129-BDF39190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0BBD-8E5E-480B-8634-8FE850A0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B4C72-D37C-43CC-A1CF-E476B06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1702C-7D4E-45E0-945E-6B4F5AF2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7F912-C343-49CD-9829-942801F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024-55C1-4C3F-8FE6-A0114562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08857-23E5-4A36-B777-2A7806DE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C9842-E836-4719-BCCF-50244A4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3BB3A-F0AD-4C9B-84C6-67482B4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42EAE-FE57-42F4-8D56-CD80D280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51333-03AC-42B0-97D3-9B622585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C3E-9676-4093-A01E-9029D69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801-1C02-4090-B1EB-F9F50D0D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69C-A632-4A8D-958E-E286C5B5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5DE-4F04-44E3-976D-F52FAD6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F40-1A2F-4DEE-A5E8-2B4886E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D99-FACE-4E22-9129-0AB84FD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07E-A665-4C46-BBA4-B7889C0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3EE8-5F9C-46DF-B57E-0A191E3798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D3E-B8EF-4906-89C9-01BB498C800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0070c0"/>
                </a:solidFill>
                <a:latin typeface="comic"/>
              </a:rPr>
              <a:t>The vermiform appendix</a:t>
            </a:r>
            <a:r>
              <a:rPr b="1" lang="en-US" sz="7200" spc="-1" strike="noStrike">
                <a:solidFill>
                  <a:srgbClr val="0070c0"/>
                </a:solidFill>
                <a:latin typeface="com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9E40-1334-4E5D-9B45-B8C4B306F7D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1920" y="22824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The mesentery of the appendix (mesoappendix) arises from the lower surface of the mesentery or the terminal ileum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appendicular artery, a branch of the lower division of the ileocolic artery, passes behind the terminal ileum to enter the mesoappendix a short distance from the base of the appendix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33D-5779-4A93-BC2A-F3FEE94322A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6" name="Picture 7" descr="C:\Users\DR-ABDULRAZZAK\Desktop\appendicitis pictures\appendix_vermiform.jpg"/>
          <p:cNvPicPr/>
          <p:nvPr/>
        </p:nvPicPr>
        <p:blipFill>
          <a:blip r:embed="rId1"/>
          <a:stretch/>
        </p:blipFill>
        <p:spPr>
          <a:xfrm>
            <a:off x="1676520" y="3657600"/>
            <a:ext cx="4724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Appendicular artery is ‘end-artery</a:t>
            </a: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‘,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thrombosis of which results in necrosis of the appendix (gangrenous appendicitis)</a:t>
            </a: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Lymphatic channels traverse the mesoappendix to the ileocaecal lymph nodes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FF7-C493-4875-91ED-7F78DF324A5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044440"/>
            <a:ext cx="853452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ahoma"/>
              </a:rPr>
              <a:t>Microscopic anatomy</a:t>
            </a:r>
            <a:r>
              <a:rPr b="1" lang="en-US" sz="54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452E-C197-4170-9673-135DE04E436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length is 7.5 -10 cm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lumen is irregular, by multiple longitudinal folds of mucous membrane lined by columnar cel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Crypts are present, but are not numerous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In the base of the crypts lie </a:t>
            </a:r>
            <a:r>
              <a:rPr b="1" lang="en-US" sz="2800" spc="-1" strike="noStrike">
                <a:solidFill>
                  <a:srgbClr val="6a006a"/>
                </a:solidFill>
                <a:latin typeface="Tahoma"/>
              </a:rPr>
              <a:t>argentaffin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 cells (</a:t>
            </a:r>
            <a:r>
              <a:rPr b="1" lang="en-US" sz="2800" spc="-1" strike="noStrike">
                <a:solidFill>
                  <a:srgbClr val="6a006a"/>
                </a:solidFill>
                <a:latin typeface="Tahoma"/>
              </a:rPr>
              <a:t>Kulchitsky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 cells), give rise to carcinoid tumours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appendix is the most frequent site for carcinoid tumours, which may present with appendicitis due to occlusion of the appendiceal lume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60ED-700B-438C-8263-2B1B93F25DA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1920" y="5331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ubmucosa contains numerous lymphatic aggregation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prominence of lymphatic tissue in the appendix of young adults seems to be important in the aetiology of appendicitis but no discernible change in immune function results from appendicectomy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51EC-6AAE-4C82-9901-A776537DE64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03C2-B7A5-4E57-A72C-34160BDECED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6" name="Picture 4" descr="C:\Users\DR-ABDULRAZZAK\Desktop\appendicitis pictures\appendicitis.gif"/>
          <p:cNvPicPr/>
          <p:nvPr/>
        </p:nvPicPr>
        <p:blipFill>
          <a:blip r:embed="rId1"/>
          <a:stretch/>
        </p:blipFill>
        <p:spPr>
          <a:xfrm>
            <a:off x="228600" y="1981080"/>
            <a:ext cx="86216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incidence of appendicitis risen greatly in the first half of the twentieth century, particularly in Europe, America and Austral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the past 30 years, the incidence fallen dramaticall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cute appendicitis is rare in infants, and becomes increasingly common in childhood and early adult life, reaching a peak incidence in the teens and early 20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fter middle age, risk of developing appendicitis is smal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4FCD-9F79-4340-AB8F-247129C838A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cidence of appendicitis is equal among males &amp; females before pubert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In teenagers and young adults, the male–female ratio increases to 3:2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but at age 25; thereafter, the greater incidence in males decline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1AE-7BB9-49DD-A851-7960E9F3F80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ahoma"/>
              </a:rPr>
              <a:t>Aetiology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9077-1D2F-4A89-BE39-7BF80A2A776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60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re is no single hypothesis for the aetiology of acute appendiciti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ecreased dietary fibre and increased consumption of refined carbohydrates may be importa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s with colonic diverticulitis, the incidence of appendicitis is lowest in societies with a high dietary fibre intake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C9F3-3D46-4898-9F22-7D6CDD4F0B2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vermiform appendix is a vestigial orga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Its importance in surgery results only from its propensity for inflammatio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A is the most common cause of ‘acute abdome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’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ppendicectomy ( ‘appendectomy’) is the most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frequent urgent abdominal opera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diagnosis of appendicitis is clinic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4DF8-9A57-441F-A509-9BA1E631B40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ile appendicitis is clearly associated with bacterial proliferation within the appendix, no single organism is responsib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 mixed growth of aerobic &amp; anaerobic organisms is usu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4C0C-BB52-48FF-BA50-284F0A0E415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920" y="151920"/>
            <a:ext cx="86104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bstruction of the appendix lumen is important, and some form of luminal obstruction is found in the majority of cases &amp; the Obstruction by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1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A faecolith ( ‘appendicolith’)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: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omposed of: inspissated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faecal materi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calcium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phosphate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bacter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epitheli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ebr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Rarely, a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FB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is incorporated into the mas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CCFB-9A6C-4742-81C7-51B00C07E8B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29" name="Picture 4" descr="C:\Users\DR-ABDULRAZZAK\Desktop\appendicitis pictures\appendix.jpg"/>
          <p:cNvPicPr/>
          <p:nvPr/>
        </p:nvPicPr>
        <p:blipFill>
          <a:blip r:embed="rId1"/>
          <a:stretch/>
        </p:blipFill>
        <p:spPr>
          <a:xfrm>
            <a:off x="2819520" y="3886200"/>
            <a:ext cx="2795400" cy="29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A fibrotic stricture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dicates previous appendicitis that resolv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3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Tumour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a-caecum obstruct the appendiceal orifice, &amp; cause of AA in middle-aged &amp; elderl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4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Intestinal parasites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Oxyuris vermicularis (pinworm), proliferate in the appendix and occlude the lume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9E1-DD9F-40C3-9D62-C06CA7614F5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2143-6452-4FBE-927E-33E1F7FB042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44800"/>
            <a:ext cx="822960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7200" spc="-1" strike="noStrike">
                <a:solidFill>
                  <a:srgbClr val="002060"/>
                </a:solidFill>
                <a:latin typeface="Tahoma"/>
              </a:rPr>
              <a:t>Pathology</a:t>
            </a:r>
            <a:r>
              <a:rPr b="1" lang="en-US" sz="60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bstruction of the lumen is  essential for the development of appendiceal gangrene &amp; perfora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Yet, in many cases of early appendicitis, the appendix lumen is patent despite the presence of mucosal inflammation and lymphoid hyperplasi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me  suggests an infective agent, possibly viral, which initiates an inflammatory respons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sonal variation in the incidence is observed, more cases occurring between May and Augu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010A-8388-4DC8-94A7-A72BFBAA887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6320" y="914040"/>
            <a:ext cx="8991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Lymphoid hyperplasia narrows the lumen of the appendix, leading to luminal obstruc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nce obstruction occurs, continued mucus secretion and inflammatory exudation increase intraluminal pressure, obstructing lymphatic drainag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edema and mucosal ulceration develop with bacterial translocation to the submucos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B30-9419-4133-9C07-B9F5BC7CF34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38052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lution may occur at this point either: spontaneously </a:t>
            </a:r>
            <a:r>
              <a:rPr b="0" lang="en-US" sz="2800" spc="-1" strike="noStrike">
                <a:solidFill>
                  <a:srgbClr val="00b0f0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response to antibiotic therap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condition progresses, further distension of the appendix may cause venous obstruction and ischaemia of the appendix wal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With ischaemia, bacterial invasion occurs through the muscularis propria and submucosa, producing A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5822-0374-4E42-B556-AF87C6F08AA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632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inally, ischaemic necrosis of the appendix wall produces gangrenous appendicitis, with free bacterial contamination of the peritoneal cavit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ly, the greater omentum and loops of small bowel become adherent to the inflamed appendix, walling off the spread of peritoneal contamination, &amp; resulting in phlegmonous mass or paracaecal abs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Rarely, appendiceal inflammation resolves, leaving a distended mucus-filled organ termed a ‘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mucocoele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’ of the appendix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150F-30E9-4ECE-842D-1D88C0741A2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73"/>
                </a:solidFill>
                <a:latin typeface="Britannic Bold"/>
              </a:rPr>
              <a:t>Risk factors for perforation of the appendix</a:t>
            </a:r>
            <a:r>
              <a:rPr b="1" lang="en-US" sz="3200" spc="-1" strike="noStrike">
                <a:solidFill>
                  <a:srgbClr val="010173"/>
                </a:solidFill>
                <a:latin typeface="Britannic Bold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80720" y="1066320"/>
            <a:ext cx="5791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xtremes of ag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munosuppress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Diabetes mellitus</a:t>
            </a: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aecolith obstructio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.   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lvic appendi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Previous abdominal surgery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D2A-B413-4797-941C-552934CA3A1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Clinical diagnosis</a:t>
            </a: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D6A8-2F89-4724-ACD5-0D4894FCE89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Tahoma"/>
              </a:rPr>
              <a:t>ANATOM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B887-F222-41D5-B972-9510607783E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320" y="228600"/>
            <a:ext cx="8991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istor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lassical features of AA begin with poorly localised colicky abdominal pai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is is due to midgut visceral discomfort in response to appendiceal inflammation and obstruc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in is first noticed in the periumbilical region &amp;  associated with anorexia, nausea and one or two episodes of vomiting that follow the onset of p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orexia is a useful and constant clinical feature, particularly in childre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DC4-DB98-44F5-B7AE-A254E578C15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1920" y="151920"/>
            <a:ext cx="89917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patient often gives a history of similar discomfort that settled spontaneousl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A family history is also useful as up to one-third of children with appendicitis have a first-degree relative with a similar history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With progressive inflammation of the appendix, the parietal peritoneum in the RIF becomes irritated, producing intense, constant &amp; localised somatic pai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 report this as an abdominal pain that has shifted and changed in charac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Typically, coughing or sudden movement exacerbates the RIF pain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D8E7-A637-4224-9D47-157478D4CE4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73"/>
                </a:solidFill>
                <a:latin typeface="Britannic Bold"/>
              </a:rPr>
              <a:t>So Symptoms of appendicitis are</a:t>
            </a:r>
            <a:r>
              <a:rPr b="1" lang="en-US" sz="3600" spc="-1" strike="noStrike">
                <a:solidFill>
                  <a:srgbClr val="010173"/>
                </a:solidFill>
                <a:latin typeface="Britannic Bold"/>
              </a:rPr>
              <a:t>: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52120" y="167652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eriumbilical col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in shifting to the RI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Anorexia</a:t>
            </a: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.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Nausea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C545-0D1D-43C9-B3F8-9FC39622A65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96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classic visceral–somatic sequence of pain is present in only half of those patients with A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typical presentations include: pain that is predominantly somatic or visceral and poorly localised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ypical pain is more common in the elderly, in whom localisation to the RIF is unusu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n inflamed appendix in the pelvis may never produce somatic pain involving the anterior abdominal wall, but may cause suprapubic discomfort &amp; tenesmu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this circumstance, tenderness may be elicited only on rectal examina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9CC4-4DFA-4AA2-8CF4-13BD877647B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2280" y="2282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uring the first 6 hours, there is rarely any alteration in temperature or pulse rat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fter that time, slight pyrexia (37.2 − 37.7°C) with a corresponding increase in the pulse rate to 80 or 90 is usual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in 20 % of patients, there is no pyrexia or tachycardia in the early s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children, a temperature greater than 38.5°C suggests other causes, e.g. mesenteric adenit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FB75-76FF-4D13-87CD-C4D5DFE4657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Two clinical syndromes of acute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appendicitis can be seen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cute catarrhal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nonobstructive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ppendicitis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cute obstructive appendicitis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240-3998-412F-A8FA-2D94883988D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igns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Diagnosis of AA depend on thorough abdominal examination more than history or lab.investigation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Clinical signs in appendicitis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unwell patient with low-grade pyrexi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tenderness in the R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uscle guarding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                            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Rebound tenderness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798A-0B58-4A25-8AD8-CC310DFC4D6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Inspection: limitation of respiratory movement in the lower abdomen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perficial palpation: muscle guarding over the point of maximum tenderness, classicall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cBurney'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poin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sking patient to cough or percussion over the site of maximum tenderness will elicit rebound tendernes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B47-0DC0-4FEA-9941-31C413237D4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83908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b002b"/>
                </a:solidFill>
                <a:latin typeface="Tahoma"/>
              </a:rPr>
              <a:t>Signs to elicit in appendiciti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BE1-1C3A-42D2-BAE8-D1146550D52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1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Pointing sign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atient is asked to point to where the pain began and where it mov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Rovsing's sign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eep palpation of LIF may cause pain in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27D2-F664-4DF1-A4BB-1A7559ADC79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t is a blind muscular tube with: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ucos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submucos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uscular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seros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layer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At birth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appendix is short &amp; broad at its junction with the caecum, but growth of the caecum produces the typical tubular structure by the age of two year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uring childhood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growth of the caecum rotates the appendix into a retrocaecal but intraperitoneal posi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38CC-C958-466B-9699-BCBD57A5A0B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3</a:t>
            </a: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Psoas sign</a:t>
            </a: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D83A-83C4-4E70-BAAB-3D05AD6E1CD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70" name="Picture 2" descr="C:\Users\DR-ABDULRAZZAK\Desktop\appendicitis pictures\tumblr_loam84e5871qazhve.jpg"/>
          <p:cNvPicPr/>
          <p:nvPr/>
        </p:nvPicPr>
        <p:blipFill>
          <a:blip r:embed="rId1"/>
          <a:stretch/>
        </p:blipFill>
        <p:spPr>
          <a:xfrm>
            <a:off x="1219320" y="1111320"/>
            <a:ext cx="6298920" cy="55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51920" y="22824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4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Obturator sign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hip is flexed and internally rotat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f an inflamed appendix is in contact with the obturator internus, this cause pain in the hypogastrium (the obturator test; Zachary Cope)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C9AB-3393-4A54-9603-45DB8588D2B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73" name="Picture 2" descr="C:\Users\DR-ABDULRAZZAK\Desktop\appendicitis pictures\afp19991101p2027-f2a.jpg"/>
          <p:cNvPicPr/>
          <p:nvPr/>
        </p:nvPicPr>
        <p:blipFill>
          <a:blip r:embed="rId1"/>
          <a:stretch/>
        </p:blipFill>
        <p:spPr>
          <a:xfrm>
            <a:off x="2209680" y="2895480"/>
            <a:ext cx="46990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8680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002b"/>
                </a:solidFill>
                <a:latin typeface="Tahoma"/>
              </a:rPr>
              <a:t>Special features, according to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position</a:t>
            </a:r>
            <a:r>
              <a:rPr b="1" lang="en-US" sz="4800" spc="-1" strike="noStrike">
                <a:solidFill>
                  <a:srgbClr val="2b002b"/>
                </a:solidFill>
                <a:latin typeface="Tahoma"/>
              </a:rPr>
              <a:t> of the appendix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76E-B635-44EC-B6E1-5615F65247A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Retrocaecal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60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gidity is often absent, and even deep pressure may fail to elicit tenderness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ilent appendix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), this is because of the caecum is distended with gas &amp; prevents the pressure exerted by the hand from reaching the inflamed appendix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However, deep tenderness is often present in the loin, and rigidity of the quadratus lumborum may be in evidence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soas spasm, due to the inflamed appendix being in contact with it &amp; may cause flexion of the hip joint. Hyperextension of the hip joint may induce abdominal pai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CC0-3E0D-479E-8894-8252823D82C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Pelvic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ccasionally, early diarrhoea results from an inflamed appendix being in contact with the rectu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When the appendix lies entirely within the pelvis, there is usually complete absence of abdominal rigidity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rectal examination reveals tenderness in the rectovesical pouch or the pouch of Dougla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sm of the psoas and obturator internus muscles may be pres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 inflamed appendix in contact with the bladder may cause frequency of micturi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A67-7578-4066-948C-2CC905F54A1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Postileal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inflamed appendix lies behind the terminal ileu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t presents the greatest difficulty in diagnosis because the pain may not shift, diarrhoea is a feature and marked retching may occur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enderness is ill defined, although it may be present immediately to the right of the umbilicu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5320-C8D4-4831-ABFF-A950F99B142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0920"/>
            <a:ext cx="8610480" cy="28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02b"/>
                </a:solidFill>
                <a:latin typeface="Tahoma"/>
              </a:rPr>
              <a:t>Special features, according to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ag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C44D-ADDA-49E9-B5C4-5F7778C5E05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Infants</a:t>
            </a: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Appendicitis is relatively rare in infants under 36 months of age and, diagnosis is often delayed</a:t>
            </a: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us the incidence of perforation &amp; postop morbidity is considerably higher than in older childre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Diffuse peritonitis can develop rapidly because of the underdeveloped greater omentum, which is unable in localising the infec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C82-D045-447A-8EFF-8DF8856CAF5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Children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 is rare to find a child with appendicitis who has no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omite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hildren with appendicitis usually have complete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ver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to foo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8BDA-2260-446E-B99A-AE4AB655C8E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The elderly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angrene &amp; perforation occur much more frequently in elderly patient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lderly patients with lax abdominal walls or obesity may harbour a gangrenous appendix with little evidence of it, and the clinical picture may simulate subacute intestinal obstruc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se features &amp; with coincident medical conditions, produce a higher mortality for AA in the elderly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51D-3D81-4BAF-BFCB-860DA327207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28600" y="12189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25% of cases, rotation of the appendix does not occur, resulting i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elvic, subcaecal or paracaecal posi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Occasionally, the tip of the appendix becomes extraperitoneal, lying behind the caecum or ascending colo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4033-BB61-4A95-94DB-4F09B2757EC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The obese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Obesity obscure &amp; diminish all the local signs of AA</a:t>
            </a: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Delay in diagnosis &amp;  with the technical difficulty of operating in the obese, it better to operate through a midline abdominal inci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Laparoscopy is particularly useful in the obese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1F4-0377-4760-8998-AE506D4F993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Pregnancy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ppendicitis is the most common extrauterine acute abdominal condition in pregnanc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Diagnosis is complicated by delay in presentation as early non-specific symptoms are often attributed to the pregnancy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caecum and appendix are progressively pushed to the right upper quadrant as pregnancy develops during the 2</a:t>
            </a:r>
            <a:r>
              <a:rPr b="0" lang="en-US" sz="2800" spc="-1" strike="noStrike" baseline="30000">
                <a:solidFill>
                  <a:srgbClr val="a50021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&amp; 3</a:t>
            </a:r>
            <a:r>
              <a:rPr b="0" lang="en-US" sz="2800" spc="-1" strike="noStrike" baseline="30000">
                <a:solidFill>
                  <a:srgbClr val="a50021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 trimester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75A0-C8E6-496E-9905-8C7566BACDA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458200" cy="35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Differential diagnosi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6FB-5BDE-4AF6-A386-6A43EE6FE41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hildren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cute gastroenter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esenteric lymphadeniti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ain is colicky in nature and cervical lymph nodes may be enlarg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eckel's diverticuliti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t may be impossible to clinically distinguish it from A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ntussusception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ppendicitis is uncommon before the age of two years, whereas the median age for intussusception is 18 month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C780-1319-415F-A6E7-9D3ADFD96EE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2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enoch–Schönlein purpura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re is an ecchymotic rash, typically affecting the extensor surfaces of the limbs &amp; on the buttock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Lobar pneumonia and pleurisy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especially at the right bas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bdominal tenderness is minimal, pyrexia is marked, &amp; chest exam is important  &amp; CXR is diagnostic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9FBD-39CA-49DF-AF55-4C65535C012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dults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32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erminal ile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history of abdominal cramping, weight loss &amp; diarrhoe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uggests regional ileitis rather than appendicit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Perforated peptic ulcer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duodenal contents pass along the paracolic gutter to the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history of dyspepsia &amp; a very sudden onset of pain in the epigastrium &amp; passes to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Erect CXR show gas under the diaphragm in 70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%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4A5-39A6-4FFC-A83C-BB14894BFB4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6091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Ureteric colic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haracter &amp; radiation of pain differs from A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Urinalysis &amp; US or IVU is diagnostic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ight-sided acute pyelonephr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enderness in the loin, fever (temperature 39°C) &amp; possibly rigors and pyur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esticular torsion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a teenage or young adult.  Pain can be referred to the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A5EE-33B1-460C-A0E3-FE09D3071B1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8B77-632E-44F7-8048-47DAE19EB61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cute pancreatitis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serum or urinary amylase leve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7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ectus sheath haematoma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s rare but easily missed D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often after an episode of strenuous physical exercis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Localised pain without GIT upset is the ru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C031-7DC4-4E7D-A50B-6B9AAF15009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dult female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women of childbearing age the pelvic disease most often mimics A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careful gynaecological history should be taken in all women with suspected AA, concentrating 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menstrual cyc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vaginal discharge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possible pregnancy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0A15-1470-415F-8E41-52DEFE0E40A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The various positions of the appendix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BCAB-F0B8-4140-98B2-1EF0BF1E9A2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7872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51920" y="4568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ittelschmerz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idcycle rupture of a follicular cyst with bleeding produces lower abdominal &amp; pelvic pain, typically midcyc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ystemic upset is rare, a pregnancy test is negative, and symptoms usually subside within hour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Occasionally, diagnostic laparoscopy is required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581F-207D-4FF4-A6BA-9252328DBFF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7596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Pelvic inflammatory disease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ID is a spectrum of diseases that include|: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salpingit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endometrit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tubo-ovarian seps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Incidence of these conditions is increasing &amp; diagnosis should be considered in every young adult female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ypically, the pain is lower than in AA &amp; is bilater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history of vaginal discharge, dysmenorrhoea and burning pain on micturition is a helpful DD poi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C2A-9298-40AE-A5DA-C5997B68E41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600" y="9144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hysical findings include adnexal and cervical tenderness on vaginal examina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Transvaginal ultrasound can be particularly helpful in establishing the diagnosi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ometimes, diagnostic laparoscopy is indicat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6706-BEEA-4B0F-9A8F-B0AE553EFC3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880" y="-3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Ectopic pregnancy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Either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ruptured ectopic pregnancy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(haemoperitoneum)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right-sided tubal abortion</a:t>
            </a: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right-sided unruptured tubal pregnancy</a:t>
            </a: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re is  history of a missed menstrual period, &amp;  pregnancy test may be positiv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evere pain is felt when the cervix is moved on vaginal examina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igns of intraperitoneal bleeding usually become appare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elvic ultrasonography should be carri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E6D5-7863-4792-8F1E-E00B2C6B902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12952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orsion/haemorrhage/rupture of an ovarian cyst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en suspected, pelvic ultrasound and a gynaecological opinion should be sough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Endometrios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ight-sided acute pyelonephr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0C74-97FF-41CF-93C1-735C2FEC161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Elderly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iverticuliti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ith a long sigmoid loop, the colon lies to the right of the midlin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bdominal CT &amp; some time laparoscopy or exploratory laparotomy is indicat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ntestinal obstruction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diagnosis of intestinal obstruction is usually clear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CEB5-49A5-46D4-8190-4E5A54C9FC8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5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Carcinoma of the caecum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ay mimic or cause obstructive appendicitis in adult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orsion appendix epiploicae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esenteric infarction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 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Leaking aortic aneurysm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AC6-1B92-4DF4-8D98-D4A3CE2CEC9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520" y="380520"/>
            <a:ext cx="84582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Tahoma"/>
              </a:rPr>
              <a:t>Rarely,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the caecum does not migrate during development to the right lower quadrant, in these circumstances, the appendix can be found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Near the gall bladder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In case of intestinal malrotation, in the LIF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causing diagnostic difficulty if appendicitis develops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0359-1A15-4063-B969-EF525371EE3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6F60-36D4-4310-BD3E-CACF8DAD060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9" name="Picture 2" descr="C:\Users\DR-ABDULRAZZAK\Desktop\appendicitis pictures\x3J6j-6yGmbBv-LBHc6ndA_m.jpg"/>
          <p:cNvPicPr/>
          <p:nvPr/>
        </p:nvPicPr>
        <p:blipFill>
          <a:blip r:embed="rId1"/>
          <a:stretch/>
        </p:blipFill>
        <p:spPr>
          <a:xfrm>
            <a:off x="2590920" y="1760400"/>
            <a:ext cx="40384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280" y="609480"/>
            <a:ext cx="8839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osition of the base of the appendix is constant: found at the confluence of the three taeniae coli which fuse to form the outer longitudinal muscle coat of the appendix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298440" indent="-2984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F8AB-FB60-4813-B7E0-F281FFDFD4D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2" name="Picture 6" descr="C:\Users\DR-ABDULRAZZAK\Desktop\appendicitis pictures\gambar 6.png"/>
          <p:cNvPicPr/>
          <p:nvPr/>
        </p:nvPicPr>
        <p:blipFill>
          <a:blip r:embed="rId1"/>
          <a:srcRect l="3787" t="22847" r="5335" b="24156"/>
          <a:stretch/>
        </p:blipFill>
        <p:spPr>
          <a:xfrm>
            <a:off x="4903920" y="2743200"/>
            <a:ext cx="4011480" cy="312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3" name="Picture 8" descr="C:\Users\DR-ABDULRAZZAK\Desktop\appendicitis pictures\vermiform_appendix.jpg"/>
          <p:cNvPicPr/>
          <p:nvPr/>
        </p:nvPicPr>
        <p:blipFill>
          <a:blip r:embed="rId2"/>
          <a:stretch/>
        </p:blipFill>
        <p:spPr>
          <a:xfrm>
            <a:off x="304920" y="2762280"/>
            <a:ext cx="38275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-ABDULRAZZAK</cp:lastModifiedBy>
  <dcterms:modified xsi:type="dcterms:W3CDTF">2013-12-27T16:32:3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