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DA2-E135-480C-AD90-36ADCA79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8AF4-E2F4-42B1-9006-2CD231B0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9ABF-CC44-45DE-B9F1-3CAC2095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5AE3-23EC-40CC-BB47-8B7466CA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2C32E-5D39-432F-9D08-38DE1942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38868-F8FC-4C18-B2BB-ADE0BDD5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4904D-4D4A-40BC-9CC2-E57FC8A9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9EAE1-4D2E-4A14-BEB6-6CDFCD1D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D7C97-A3A7-4B61-B86D-7054FABC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6E9DE-1589-4EE1-8718-DB03FFCB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39DC5-E251-4FC0-9124-4801A46D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1E4-32E8-4467-8BFF-4C08DD7C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DABCF-D35F-4C3F-874F-477D44AB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03ED7-60CD-4877-A6A1-AB1623A7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C8CC8-5F2A-4B0D-8F01-7C459489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05ACC-6AC0-48A2-81B7-E203758C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CD5DD-F4FF-4381-9987-B82BCC24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03E-E660-4CCF-82AC-5A238D0A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E9E-6BFD-47A3-AB9A-6CAE2352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4CAF-1A42-4A4C-9C65-F911B223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18E7-D4E2-4816-B6A5-4976F271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9A0-54AF-4CC5-8FB2-FCF188DA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666-1BC2-44C6-9E1F-5D80D355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4F14-D446-429C-BA79-40D357F9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a50021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a50021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7AC8-5D5B-4699-87F4-24E7182B62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a50021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a50021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a5002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5700-11DF-4D7B-B102-E0BAB5BE046A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0070c0"/>
                </a:solidFill>
                <a:latin typeface="comic"/>
              </a:rPr>
              <a:t>The vermiform appendix</a:t>
            </a:r>
            <a:r>
              <a:rPr b="1" lang="en-US" sz="7200" spc="-1" strike="noStrike">
                <a:solidFill>
                  <a:srgbClr val="0070c0"/>
                </a:solidFill>
                <a:latin typeface="com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946C-14F8-4B31-8211-EAE3C8F96934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51920" y="22824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The mesentery of the appendix (mesoappendix) arises from the lower surface of the mesentery or the terminal ileum</a:t>
            </a: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appendicular artery, a branch of the lower division of the ileocolic artery, passes behind the terminal ileum to enter the mesoappendix a short distance from the base of the appendix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B3ED-E112-4B22-8ED3-EF4A576BD950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06" name="Picture 7" descr="C:\Users\DR-ABDULRAZZAK\Desktop\appendicitis pictures\appendix_vermiform.jpg"/>
          <p:cNvPicPr/>
          <p:nvPr/>
        </p:nvPicPr>
        <p:blipFill>
          <a:blip r:embed="rId1"/>
          <a:stretch/>
        </p:blipFill>
        <p:spPr>
          <a:xfrm>
            <a:off x="1676520" y="3657600"/>
            <a:ext cx="47242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002b"/>
                </a:solidFill>
                <a:latin typeface="Tahoma"/>
              </a:rPr>
              <a:t>Appendicular artery is ‘end-artery</a:t>
            </a:r>
            <a:r>
              <a:rPr b="0" lang="en-US" sz="2800" spc="-1" strike="noStrike">
                <a:solidFill>
                  <a:srgbClr val="2b002b"/>
                </a:solidFill>
                <a:latin typeface="Tahoma"/>
              </a:rPr>
              <a:t>‘,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002b"/>
                </a:solidFill>
                <a:latin typeface="Tahoma"/>
              </a:rPr>
              <a:t>thrombosis of which results in necrosis of the appendix (gangrenous appendicitis)</a:t>
            </a:r>
            <a:r>
              <a:rPr b="0" lang="en-US" sz="2800" spc="-1" strike="noStrike">
                <a:solidFill>
                  <a:srgbClr val="2b002b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Lymphatic channels traverse the mesoappendix to the ileocaecal lymph nodes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9649-93A8-4C9E-B138-E247809E4223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2044440"/>
            <a:ext cx="8534520" cy="19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Tahoma"/>
              </a:rPr>
              <a:t>Microscopic anatomy</a:t>
            </a:r>
            <a:r>
              <a:rPr b="1" lang="en-US" sz="5400" spc="-1" strike="noStrike">
                <a:solidFill>
                  <a:srgbClr val="002060"/>
                </a:solidFill>
                <a:latin typeface="Tahoma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C747-8608-48A8-9D8B-EB10BB216ABE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length is 7.5 -10 cm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The lumen is irregular, by multiple longitudinal folds of mucous membrane lined by columnar cell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006a"/>
                </a:solidFill>
                <a:latin typeface="Tahoma"/>
              </a:rPr>
              <a:t>Crypts are present, but are not numerous</a:t>
            </a:r>
            <a:r>
              <a:rPr b="0" lang="en-US" sz="2800" spc="-1" strike="noStrike">
                <a:solidFill>
                  <a:srgbClr val="6a006a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006a"/>
                </a:solidFill>
                <a:latin typeface="Tahoma"/>
              </a:rPr>
              <a:t>In the base of the crypts lie </a:t>
            </a:r>
            <a:r>
              <a:rPr b="1" lang="en-US" sz="2800" spc="-1" strike="noStrike">
                <a:solidFill>
                  <a:srgbClr val="6a006a"/>
                </a:solidFill>
                <a:latin typeface="Tahoma"/>
              </a:rPr>
              <a:t>argentaffin</a:t>
            </a:r>
            <a:r>
              <a:rPr b="0" lang="en-US" sz="2800" spc="-1" strike="noStrike">
                <a:solidFill>
                  <a:srgbClr val="6a006a"/>
                </a:solidFill>
                <a:latin typeface="Tahoma"/>
              </a:rPr>
              <a:t> cells (</a:t>
            </a:r>
            <a:r>
              <a:rPr b="1" lang="en-US" sz="2800" spc="-1" strike="noStrike">
                <a:solidFill>
                  <a:srgbClr val="6a006a"/>
                </a:solidFill>
                <a:latin typeface="Tahoma"/>
              </a:rPr>
              <a:t>Kulchitsky</a:t>
            </a:r>
            <a:r>
              <a:rPr b="0" lang="en-US" sz="2800" spc="-1" strike="noStrike">
                <a:solidFill>
                  <a:srgbClr val="6a006a"/>
                </a:solidFill>
                <a:latin typeface="Tahoma"/>
              </a:rPr>
              <a:t> cells), give rise to carcinoid tumours</a:t>
            </a:r>
            <a:r>
              <a:rPr b="0" lang="en-US" sz="2800" spc="-1" strike="noStrike">
                <a:solidFill>
                  <a:srgbClr val="6a006a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The appendix is the most frequent site for carcinoid tumours, which may present with appendicitis due to occlusion of the appendiceal lumen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139F-0970-4A7E-B366-33E6DB8B4876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51920" y="5331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Submucosa contains numerous lymphatic aggregation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The prominence of lymphatic tissue in the appendix of young adults seems to be important in the aetiology of appendicitis but no discernible change in immune function results from appendicectomy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4839-3651-490A-A633-723B00937B0C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9897-A1DB-4B77-8C44-47770F37E97E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16" name="Picture 4" descr="C:\Users\DR-ABDULRAZZAK\Desktop\appendicitis pictures\appendicitis.gif"/>
          <p:cNvPicPr/>
          <p:nvPr/>
        </p:nvPicPr>
        <p:blipFill>
          <a:blip r:embed="rId1"/>
          <a:stretch/>
        </p:blipFill>
        <p:spPr>
          <a:xfrm>
            <a:off x="228600" y="1981080"/>
            <a:ext cx="862164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3805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incidence of appendicitis risen greatly in the first half of the twentieth century, particularly in Europe, America and Australia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n the past 30 years, the incidence fallen dramatically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Acute appendicitis is rare in infants, and becomes increasingly common in childhood and early adult life, reaching a peak incidence in the teens and early 20s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After middle age, risk of developing appendicitis is small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3B95-6000-4B77-BF58-8F0AEFCB932C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04920" y="8380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cidence of appendicitis is equal among males &amp; females before puberty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In teenagers and young adults, the male–female ratio increases to 3:2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but at age 25; thereafter, the greater incidence in males declines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5F1D-CE9C-4A5A-A952-DBA9CD3A6389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49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ahoma"/>
              </a:rPr>
              <a:t>Aetiology</a:t>
            </a:r>
            <a:br>
              <a:rPr sz="4800"/>
            </a:b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60FF-7189-4500-9186-91F0880AE13E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28600" y="6854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There is no single hypothesis for the aetiology of acute appendicitis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Decreased dietary fibre and increased consumption of refined carbohydrates may be important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As with colonic diverticulitis, the incidence of appendicitis is lowest in societies with a high dietary fibre intake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42A7-39BC-47A5-82D8-3DF92B500B65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vermiform appendix is a vestigial orga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Its importance in surgery results only from its propensity for inflammation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AA is the most common cause of ‘acute abdome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’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Appendicectomy ( ‘appendectomy’) is the most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frequent urgent abdominal operation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diagnosis of appendicitis is clinical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7D03-B60E-4730-A215-3D70F7ECE630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While appendicitis is clearly associated with bacterial proliferation within the appendix, no single organism is responsibl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A mixed growth of aerobic &amp; anaerobic organisms is usual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D3F0-4D2B-4306-8DEB-48B5764A2DAD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04920" y="151920"/>
            <a:ext cx="86104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Obstruction of the appendix lumen is important, and some form of luminal obstruction is found in the majority of cases &amp; the Obstruction by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1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A faecolith ( ‘appendicolith’)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:</a:t>
            </a:r>
            <a:r>
              <a:rPr b="1" lang="en-US" sz="2800" spc="-1" strike="noStrike">
                <a:solidFill>
                  <a:srgbClr val="7030a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Composed of: inspissated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faecal material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calcium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phosphate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bacteria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epithelial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debri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. Rarely, a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FB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is incorporated into the mas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E451-86E2-4041-AB7C-BEA4DCF569E5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29" name="Picture 4" descr="C:\Users\DR-ABDULRAZZAK\Desktop\appendicitis pictures\appendix.jpg"/>
          <p:cNvPicPr/>
          <p:nvPr/>
        </p:nvPicPr>
        <p:blipFill>
          <a:blip r:embed="rId1"/>
          <a:stretch/>
        </p:blipFill>
        <p:spPr>
          <a:xfrm>
            <a:off x="2819520" y="3886200"/>
            <a:ext cx="2795400" cy="29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28600" y="4568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A fibrotic stricture</a:t>
            </a:r>
            <a:r>
              <a:rPr b="1" lang="en-US" sz="2800" spc="-1" strike="noStrike">
                <a:solidFill>
                  <a:srgbClr val="7030a0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ndicates previous appendicitis that resolve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3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Tumour</a:t>
            </a:r>
            <a:r>
              <a:rPr b="1" lang="en-US" sz="2800" spc="-1" strike="noStrike">
                <a:solidFill>
                  <a:srgbClr val="7030a0"/>
                </a:solidFill>
                <a:latin typeface="Tahoma"/>
              </a:rPr>
              <a:t>: 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ca-caecum obstruct the appendiceal orifice, &amp; cause of AA in middle-aged &amp; elderly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4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ahoma"/>
              </a:rPr>
              <a:t>Intestinal parasites</a:t>
            </a:r>
            <a:r>
              <a:rPr b="1" lang="en-US" sz="2800" spc="-1" strike="noStrike">
                <a:solidFill>
                  <a:srgbClr val="7030a0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Oxyuris vermicularis (pinworm), proliferate in the appendix and occlude the lume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E595-D426-4DA0-8781-0EF2DCD10EB2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55E5-F4FC-4024-8FE8-D0CFF952CC0F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44800"/>
            <a:ext cx="8229600" cy="19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7200" spc="-1" strike="noStrike">
                <a:solidFill>
                  <a:srgbClr val="002060"/>
                </a:solidFill>
                <a:latin typeface="Tahoma"/>
              </a:rPr>
              <a:t>Pathology</a:t>
            </a:r>
            <a:r>
              <a:rPr b="1" lang="en-US" sz="6000" spc="-1" strike="noStrike">
                <a:solidFill>
                  <a:srgbClr val="002060"/>
                </a:solidFill>
                <a:latin typeface="Tahoma"/>
              </a:rPr>
              <a:t>:</a:t>
            </a:r>
            <a:br>
              <a:rPr sz="4800"/>
            </a:b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Obstruction of the lumen is  essential for the development of appendiceal gangrene &amp; perforation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Yet, in many cases of early appendicitis, the appendix lumen is patent despite the presence of mucosal inflammation and lymphoid hyperplasia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ome  suggests an infective agent, possibly viral, which initiates an inflammatory response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sonal variation in the incidence is observed, more cases occurring between May and Augu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AC9C-2D72-4AFE-95DF-A0D96ED8A63E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76320" y="914040"/>
            <a:ext cx="8991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Lymphoid hyperplasia narrows the lumen of the appendix, leading to luminal obstructi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Once obstruction occurs, continued mucus secretion and inflammatory exudation increase intraluminal pressure, obstructing lymphatic drainage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edema and mucosal ulceration develop with bacterial translocation to the submucos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3551-7679-49B8-9710-02CE3BC481A1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0520" y="380520"/>
            <a:ext cx="86108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lution may occur at this point either: spontaneously </a:t>
            </a:r>
            <a:r>
              <a:rPr b="0" lang="en-US" sz="2800" spc="-1" strike="noStrike">
                <a:solidFill>
                  <a:srgbClr val="00b0f0"/>
                </a:solidFill>
                <a:latin typeface="Tahoma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response to antibiotic therap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t If the condition progresses, further distension of the appendix may cause venous obstruction and ischaemia of the appendix wall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With ischaemia, bacterial invasion occurs through the muscularis propria and submucosa, producing AA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BCB3-7E61-4CE6-BBE7-1906DFD550F8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76320" y="2286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inally, ischaemic necrosis of the appendix wall produces gangrenous appendicitis, with free bacterial contamination of the peritoneal cavity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ly, the greater omentum and loops of small bowel become adherent to the inflamed appendix, walling off the spread of peritoneal contamination, &amp; resulting in phlegmonous mass or paracaecal abs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Rarely, appendiceal inflammation resolves, leaving a distended mucus-filled organ termed a ‘</a:t>
            </a:r>
            <a:r>
              <a:rPr b="1" lang="en-US" sz="2800" spc="-1" strike="noStrike">
                <a:solidFill>
                  <a:srgbClr val="2b2bfe"/>
                </a:solidFill>
                <a:latin typeface="Tahoma"/>
              </a:rPr>
              <a:t>mucocoele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’ of the appendix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F321-310C-4EB6-B4FE-D753B11FB43B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73"/>
                </a:solidFill>
                <a:latin typeface="Britannic Bold"/>
              </a:rPr>
              <a:t>Risk factors for perforation of the appendix</a:t>
            </a:r>
            <a:r>
              <a:rPr b="1" lang="en-US" sz="3200" spc="-1" strike="noStrike">
                <a:solidFill>
                  <a:srgbClr val="010173"/>
                </a:solidFill>
                <a:latin typeface="Britannic Bold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80720" y="1066320"/>
            <a:ext cx="57913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xtremes of ag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. 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munosuppressio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 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63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6300"/>
                </a:solidFill>
                <a:latin typeface="Tahoma"/>
              </a:rPr>
              <a:t>Diabetes mellitus</a:t>
            </a:r>
            <a:r>
              <a:rPr b="1" lang="en-US" sz="2800" spc="-1" strike="noStrike">
                <a:solidFill>
                  <a:srgbClr val="006300"/>
                </a:solidFill>
                <a:latin typeface="Tahoma"/>
              </a:rPr>
              <a:t>. 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aecolith obstruction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.      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lvic appendi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 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Previous abdominal surgery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E4F5-4A30-46E1-9ED0-295906085C87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1207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6600" spc="-1" strike="noStrike">
                <a:solidFill>
                  <a:srgbClr val="002060"/>
                </a:solidFill>
                <a:latin typeface="Tahoma"/>
              </a:rPr>
              <a:t>Clinical diagnosis</a:t>
            </a:r>
            <a:r>
              <a:rPr b="1" lang="en-US" sz="6600" spc="-1" strike="noStrike">
                <a:solidFill>
                  <a:srgbClr val="002060"/>
                </a:solidFill>
                <a:latin typeface="Tahoma"/>
              </a:rPr>
              <a:t>:</a:t>
            </a:r>
            <a:br>
              <a:rPr sz="4800"/>
            </a:b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68FF-D3F5-4A29-A000-8F49F24A5C60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060"/>
                </a:solidFill>
                <a:latin typeface="Tahoma"/>
              </a:rPr>
              <a:t>ANATOMY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EFA1-86EB-46D0-9BD9-37631E3312E9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6320" y="228600"/>
            <a:ext cx="89913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 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History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: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Classical features of AA begin with poorly localised colicky abdominal pain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This is due to midgut visceral discomfort in response to appendiceal inflammation and obstruction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ain is first noticed in the periumbilical region &amp;  associated with anorexia, nausea and one or two episodes of vomiting that follow the onset of p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norexia is a useful and constant clinical feature, particularly in childre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336A-6574-4DE6-9B64-761570D6421F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51920" y="151920"/>
            <a:ext cx="89917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patient often gives a history of similar discomfort that settled spontaneously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A family history is also useful as up to one-third of children with appendicitis have a first-degree relative with a similar history</a:t>
            </a: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With progressive inflammation of the appendix, the parietal peritoneum in the RIF becomes irritated, producing intense, constant &amp; localised somatic pain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ients report this as an abdominal pain that has shifted and changed in charac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006a"/>
                </a:solidFill>
                <a:latin typeface="Tahoma"/>
              </a:rPr>
              <a:t>Typically, coughing or sudden movement exacerbates the RIF pain</a:t>
            </a:r>
            <a:r>
              <a:rPr b="0" lang="en-US" sz="2800" spc="-1" strike="noStrike">
                <a:solidFill>
                  <a:srgbClr val="6a006a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F255-9E2B-4FD1-BA07-5BC790DF53B8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73"/>
                </a:solidFill>
                <a:latin typeface="Britannic Bold"/>
              </a:rPr>
              <a:t>So Symptoms of appendicitis are</a:t>
            </a:r>
            <a:r>
              <a:rPr b="1" lang="en-US" sz="3600" spc="-1" strike="noStrike">
                <a:solidFill>
                  <a:srgbClr val="010173"/>
                </a:solidFill>
                <a:latin typeface="Britannic Bold"/>
              </a:rPr>
              <a:t>: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52120" y="1676520"/>
            <a:ext cx="4953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Periumbilical colic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. 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in shifting to the RI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b0f0"/>
                </a:solidFill>
                <a:latin typeface="Tahoma"/>
              </a:rPr>
              <a:t>Anorexia</a:t>
            </a:r>
            <a:r>
              <a:rPr b="1" lang="en-US" sz="2800" spc="-1" strike="noStrike">
                <a:solidFill>
                  <a:srgbClr val="00b0f0"/>
                </a:solidFill>
                <a:latin typeface="Tahoma"/>
              </a:rPr>
              <a:t>.  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Nausea</a:t>
            </a: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FDB5-196B-4913-93F1-0F7BA94440EB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960" y="152280"/>
            <a:ext cx="89154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The classic visceral–somatic sequence of pain is present in only half of those patients with AA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typical presentations include: pain that is predominantly somatic or visceral and poorly localised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ypical pain is more common in the elderly, in whom localisation to the RIF is unusu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An inflamed appendix in the pelvis may never produce somatic pain involving the anterior abdominal wall, but may cause suprapubic discomfort &amp; tenesmus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n this circumstance, tenderness may be elicited only on rectal examinati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E84A-4120-4221-AFD6-638E17823E42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52280" y="22824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During the first 6 hours, there is rarely any alteration in temperature or pulse rat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After that time, slight pyrexia (37.2 − 37.7°C) with a corresponding increase in the pulse rate to 80 or 90 is usual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in 20 % of patients, there is no pyrexia or tachycardia in the early s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 children, a temperature greater than 38.5°C suggests other causes, e.g. mesenteric adeniti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CDA1-A4E6-472E-BFE7-4630A270A839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Two clinical syndromes of acute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appendicitis can be seen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Acute catarrhal</a:t>
            </a: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nonobstructive</a:t>
            </a: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) </a:t>
            </a: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appendicitis</a:t>
            </a: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Acute obstructive appendicitis</a:t>
            </a:r>
            <a:r>
              <a:rPr b="1" lang="en-US" sz="2800" spc="-1" strike="noStrike">
                <a:solidFill>
                  <a:srgbClr val="010173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1544-0CB2-44F9-A166-F629D63B29B3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igns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Diagnosis of AA depend on thorough abdominal examination more than history or lab.investigation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Tahoma"/>
              </a:rPr>
              <a:t>Clinical signs in appendicitis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unwell patient with low-grade pyrexia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ised tenderness in the RI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uscle guarding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                               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Rebound tenderness</a:t>
            </a: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D238-DF07-49E1-B810-85641925C3A3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Inspection: limitation of respiratory movement in the lower abdomen</a:t>
            </a: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uperficial palpation: muscle guarding over the point of maximum tenderness, classically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cBurney'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point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Asking patient to cough or percussion over the site of maximum tenderness will elicit rebound tenderness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F29B-1F4C-49F3-A721-C84893FFECE5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839080" cy="27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2b002b"/>
                </a:solidFill>
                <a:latin typeface="Tahoma"/>
              </a:rPr>
              <a:t>Signs to elicit in appendiciti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C32A-6C16-4775-B640-22E30DD608B7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1</a:t>
            </a: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Pointing sign</a:t>
            </a: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patient is asked to point to where the pain began and where it move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Rovsing's sign</a:t>
            </a: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Deep palpation of LIF may cause pain in RIF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9216-AAE9-452C-9C77-9C300958426B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It is a blind muscular tube with: 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mucosal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submucosal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muscular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 &amp;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serosal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 layers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At birth</a:t>
            </a:r>
            <a:r>
              <a:rPr b="1" lang="en-US" sz="2800" spc="-1" strike="noStrike">
                <a:solidFill>
                  <a:srgbClr val="005a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the appendix is short &amp; broad at its junction with the caecum, but growth of the caecum produces the typical tubular structure by the age of two years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During childhood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growth of the caecum rotates the appendix into a retrocaecal but intraperitoneal positi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C9FA-C14D-4B3F-96D5-D827B21ACC40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a006a"/>
                </a:solidFill>
                <a:uFillTx/>
                <a:latin typeface="Tahoma"/>
              </a:rPr>
              <a:t>3</a:t>
            </a:r>
            <a:r>
              <a:rPr b="1" lang="en-US" sz="3200" spc="-1" strike="noStrike" u="sng">
                <a:solidFill>
                  <a:srgbClr val="6a006a"/>
                </a:solidFill>
                <a:uFillTx/>
                <a:latin typeface="Tahoma"/>
              </a:rPr>
              <a:t>- </a:t>
            </a:r>
            <a:r>
              <a:rPr b="1" lang="en-US" sz="3200" spc="-1" strike="noStrike" u="sng">
                <a:solidFill>
                  <a:srgbClr val="6a006a"/>
                </a:solidFill>
                <a:uFillTx/>
                <a:latin typeface="Tahoma"/>
              </a:rPr>
              <a:t>Psoas sign</a:t>
            </a:r>
            <a:r>
              <a:rPr b="1" lang="en-US" sz="3200" spc="-1" strike="noStrike" u="sng">
                <a:solidFill>
                  <a:srgbClr val="6a006a"/>
                </a:solidFill>
                <a:uFillTx/>
                <a:latin typeface="Tahoma"/>
              </a:rPr>
              <a:t>: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6AC7-DEFA-497B-AEBB-FE8087046A43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70" name="Picture 2" descr="C:\Users\DR-ABDULRAZZAK\Desktop\appendicitis pictures\tumblr_loam84e5871qazhve.jpg"/>
          <p:cNvPicPr/>
          <p:nvPr/>
        </p:nvPicPr>
        <p:blipFill>
          <a:blip r:embed="rId1"/>
          <a:stretch/>
        </p:blipFill>
        <p:spPr>
          <a:xfrm>
            <a:off x="1219320" y="1111320"/>
            <a:ext cx="6298920" cy="559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51920" y="22824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4</a:t>
            </a: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Obturator sign</a:t>
            </a:r>
            <a:r>
              <a:rPr b="1" lang="en-US" sz="2800" spc="-1" strike="noStrike" u="sng">
                <a:solidFill>
                  <a:srgbClr val="6a006a"/>
                </a:solidFill>
                <a:uFillTx/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hip is flexed and internally rotate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f an inflamed appendix is in contact with the obturator internus, this cause pain in the hypogastrium (the obturator test; Zachary Cope)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D66C-629F-406D-BC13-19F982B71E7A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73" name="Picture 2" descr="C:\Users\DR-ABDULRAZZAK\Desktop\appendicitis pictures\afp19991101p2027-f2a.jpg"/>
          <p:cNvPicPr/>
          <p:nvPr/>
        </p:nvPicPr>
        <p:blipFill>
          <a:blip r:embed="rId1"/>
          <a:stretch/>
        </p:blipFill>
        <p:spPr>
          <a:xfrm>
            <a:off x="2209680" y="2895480"/>
            <a:ext cx="469908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1600200"/>
            <a:ext cx="8686800" cy="29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b002b"/>
                </a:solidFill>
                <a:latin typeface="Tahoma"/>
              </a:rPr>
              <a:t>Special features, according to </a:t>
            </a: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position</a:t>
            </a:r>
            <a:r>
              <a:rPr b="1" lang="en-US" sz="4800" spc="-1" strike="noStrike">
                <a:solidFill>
                  <a:srgbClr val="2b002b"/>
                </a:solidFill>
                <a:latin typeface="Tahoma"/>
              </a:rPr>
              <a:t> of the appendix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B63D-77EC-48E6-B924-6E38A490A371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Tahoma"/>
              </a:rPr>
              <a:t>Retrocaecal</a:t>
            </a:r>
            <a:r>
              <a:rPr b="1" lang="en-US" sz="4000" spc="-1" strike="noStrike">
                <a:solidFill>
                  <a:srgbClr val="002060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28600" y="9903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igidity is often absent, and even deep pressure may fail to elicit tenderness 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ilent appendix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), this is because of the caecum is distended with gas &amp; prevents the pressure exerted by the hand from reaching the inflamed appendix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However, deep tenderness is often present in the loin, and rigidity of the quadratus lumborum may be in evidence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Psoas spasm, due to the inflamed appendix being in contact with it &amp; may cause flexion of the hip joint. Hyperextension of the hip joint may induce abdominal pain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624A-8793-4AF3-BDDF-FCCD0C2D9868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Pelvic</a:t>
            </a: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ccasionally, early diarrhoea results from an inflamed appendix being in contact with the rectum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When the appendix lies entirely within the pelvis, there is usually complete absence of abdominal rigidity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rectal examination reveals tenderness in the rectovesical pouch or the pouch of Douglas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sm of the psoas and obturator internus muscles may be pres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n inflamed appendix in contact with the bladder may cause frequency of micturitio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29040" indent="-32904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90E0-F5F5-44DC-BFF1-CEB4838E4477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Postileal</a:t>
            </a: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inflamed appendix lies behind the terminal ileum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It presents the greatest difficulty in diagnosis because the pain may not shift, diarrhoea is a feature and marked retching may occur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Tenderness is ill defined, although it may be present immediately to the right of the umbilicus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0330-04DC-4F71-B9E5-42DC5AAAC9ED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1510920"/>
            <a:ext cx="8610480" cy="28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b002b"/>
                </a:solidFill>
                <a:latin typeface="Tahoma"/>
              </a:rPr>
              <a:t>Special features, according to 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ag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1DE8-8B16-48BA-BE93-91FB78ABFAA5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ahoma"/>
              </a:rPr>
              <a:t>Infants</a:t>
            </a:r>
            <a:r>
              <a:rPr b="1" lang="en-US" sz="3600" spc="-1" strike="noStrike">
                <a:solidFill>
                  <a:srgbClr val="002060"/>
                </a:solidFill>
                <a:latin typeface="Tahoma"/>
              </a:rPr>
              <a:t>: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14c"/>
                </a:solidFill>
                <a:latin typeface="Tahoma"/>
              </a:rPr>
              <a:t>Appendicitis is relatively rare in infants under 36 months of age and, diagnosis is often delayed</a:t>
            </a:r>
            <a:r>
              <a:rPr b="0" lang="en-US" sz="2800" spc="-1" strike="noStrike">
                <a:solidFill>
                  <a:srgbClr val="ff214c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thus the incidence of perforation &amp; postop morbidity is considerably higher than in older children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Diffuse peritonitis can develop rapidly because of the underdeveloped greater omentum, which is unable in localising the infection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BA81-5745-4FD2-8464-5CA438C81C66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Children</a:t>
            </a: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t is rare to find a child with appendicitis who has no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vomite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Children with appendicitis usually have complete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aversion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 to food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D661-2D5A-48F3-A2AA-18A9DB7AAB66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The elderly</a:t>
            </a: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Gangrene &amp; perforation occur much more frequently in elderly patient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Elderly patients with lax abdominal walls or obesity may harbour a gangrenous appendix with little evidence of it, and the clinical picture may simulate subacute intestinal obstruction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These features &amp; with coincident medical conditions, produce a higher mortality for AA in the elderly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D545-EB69-491F-910F-A1D8A079C42D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28600" y="12189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n 25% of cases, rotation of the appendix does not occur, resulting i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pelvic, subcaecal or paracaecal positi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Occasionally, the tip of the appendix becomes extraperitoneal, lying behind the caecum or ascending colon</a:t>
            </a:r>
            <a:r>
              <a:rPr b="0" lang="en-US" sz="2800" spc="-1" strike="noStrike">
                <a:solidFill>
                  <a:srgbClr val="005a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590C-AA04-43B4-B0BC-55EED76D8328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The obese</a:t>
            </a: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: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14c"/>
                </a:solidFill>
                <a:latin typeface="Tahoma"/>
              </a:rPr>
              <a:t>Obesity obscure &amp; diminish all the local signs of AA</a:t>
            </a:r>
            <a:r>
              <a:rPr b="0" lang="en-US" sz="2800" spc="-1" strike="noStrike">
                <a:solidFill>
                  <a:srgbClr val="ff214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Delay in diagnosis &amp;  with the technical difficulty of operating in the obese, it better to operate through a midline abdominal incision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Laparoscopy is particularly useful in the obese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14D1-2BBA-4234-A9C6-DFB4F17422FA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Pregnancy</a:t>
            </a: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Appendicitis is the most common extrauterine acute abdominal condition in pregnancy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Diagnosis is complicated by delay in presentation as early non-specific symptoms are often attributed to the pregnancy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caecum and appendix are progressively pushed to the right upper quadrant as pregnancy develops during the 2</a:t>
            </a:r>
            <a:r>
              <a:rPr b="0" lang="en-US" sz="2800" spc="-1" strike="noStrike" baseline="30000">
                <a:solidFill>
                  <a:srgbClr val="a50021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&amp; 3</a:t>
            </a:r>
            <a:r>
              <a:rPr b="0" lang="en-US" sz="2800" spc="-1" strike="noStrike" baseline="30000">
                <a:solidFill>
                  <a:srgbClr val="a50021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 trimester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8A8C-5DEE-4FD0-A729-E94578585EAA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1828800"/>
            <a:ext cx="8458200" cy="359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060"/>
                </a:solidFill>
                <a:latin typeface="Tahoma"/>
              </a:rPr>
              <a:t>Differential diagnosis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A2EB-0E34-43DF-823B-5FBBAE5E961F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Children</a:t>
            </a: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600" y="6091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Acute gastroenteritis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Mesenteric lymphadenitis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pain is colicky in nature and cervical lymph nodes may be enlarge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Meckel's diverticulitis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t may be impossible to clinically distinguish it from AA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Intussusceptions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Appendicitis is uncommon before the age of two years, whereas the median age for intussusception is 18 month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4662-4867-40C9-9A71-5ABF52196C50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52280" y="3045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5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Henoch–Schönlein purpura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re is an ecchymotic rash, typically affecting the extensor surfaces of the limbs &amp; on the buttock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Lobar pneumonia and pleurisy: 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especially at the right bas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Abdominal tenderness is minimal, pyrexia is marked, &amp; chest exam is important  &amp; CXR is diagnostic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7EA4-CD39-4FED-8780-343062A47CEF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dults</a:t>
            </a: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632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Terminal ileitis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history of abdominal cramping, weight loss &amp; diarrhoea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suggests regional ileitis rather than appendiciti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Perforated peptic ulcer: 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duodenal contents pass along the paracolic gutter to the RIF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history of dyspepsia &amp; a very sudden onset of pain in the epigastrium &amp; passes to RIF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Erect CXR show gas under the diaphragm in 70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%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8E40-AB4F-466A-B109-744C24F72568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04920" y="609120"/>
            <a:ext cx="853416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Ureteric colic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 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Character &amp; radiation of pain differs from AA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Urinalysis &amp; US or IVU is diagnostic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Right-sided acute pyelonephritis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enderness in the loin, fever (temperature 39°C) &amp; possibly rigors and pyuria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5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Testicular torsion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n a teenage or young adult.  Pain can be referred to the RIF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61D0-2ABD-43E8-89CF-5D920E1A23AE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0" y="1522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C571-BB4A-4B2B-ACDF-9268C9844930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228600" y="7621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Acute pancreatitis: 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serum or urinary amylase level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7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Rectus sheath haematoma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s rare but easily missed D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often after an episode of strenuous physical exercis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Localised pain without GIT upset is the rul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EB46-85F3-4C3B-8E87-9C9A8DA2C34F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Adult female</a:t>
            </a: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28600" y="9903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In women of childbearing age the pelvic disease most often mimics AA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A careful gynaecological history should be taken in all women with suspected AA, concentrating 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</a:rPr>
              <a:t>menstrual cycl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</a:rPr>
              <a:t>vaginal discharge</a:t>
            </a: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</a:rPr>
              <a:t>possible pregnancy</a:t>
            </a: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3D6C-1507-45A6-B3B3-FE5EBA719BAF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600"/>
                </a:solidFill>
                <a:latin typeface="Tahoma"/>
              </a:rPr>
              <a:t>The various positions of the appendix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عنصر نائب لرقم الشريحة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A16A-EB14-4A15-81E2-49CF24EDDBCC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678720" cy="43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51920" y="4568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Mittelschmerz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Midcycle rupture of a follicular cyst with bleeding produces lower abdominal &amp; pelvic pain, typically midcycl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Systemic upset is rare, a pregnancy test is negative, and symptoms usually subside within hour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Occasionally, diagnostic laparoscopy is required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DC29-8C52-4062-B4B5-2A69706C059F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75960" y="152280"/>
            <a:ext cx="89154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Pelvic inflammatory disease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PID is a spectrum of diseases that include|: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salpingiti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endometriti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&amp;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tubo-ovarian sepsi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Incidence of these conditions is increasing &amp; diagnosis should be considered in every young adult female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ypically, the pain is lower than in AA &amp; is bilateral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A history of vaginal discharge, dysmenorrhoea and burning pain on micturition is a helpful DD point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341F-C37E-4A26-8678-60F7156B1572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28600" y="9144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physical findings include adnexal and cervical tenderness on vaginal examinati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Transvaginal ultrasound can be particularly helpful in establishing the diagnosis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Sometimes, diagnostic laparoscopy is indicate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5AE8-5942-427D-9793-B504D526A663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0880" y="-360"/>
            <a:ext cx="87631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Ectopic pregnancy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Either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: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ff38"/>
                </a:solidFill>
                <a:latin typeface="Tahoma"/>
              </a:rPr>
              <a:t>ruptured ectopic pregnancy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(haemoperitoneum)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ff38"/>
                </a:solidFill>
                <a:latin typeface="Tahoma"/>
              </a:rPr>
              <a:t>right-sided tubal abortion</a:t>
            </a:r>
            <a:r>
              <a:rPr b="0" lang="en-US" sz="2800" spc="-1" strike="noStrike">
                <a:solidFill>
                  <a:srgbClr val="38ff38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ff38"/>
                </a:solidFill>
                <a:latin typeface="Tahoma"/>
              </a:rPr>
              <a:t>right-sided unruptured tubal pregnancy</a:t>
            </a:r>
            <a:r>
              <a:rPr b="0" lang="en-US" sz="2800" spc="-1" strike="noStrike">
                <a:solidFill>
                  <a:srgbClr val="38ff38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re is  history of a missed menstrual period, &amp;  pregnancy test may be positiv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Severe pain is felt when the cervix is moved on vaginal examination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Signs of intraperitoneal bleeding usually become apparent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Pelvic ultrasonography should be carrie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AC3D-BAD8-4E02-9A51-86CDC1C48230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04920" y="12952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Torsion/haemorrhage/rupture of an ovarian cyst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When suspected, pelvic ultrasound and a gynaecological opinion should be sought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5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Endometriosis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Right-sided acute pyelonephritis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524B-6A5C-497A-B60B-B7F28CDBC899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Elderly</a:t>
            </a: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Diverticulitis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with a long sigmoid loop, the colon lies to the right of the midline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Abdominal CT &amp; some time laparoscopy or exploratory laparotomy is indicated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Intestinal obstruction: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diagnosis of intestinal obstruction is usually clear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EAD5-AC86-4C55-BA9A-05AB7E8AC2A3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04560" y="22824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Carcinoma of the caecum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may mimic or cause obstructive appendicitis in adults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Torsion appendix epiploicae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5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Mesenteric infarction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.    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Leaking aortic aneurysm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7F23-A9BA-48D4-B276-79CC1F129925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0520" y="380520"/>
            <a:ext cx="84582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Tahoma"/>
              </a:rPr>
              <a:t>Rarely,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 the caecum does not migrate during development to the right lower quadrant, in these circumstances, the appendix can be found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Near the gall bladder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In case of intestinal malrotation, in the LIF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causing diagnostic difficulty if appendicitis develops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7" name="عنصر نائب لرقم الشريحة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A5B0-0753-4130-9372-4533F1359930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A6F4-1F29-4AC3-8FCD-F1C7AEF30252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9" name="Picture 2" descr="C:\Users\DR-ABDULRAZZAK\Desktop\appendicitis pictures\x3J6j-6yGmbBv-LBHc6ndA_m.jpg"/>
          <p:cNvPicPr/>
          <p:nvPr/>
        </p:nvPicPr>
        <p:blipFill>
          <a:blip r:embed="rId1"/>
          <a:stretch/>
        </p:blipFill>
        <p:spPr>
          <a:xfrm>
            <a:off x="2590920" y="1760400"/>
            <a:ext cx="4038480" cy="44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280" y="609480"/>
            <a:ext cx="8839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The position of the base of the appendix is constant: found at the confluence of the three taeniae coli which fuse to form the outer longitudinal muscle coat of the appendix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  <a:p>
            <a:pPr marL="298440" indent="-2984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EDEC-6924-4781-843D-F5AF0F840689}" type="slidenum">
              <a:rPr b="0" lang="ar-SA" sz="14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02" name="Picture 6" descr="C:\Users\DR-ABDULRAZZAK\Desktop\appendicitis pictures\gambar 6.png"/>
          <p:cNvPicPr/>
          <p:nvPr/>
        </p:nvPicPr>
        <p:blipFill>
          <a:blip r:embed="rId1"/>
          <a:srcRect l="3787" t="22847" r="5335" b="24156"/>
          <a:stretch/>
        </p:blipFill>
        <p:spPr>
          <a:xfrm>
            <a:off x="4903920" y="2743200"/>
            <a:ext cx="4011480" cy="3124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3" name="Picture 8" descr="C:\Users\DR-ABDULRAZZAK\Desktop\appendicitis pictures\vermiform_appendix.jpg"/>
          <p:cNvPicPr/>
          <p:nvPr/>
        </p:nvPicPr>
        <p:blipFill>
          <a:blip r:embed="rId2"/>
          <a:stretch/>
        </p:blipFill>
        <p:spPr>
          <a:xfrm>
            <a:off x="304920" y="2762280"/>
            <a:ext cx="3827520" cy="310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-ABDULRAZZAK</cp:lastModifiedBy>
  <dcterms:modified xsi:type="dcterms:W3CDTF">2013-12-27T16:32:36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