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CD3-E129-4227-82A1-8555E99F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9DD-9528-4936-B52B-B8A0A929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C09-B634-4636-A7A7-57B43EB3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0E8-68C2-482E-8B68-C08B7ADA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2B4A-0AD5-41AD-B754-56ACA740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7C5D-6E61-49A9-94CA-F2DB0656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5E87-42B1-4BD7-9818-EB96929B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C945-BEB9-4646-B0FC-6638A5B9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DCDC-AB17-4603-BAEE-AA47613B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427F-E15A-48FC-A212-B01B424F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047D-733F-4303-8C46-DC8958AD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38F-F590-4F42-8C4C-D71F03BB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0848-DD60-4DB9-B380-C52986E5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96F3-1040-4BB6-911C-759A0489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A548-18B9-451B-A3A7-B4B77411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F3E8-EF7A-4AF5-B3D3-9A3C3B11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15E6-7EFA-4C40-ACA2-61974495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A8D-9992-4324-B00D-029AC966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358-9418-485B-8CA4-B235F86C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38D-DD19-4408-862C-C1EC2862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0514-7833-4957-94A4-D2A80615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64E-408C-4743-9321-32E0C1C7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684-36FF-4525-BF8E-20AAA9AB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F43-B31C-45E2-8A24-A3EAF966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1F0E-35A2-404B-B130-DDA9262888C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F88C-6B37-414D-9D23-8413D639A74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330033"/>
                </a:solidFill>
                <a:latin typeface="Times New Roman"/>
              </a:rPr>
              <a:t>حسابات هارتري- فوك لدراسة تأثير الضغط في خواص بلورة نتريد البورون</a:t>
            </a:r>
            <a:r>
              <a:rPr b="0" lang="ar-IQ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800" spc="-1" strike="noStrike">
                <a:solidFill>
                  <a:srgbClr val="000000"/>
                </a:solidFill>
                <a:latin typeface="Arial"/>
              </a:rPr>
              <a:t>أحمد محمود عبد اللطيف         مضر أحمد عبد الستار          زين العابدين يوسف</a:t>
            </a: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IQ" sz="1800" spc="-1" strike="noStrike">
                <a:solidFill>
                  <a:srgbClr val="000000"/>
                </a:solidFill>
                <a:latin typeface="Arial"/>
              </a:rPr>
              <a:t>مجبل         كلية العلوم / جامعة كربلاء        وزارة العلوم والتكنلوجيا          كلية العلوم / جامعة باب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 rot="21421800">
            <a:off x="4021200" y="324468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200" spc="-1" strike="noStrike">
                <a:solidFill>
                  <a:srgbClr val="330033"/>
                </a:solidFill>
                <a:latin typeface="Times New Roman"/>
              </a:rPr>
              <a:t>تأثير الضغط في الحجم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1447920" y="1752480"/>
            <a:ext cx="6553080" cy="4267080"/>
            <a:chOff x="1447920" y="1752480"/>
            <a:chExt cx="6553080" cy="4267080"/>
          </a:xfrm>
        </p:grpSpPr>
        <p:sp>
          <p:nvSpPr>
            <p:cNvPr id="168" name="Text Box 5"/>
            <p:cNvSpPr/>
            <p:nvPr/>
          </p:nvSpPr>
          <p:spPr>
            <a:xfrm>
              <a:off x="3807000" y="5506200"/>
              <a:ext cx="176688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ضغط (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Pa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1447920" y="1752480"/>
              <a:ext cx="6553080" cy="3845160"/>
              <a:chOff x="1447920" y="1752480"/>
              <a:chExt cx="6553080" cy="3845160"/>
            </a:xfrm>
          </p:grpSpPr>
          <p:sp>
            <p:nvSpPr>
              <p:cNvPr id="170" name="Text Box 7"/>
              <p:cNvSpPr/>
              <p:nvPr/>
            </p:nvSpPr>
            <p:spPr>
              <a:xfrm>
                <a:off x="1591560" y="3288240"/>
                <a:ext cx="562680" cy="80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000" spc="-1" strike="noStrike">
                    <a:solidFill>
                      <a:srgbClr val="000000"/>
                    </a:solidFill>
                    <a:latin typeface="Times New Roman"/>
                    <a:cs typeface="Times New Roman"/>
                  </a:rPr>
                  <a:t>الحجم (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Å</a:t>
                </a:r>
                <a:r>
                  <a:rPr b="1" lang="en-US" sz="10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1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752480"/>
                <a:ext cx="6553080" cy="3845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200" spc="-1" strike="noStrike">
                <a:solidFill>
                  <a:srgbClr val="330033"/>
                </a:solidFill>
                <a:latin typeface="Times New Roman"/>
              </a:rPr>
              <a:t>تأثير الضغط في معامل المرونة الحجمي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447920" y="1752480"/>
            <a:ext cx="7238520" cy="4114440"/>
            <a:chOff x="1447920" y="1752480"/>
            <a:chExt cx="7238520" cy="4114440"/>
          </a:xfrm>
        </p:grpSpPr>
        <p:sp>
          <p:nvSpPr>
            <p:cNvPr id="175" name="Text Box 5"/>
            <p:cNvSpPr/>
            <p:nvPr/>
          </p:nvSpPr>
          <p:spPr>
            <a:xfrm>
              <a:off x="3881520" y="5406480"/>
              <a:ext cx="15130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ضغط (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Pa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1447920" y="2250720"/>
              <a:ext cx="352440" cy="22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عامل المرونة الحجمي (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Pa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Picture 7" descr=""/>
            <p:cNvPicPr/>
            <p:nvPr/>
          </p:nvPicPr>
          <p:blipFill>
            <a:blip r:embed="rId1"/>
            <a:stretch/>
          </p:blipFill>
          <p:spPr>
            <a:xfrm>
              <a:off x="2009160" y="1752480"/>
              <a:ext cx="6677280" cy="3634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200" spc="-1" strike="noStrike">
                <a:solidFill>
                  <a:srgbClr val="330033"/>
                </a:solidFill>
                <a:latin typeface="Times New Roman"/>
              </a:rPr>
              <a:t>تأثير الضغط في توزيع شحنة التكافؤ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0959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200" spc="-1" strike="noStrike">
                <a:solidFill>
                  <a:srgbClr val="330033"/>
                </a:solidFill>
                <a:latin typeface="Times New Roman"/>
              </a:rPr>
              <a:t>تأثير الضغط في طاقة التراب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1523880" y="1752480"/>
            <a:ext cx="6477120" cy="4343040"/>
            <a:chOff x="1523880" y="1752480"/>
            <a:chExt cx="6477120" cy="4343040"/>
          </a:xfrm>
        </p:grpSpPr>
        <p:pic>
          <p:nvPicPr>
            <p:cNvPr id="185" name="Picture 5" descr=""/>
            <p:cNvPicPr/>
            <p:nvPr/>
          </p:nvPicPr>
          <p:blipFill>
            <a:blip r:embed="rId1"/>
            <a:stretch/>
          </p:blipFill>
          <p:spPr>
            <a:xfrm>
              <a:off x="1523880" y="2142720"/>
              <a:ext cx="647712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6"/>
            <p:cNvSpPr/>
            <p:nvPr/>
          </p:nvSpPr>
          <p:spPr>
            <a:xfrm>
              <a:off x="3879000" y="1752480"/>
              <a:ext cx="13737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ضغط (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Pa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1714680" y="3163680"/>
              <a:ext cx="369360" cy="15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طاقة الربط (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V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200" spc="-1" strike="noStrike">
                <a:solidFill>
                  <a:srgbClr val="330033"/>
                </a:solidFill>
                <a:latin typeface="Times New Roman"/>
              </a:rPr>
              <a:t>تأثير الضغط في عرض حزمة التكافؤ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1752480" y="1828800"/>
            <a:ext cx="5943600" cy="3962520"/>
            <a:chOff x="1752480" y="1828800"/>
            <a:chExt cx="5943600" cy="3962520"/>
          </a:xfrm>
        </p:grpSpPr>
        <p:pic>
          <p:nvPicPr>
            <p:cNvPr id="191" name="Picture 5" descr=""/>
            <p:cNvPicPr/>
            <p:nvPr/>
          </p:nvPicPr>
          <p:blipFill>
            <a:blip r:embed="rId1"/>
            <a:stretch/>
          </p:blipFill>
          <p:spPr>
            <a:xfrm>
              <a:off x="1752480" y="1828800"/>
              <a:ext cx="5943600" cy="34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6"/>
            <p:cNvSpPr/>
            <p:nvPr/>
          </p:nvSpPr>
          <p:spPr>
            <a:xfrm>
              <a:off x="4025160" y="5456160"/>
              <a:ext cx="1966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ضغط (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Pa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2101680" y="2270160"/>
              <a:ext cx="329040" cy="21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عرض حزمة التكافؤ </a:t>
              </a:r>
              <a:r>
                <a:rPr b="1" lang="ar-SA" sz="1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V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200" spc="-1" strike="noStrike">
                <a:solidFill>
                  <a:srgbClr val="330033"/>
                </a:solidFill>
                <a:latin typeface="Times New Roman"/>
                <a:cs typeface="Arabic Transparent"/>
              </a:rPr>
              <a:t>تغير عرض حزمة التوصيل مع الضغ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1219320" y="1752480"/>
            <a:ext cx="7010280" cy="4267080"/>
            <a:chOff x="1219320" y="1752480"/>
            <a:chExt cx="7010280" cy="4267080"/>
          </a:xfrm>
        </p:grpSpPr>
        <p:pic>
          <p:nvPicPr>
            <p:cNvPr id="197" name="Picture 5" descr=""/>
            <p:cNvPicPr/>
            <p:nvPr/>
          </p:nvPicPr>
          <p:blipFill>
            <a:blip r:embed="rId1"/>
            <a:stretch/>
          </p:blipFill>
          <p:spPr>
            <a:xfrm>
              <a:off x="1219320" y="1752480"/>
              <a:ext cx="7010280" cy="38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6"/>
            <p:cNvSpPr/>
            <p:nvPr/>
          </p:nvSpPr>
          <p:spPr>
            <a:xfrm>
              <a:off x="3492360" y="5480280"/>
              <a:ext cx="217872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ضغط (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Pa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1529280" y="2418480"/>
              <a:ext cx="584640" cy="23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9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عرض حزمة التوصيل (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V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600" spc="-1" strike="noStrike">
                <a:solidFill>
                  <a:srgbClr val="330033"/>
                </a:solidFill>
                <a:latin typeface="Times New Roman"/>
              </a:rPr>
              <a:t>تغير عرض فجوة الطاقة غير المباشرة مع الضغط</a:t>
            </a:r>
            <a:r>
              <a:rPr b="0" lang="ar-IQ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1600200" y="1828800"/>
            <a:ext cx="6477120" cy="3962160"/>
            <a:chOff x="1600200" y="1828800"/>
            <a:chExt cx="6477120" cy="3962160"/>
          </a:xfrm>
        </p:grpSpPr>
        <p:pic>
          <p:nvPicPr>
            <p:cNvPr id="203" name="Picture 5" descr=""/>
            <p:cNvPicPr/>
            <p:nvPr/>
          </p:nvPicPr>
          <p:blipFill>
            <a:blip r:embed="rId1"/>
            <a:stretch/>
          </p:blipFill>
          <p:spPr>
            <a:xfrm>
              <a:off x="1600200" y="1828800"/>
              <a:ext cx="6477120" cy="36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6"/>
            <p:cNvSpPr/>
            <p:nvPr/>
          </p:nvSpPr>
          <p:spPr>
            <a:xfrm>
              <a:off x="3886200" y="5470200"/>
              <a:ext cx="1714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ضغط </a:t>
              </a:r>
              <a:r>
                <a:rPr b="1" lang="ar-SA" sz="1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Pa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7"/>
            <p:cNvSpPr/>
            <p:nvPr/>
          </p:nvSpPr>
          <p:spPr>
            <a:xfrm>
              <a:off x="1790280" y="2175480"/>
              <a:ext cx="358560" cy="27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عرض فجوة الطاقة غير المباشرة (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V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200" spc="-1" strike="noStrike">
                <a:solidFill>
                  <a:srgbClr val="330033"/>
                </a:solidFill>
                <a:latin typeface="Times New Roman"/>
              </a:rPr>
              <a:t>تغير عرض فجوة الطاقة المباشرة مع الضغ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1523880" y="1828800"/>
            <a:ext cx="6477120" cy="3962160"/>
            <a:chOff x="1523880" y="1828800"/>
            <a:chExt cx="6477120" cy="3962160"/>
          </a:xfrm>
        </p:grpSpPr>
        <p:pic>
          <p:nvPicPr>
            <p:cNvPr id="209" name="Picture 5" descr=""/>
            <p:cNvPicPr/>
            <p:nvPr/>
          </p:nvPicPr>
          <p:blipFill>
            <a:blip r:embed="rId1"/>
            <a:stretch/>
          </p:blipFill>
          <p:spPr>
            <a:xfrm>
              <a:off x="1523880" y="1828800"/>
              <a:ext cx="6477120" cy="37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6"/>
            <p:cNvSpPr/>
            <p:nvPr/>
          </p:nvSpPr>
          <p:spPr>
            <a:xfrm>
              <a:off x="3457440" y="5456520"/>
              <a:ext cx="248472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ضغط (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Pa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1770120" y="2019960"/>
              <a:ext cx="384120" cy="30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عرض فجوة الطاقة المباشرة </a:t>
              </a:r>
              <a:r>
                <a:rPr b="1" lang="ar-SA" sz="1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V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200" spc="-1" strike="noStrike">
                <a:solidFill>
                  <a:srgbClr val="330033"/>
                </a:solidFill>
                <a:latin typeface="Times New Roman"/>
              </a:rPr>
              <a:t>الاستنتاجات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 rtl="1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يمكن اعتبار طريقة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DO-LUC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 ) طريقة جيدة الى حد ما، حيث كانت أغلب النتائج ذات توافق جيد مع القيم التجريب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عدم إدخال تصحيحات الترابط في الحسابات أثر بصورة مباشرة على نتائج فجوتي الطاقة و بصورة غير مباشرة على توزيع الشحنة و انتقال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إن بلورة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B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 ) تتعرض الى إنهيار بلوري عند تعرضها لإجهاد سحب يتجاوز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a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إن زيادة إجهاد الكبس تؤدي الى زيادة كل من طاقة الربط، و عرض حزمة التكافؤ، و عرض حزمة التوصيل، و فجوة الطاقة المباشرة، و فجوة الطاقة غير المباشرة، و معامل المرونة الحجمي، و كثافة الشحنة عند الذرات و كذلك ضمن المسافة البينية، في حين تؤدي الى نقصان في الحج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إن زيادة إجهاد السحب تؤدي الى زيادة كل من الحجم، و طاقة الربط،، في حين تؤدي الى نقصان في كل من  كثافة الشحنة ضمن المسافة البينية، و معامل المرونة الحجمي، و عرض حزمة التكافؤ، و عرض حزمة التوصيل، و فجوة الطاقة المباشرة، و فجوة الطاقة غير المباش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إجهاد السحب يجعل مادة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BN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 ) أكثر توصي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200" spc="-1" strike="noStrike">
                <a:solidFill>
                  <a:srgbClr val="330033"/>
                </a:solidFill>
                <a:latin typeface="Times New Roman"/>
              </a:rPr>
              <a:t>المقدمة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إن التركيب المتشابه بين الماس و نتريد البورون الماسي يمكن أن يوضح الخواص المتقدمة لهذه المادة [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]، إذ تمتلك مادة نتريد البورون الماسي توصيلية حرارية عالية [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] تبلغ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/cm oC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 ) ، و إستقرارية حرارية عالية، بينما الفعالية الكيميائية واطئة [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]، و الكثافة واطئة، و فجوة الطاقة واسعة، و المقاومية الكهربائية عالية [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]، و الصلابة عالية جداً [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] إذ تعتبر ثاني أصلب مادة بعد الماس، و ثابت العزل الكهربائي قليل [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]، وهذه المادة لا تتفاعل مع الحديد الفولا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، و هي شفافة للأشعة فوق البنفسجية القريبة و الأشعة تحت الحمراء. إن هذه الصفات جعلت لها مكانة مميزة في عالم الصناعة، إذ تستثمر في طلاء البصريات التي تستعمل الأشعة تحت الحمراء و الأشعة فوق البنفسجية، و في تدريع المواد ذات الاستعمال الثقيل [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]، و كذلك في أدوات القطع و الطحن [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]، كما و تستعمل في التكنولوجيات التي تعمل عند درجات حرارة عا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8800" spc="-1" strike="noStrike">
                <a:solidFill>
                  <a:srgbClr val="000000"/>
                </a:solidFill>
                <a:latin typeface="Arial"/>
                <a:cs typeface="DecoType Naskh Variants"/>
              </a:rPr>
              <a:t>و شكر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IQ" sz="9500" spc="-1" strike="noStrike">
                <a:solidFill>
                  <a:srgbClr val="000000"/>
                </a:solidFill>
                <a:latin typeface="Arial"/>
                <a:cs typeface="Andalus"/>
              </a:rPr>
              <a:t>لحسن اصغائكم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800" spc="-1" strike="noStrike">
                <a:solidFill>
                  <a:srgbClr val="000000"/>
                </a:solidFill>
                <a:latin typeface="Arial"/>
              </a:rPr>
              <a:t>أن مميزات هذه المادة جعلتها ذات اهمية متنامية في الصناعة والتكنلوجبا المتقدمة وفي بؤرة الاهتمام للعديد من البحوث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ar-IQ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IQ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IQ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ar-IQ" sz="2800" spc="-1" strike="noStrike">
                <a:solidFill>
                  <a:srgbClr val="000000"/>
                </a:solidFill>
                <a:latin typeface="Arial"/>
              </a:rPr>
              <a:t> التي ركزت بشكل كبير على دراسة التركيب الالكتروني أو صفات فيزيائية محددة، إما بالظروف الاعتيادية أو تحت تأثير الضغط. يهدف البحث الحالي إلى حساب الطاقة الكلية و الحجم و معامل المرونة الحجمي و حالة التهجين للمدارات التكافؤية و شحنة التكافؤ و طاقة الربط و عرض حزمتي التكافؤ و التوصيل و فجوتي الطاقة المباشرة و غير المباشرة لمادة نتريد البورون الماسي و كذلك دراسة تأثر هذه الخواص بالضغ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800" spc="-1" strike="noStrike">
                <a:solidFill>
                  <a:srgbClr val="000000"/>
                </a:solidFill>
                <a:latin typeface="Arial"/>
              </a:rPr>
              <a:t>و قد تم إختيار طريقة الإهمال التام للتداخل التفاضلي/</a:t>
            </a:r>
            <a:r>
              <a:rPr b="0" lang="ar-IQ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IQ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DO/2</a:t>
            </a:r>
            <a:r>
              <a:rPr b="0" lang="ar-IQ" sz="2800" spc="-1" strike="noStrike">
                <a:solidFill>
                  <a:srgbClr val="000000"/>
                </a:solidFill>
                <a:latin typeface="Arial"/>
              </a:rPr>
              <a:t>) و المتضمنة تقريب وحدة الخلية الكبيرة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</a:t>
            </a:r>
            <a:r>
              <a:rPr b="0" lang="ar-IQ" sz="2800" spc="-1" strike="noStrike">
                <a:solidFill>
                  <a:srgbClr val="000000"/>
                </a:solidFill>
                <a:latin typeface="Arial"/>
              </a:rPr>
              <a:t>) للدقة و موثوقية النتائج المستحصلة بواسطتها بعد تطبيقها لمواد أخرى [</a:t>
            </a:r>
            <a:r>
              <a:rPr b="0" lang="ar-IQ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ar-IQ" sz="2800" spc="-1" strike="noStrike">
                <a:solidFill>
                  <a:srgbClr val="000000"/>
                </a:solidFill>
                <a:latin typeface="Arial"/>
              </a:rPr>
              <a:t>] و اختصارها للوقت اللازم لتنفيذ البرمجيات مقارنة بالطرائق الاخرى خاصة و أن المادة قيد الدرس هي مركب وليست عنصراً و ما يتطلبه ذلك من تعقيد في التناول الرياضي و البرمجيات اللاز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200" spc="-1" strike="noStrike">
                <a:solidFill>
                  <a:srgbClr val="330033"/>
                </a:solidFill>
                <a:latin typeface="Times New Roman"/>
              </a:rPr>
              <a:t>الأسس النظرية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7"/>
              <p:cNvSpPr txBox="1"/>
              <p:nvPr/>
            </p:nvSpPr>
            <p:spPr>
              <a:xfrm>
                <a:off x="838080" y="1905120"/>
                <a:ext cx="48769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j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1219320" y="3200400"/>
                <a:ext cx="43434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3" name="Rectangle 10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1"/>
              <p:cNvSpPr txBox="1"/>
              <p:nvPr/>
            </p:nvSpPr>
            <p:spPr>
              <a:xfrm>
                <a:off x="990720" y="4724280"/>
                <a:ext cx="28954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ore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A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6" name="Rectangle 13"/>
          <p:cNvSpPr/>
          <p:nvPr/>
        </p:nvSpPr>
        <p:spPr>
          <a:xfrm>
            <a:off x="0" y="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3"/>
              <p:cNvSpPr txBox="1"/>
              <p:nvPr/>
            </p:nvSpPr>
            <p:spPr>
              <a:xfrm>
                <a:off x="1417680" y="4498920"/>
                <a:ext cx="2158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ψ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685800" y="609480"/>
                <a:ext cx="4038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∂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Rectangle 6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7"/>
              <p:cNvSpPr txBox="1"/>
              <p:nvPr/>
            </p:nvSpPr>
            <p:spPr>
              <a:xfrm>
                <a:off x="762120" y="1828800"/>
                <a:ext cx="41907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</m:d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</m:d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" name="Rectangle 9"/>
          <p:cNvSpPr/>
          <p:nvPr/>
        </p:nvSpPr>
        <p:spPr>
          <a:xfrm>
            <a:off x="0" y="50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914400" y="2971800"/>
                <a:ext cx="35812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e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Rectangle 12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6"/>
              <p:cNvSpPr txBox="1"/>
              <p:nvPr/>
            </p:nvSpPr>
            <p:spPr>
              <a:xfrm>
                <a:off x="914400" y="5486400"/>
                <a:ext cx="28195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533520" y="533520"/>
                <a:ext cx="2819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ν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ν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ν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ν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Rectangle 6"/>
          <p:cNvSpPr/>
          <p:nvPr/>
        </p:nvSpPr>
        <p:spPr>
          <a:xfrm>
            <a:off x="0" y="3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7"/>
              <p:cNvSpPr txBox="1"/>
              <p:nvPr/>
            </p:nvSpPr>
            <p:spPr>
              <a:xfrm>
                <a:off x="609480" y="1600200"/>
                <a:ext cx="3048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/>
                        </m:sSub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∂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Rectangle 9"/>
          <p:cNvSpPr/>
          <p:nvPr/>
        </p:nvSpPr>
        <p:spPr>
          <a:xfrm>
            <a:off x="0" y="27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0"/>
              <p:cNvSpPr txBox="1"/>
              <p:nvPr/>
            </p:nvSpPr>
            <p:spPr>
              <a:xfrm>
                <a:off x="685800" y="2666880"/>
                <a:ext cx="3200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/>
                        </m:sSub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sSub>
                      <m:e>
                        <m:r>
                          <m:t xml:space="preserve">Fφ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∂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Rectangle 12"/>
          <p:cNvSpPr/>
          <p:nvPr/>
        </p:nvSpPr>
        <p:spPr>
          <a:xfrm>
            <a:off x="0" y="27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3"/>
              <p:cNvSpPr txBox="1"/>
              <p:nvPr/>
            </p:nvSpPr>
            <p:spPr>
              <a:xfrm>
                <a:off x="838080" y="3733920"/>
                <a:ext cx="3124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ore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2" name="Rectangle 15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6"/>
              <p:cNvSpPr txBox="1"/>
              <p:nvPr/>
            </p:nvSpPr>
            <p:spPr>
              <a:xfrm>
                <a:off x="533520" y="4572000"/>
                <a:ext cx="62481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μ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μ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]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≠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5" name="Rectangle 18"/>
          <p:cNvSpPr/>
          <p:nvPr/>
        </p:nvSpPr>
        <p:spPr>
          <a:xfrm>
            <a:off x="8883000" y="456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685800" y="533520"/>
                <a:ext cx="32004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μ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μ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μ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Rectangle 6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7"/>
              <p:cNvSpPr txBox="1"/>
              <p:nvPr/>
            </p:nvSpPr>
            <p:spPr>
              <a:xfrm>
                <a:off x="609480" y="1600200"/>
                <a:ext cx="3810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μ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Rectangle 9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0"/>
              <p:cNvSpPr txBox="1"/>
              <p:nvPr/>
            </p:nvSpPr>
            <p:spPr>
              <a:xfrm>
                <a:off x="457200" y="2514600"/>
                <a:ext cx="7086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q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q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o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β</m:t>
                        </m:r>
                      </m:sub>
                      <m:sup/>
                      <m:e/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sup>
                        </m:sSub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d</m:t>
                            </m:r>
                          </m:sub>
                          <m:sup/>
                          <m:e/>
                        </m:nary>
                      </m:e>
                    </m:nary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q</m:t>
                        </m:r>
                        <m:r>
                          <m:t xml:space="preserve">,</m:t>
                        </m:r>
                        <m:r>
                          <m:t xml:space="preserve">νq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3"/>
              <p:cNvSpPr txBox="1"/>
              <p:nvPr/>
            </p:nvSpPr>
            <p:spPr>
              <a:xfrm>
                <a:off x="1447920" y="3276720"/>
                <a:ext cx="22096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9" name="Rectangle 15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762120" y="4343400"/>
                <a:ext cx="3886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q</m:t>
                            </m:r>
                            <m:r>
                              <m:t xml:space="preserve">,</m:t>
                            </m:r>
                            <m:r>
                              <m:t xml:space="preserve">ν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d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2" name="Rectangle 18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200" spc="-1" strike="noStrike">
                <a:solidFill>
                  <a:srgbClr val="330033"/>
                </a:solidFill>
                <a:latin typeface="Times New Roman"/>
              </a:rPr>
              <a:t>الحسابات والنتائج</a:t>
            </a:r>
            <a:r>
              <a:rPr b="0" lang="ar-IQ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ادخال طول ثابت الشبي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ادخال مواقع الذرات و قيم الثوابت الموضحة في الجدول رقم 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حساب مصفوفة هاملتون و مصفوفة التداخل و التكاملات الثنائية الالكترو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حساب مصفوفة فوك- هاملتون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p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 ) للدالة الموجية الاو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حساب مصفوفة الكثافة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μν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 ) من خلال جعل مصفوفة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p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 ) قط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حساب الطاقة الكلية من خلال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μν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حساب مصفوفة فوك الجديدة من خلال القيم الذاتية الجدي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تعاد الخطوتان الخامسة و السادسة لحين الوصول الى التوافق الذاتي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إذا كان فرق الطاقة الكلية بين القراءتين الاخيرتين اكبر من سماحية التقارب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  toler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) والذي اعتمد في هذا البحث ليساوي   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 0.0136</a:t>
            </a: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 )  تعاد الخطوات الخامسة و السادسة و السابعة، و إذا كان الفرق أقل من سماحية التقارب تثبت عندها قيم الطاقة الكلية و ثابت الشبي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 algn="r" rtl="1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Arial"/>
              </a:rPr>
              <a:t>بعد تثبيت النتائج في الخطوة التاسعة يتم حساب الخواص الفيزيائية للبلورة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9:15:21Z</dcterms:created>
  <dc:creator>alwahip center</dc:creator>
  <dc:description/>
  <dc:language>en-US</dc:language>
  <cp:lastModifiedBy>alwahip center</cp:lastModifiedBy>
  <dcterms:modified xsi:type="dcterms:W3CDTF">2015-03-19T17:36:46Z</dcterms:modified>
  <cp:revision>28</cp:revision>
  <dc:subject/>
  <dc:title>الشريحة 1</dc:title>
</cp:coreProperties>
</file>