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2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52.wmf" ContentType="image/x-wmf"/>
  <Override PartName="/ppt/media/image2.jpeg" ContentType="image/jpeg"/>
  <Override PartName="/ppt/media/image18.wmf" ContentType="image/x-wmf"/>
  <Override PartName="/ppt/media/image36.jpeg" ContentType="image/jpeg"/>
  <Override PartName="/ppt/media/image25.jpeg" ContentType="image/jpeg"/>
  <Override PartName="/ppt/media/image4.jpeg" ContentType="image/jpeg"/>
  <Override PartName="/ppt/media/image33.wmf" ContentType="image/x-wmf"/>
  <Override PartName="/ppt/media/image35.jpeg" ContentType="image/jpeg"/>
  <Override PartName="/ppt/media/image50.wmf" ContentType="image/x-wmf"/>
  <Override PartName="/ppt/media/image10.jpeg" ContentType="image/jpeg"/>
  <Override PartName="/ppt/media/image42.jpeg" ContentType="image/jpeg"/>
  <Override PartName="/ppt/media/image43.png" ContentType="image/png"/>
  <Override PartName="/ppt/media/image11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34.jpeg" ContentType="image/jpeg"/>
  <Override PartName="/ppt/media/image28.jpeg" ContentType="image/jpeg"/>
  <Override PartName="/ppt/media/image47.wmf" ContentType="image/x-wmf"/>
  <Override PartName="/ppt/media/image49.jpeg" ContentType="image/jpeg"/>
  <Override PartName="/ppt/media/image53.wmf" ContentType="image/x-wmf"/>
  <Override PartName="/ppt/media/image9.jpeg" ContentType="image/jpeg"/>
  <Override PartName="/ppt/media/image51.wmf" ContentType="image/x-wmf"/>
  <Override PartName="/ppt/media/image6.png" ContentType="image/png"/>
  <Override PartName="/ppt/media/image40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7.jpeg" ContentType="image/jpeg"/>
  <Override PartName="/ppt/media/image31.wmf" ContentType="image/x-wmf"/>
  <Override PartName="/ppt/media/image4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B361-D4ED-48C1-AFB2-597ED32FBE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4BB4-B228-4370-9C8C-C1993823F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SimSun"/>
              </a:rPr>
              <a:t>Adult-sco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356-DD43-4FB8-9D51-AB5AF76302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 : Four suckers, no rost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518-B777-4269-A3CB-D610099D5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Life cycle of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agin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Humans are the only definitive hosts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adult tapeworms (length: usually 5 m or less, but up to 25 m) reside in the small intestine, where they attach by their scolex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y produce proglottids (each worm has 1,000 to 2,000 proglottids), which mature, become gravid, detach from the tapeworm, and migrate to the anus or are passed in the stool (approximately 6 per day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eggs contained in the gravid proglottids (80,000 to 100,000 eggs per proglottid) are released after the proglottid becomes free and are passed with the fe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eggs can survive for months to years in the environ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Cattle and other herbivores become infected by ingesting vegetation contaminated with eggs (or proglottid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animal's intestine, the eggs release the oncosphere, which evaginates, invades the intestinal wall and migrates to the striated muscles, where its develops into a cysticercu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cysticercus can survive for several years in the animal. Humans become infected by ingesting raw or undercooked infected mea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human intestine, the cysticercus develops over 2 months into an adult tapeworm, which can survive for more than 30 year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SimSun"/>
              </a:rPr>
              <a:t>http://www.dpd.cdc.gov/DPDx/HTML/ImageLibrary/S_Listing_il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315-0816-45A7-8D17-A2C3F14B7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colex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(show here) has four suckers and an armed-rostellum. The scolex of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looks similar but lacks hooks. These two species can be differentiated by counting the number of uterine branches in the proglottids;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has between 7 to 13 per side, whi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has 15 to 2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udel.edu/medtech/dlehman/mt372/Taenia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5341-4E76-4725-B077-93EB95158E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Taenia sagi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8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40"/>
                </a:solidFill>
                <a:latin typeface="Times New Roman"/>
                <a:ea typeface="SimSun"/>
              </a:rPr>
              <a:t>Gravid proglott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, India ink techniqu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 : More than 14 lateral uterine branches (one side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6A04-E75C-409A-865C-F8E6B3332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Life cycle of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o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he life cycle o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aenia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s similar to that o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adults (length 2 to 7 m; less than 1,000 proglottids, which are less active than in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agin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, and each with 50,000 eggs; longevity up to 25 years) develop not only in humans but also some other animal species (monkeys, hamster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The cysticercus develops not only in striated muscle, but also in the brain, liver, and other tissues of pigs and other animals, including human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Humans develop taeniasis when they ingest undercooked pork meat containing cysticerci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hey develop cysticercosis by inge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eggs, either by ingestion of fecally contaminated food, or by autoinfec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 the latter case, a human infected with adult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T. soliu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 ingests eggs produced by that tapeworm, either through fecal contamination or, more arguably, from proglottids carried into the stomach by reverse peristals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SimSun"/>
              </a:rPr>
              <a:t>http://www.dpd.cdc.gov/DPDx/HTML/ImageLibrary/S_Listing_il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3B5-0D5C-4638-854B-2F3EFC52A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Wet mou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Note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: Brown, striated embryopho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an not differenti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aginat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from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 soli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37F-BCCD-4F64-B6AF-AE6EEB870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Taenia 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spp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. 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(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saginata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 and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 solium</a:t>
            </a:r>
            <a:r>
              <a:rPr b="1" lang="en-US" sz="1200" spc="-1" strike="noStrike">
                <a:solidFill>
                  <a:srgbClr val="800000"/>
                </a:solidFill>
                <a:latin typeface="Times New Roman"/>
                <a:ea typeface="SimSun"/>
              </a:rPr>
              <a:t>), adult worm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the chain of proglottides 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alled the strobila, and may be composed of over 1.000 proglottides.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saginat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may measure 9 m, wherea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.soli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may reach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D99C-389F-49D3-908B-7FBE56344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beef tapewor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iving specim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来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www.medicine.cmu.ac.th/dept/parasite/official/cestode/frame_t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223-6D01-440A-BF49-DD6281DA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B95-3FF4-4CF9-A3CE-3A39A6BF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B5E-7C9D-42F8-A403-CFBBF0B3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E1F-B6E0-410C-99F1-77FAC7C3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B958-C597-44D9-8516-E8719E11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56D3-DEFC-42B4-8DDE-DAEE7E6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EF5-EEEA-4A98-9B82-497935E9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9DC3-88F4-4771-8C28-574EE75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9174-1A91-4A4E-982A-A37FAF9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0481-BD6E-410A-A7B6-C430A6A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1C0-9DC2-4743-8C37-5754496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522-A40B-4800-8301-D1B14F4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9F7-0E40-4C9D-A185-1E0CC17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79D-AD08-400A-B812-EBF6AB7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066-B223-43AB-A31D-66A4518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E5C-7963-4780-B0E1-5A4A016C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D989-97DC-4684-BD99-AADBC63C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6BF-14F1-4762-82CA-0B3BA400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523-2271-40D6-B994-511B759F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96A-D5C1-4B2B-A645-1F2ADA2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62D-ABE2-4236-BF12-D13A7D0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F48-A762-4CE8-B253-375E01A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7F7-0F4A-4802-94E4-3FAC23A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248-D2A5-415E-96B1-4A3CEB5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BC1-0D1F-4CAD-B61C-B410589B5B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57B-6CCE-48CA-8454-F356110A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91856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 : Cestod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er : Cyclophyllide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mily : Taenide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us 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soliu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pisiformi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Taenia Multicep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مستطيل 2"/>
          <p:cNvSpPr/>
          <p:nvPr/>
        </p:nvSpPr>
        <p:spPr>
          <a:xfrm>
            <a:off x="928800" y="21420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of  Cestodes (Tapew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colex and segment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T. saginata scolex"/>
          <p:cNvPicPr/>
          <p:nvPr/>
        </p:nvPicPr>
        <p:blipFill>
          <a:blip r:embed="rId2"/>
          <a:stretch/>
        </p:blipFill>
        <p:spPr>
          <a:xfrm>
            <a:off x="0" y="162864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000840"/>
            <a:ext cx="7772400" cy="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-57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lex : contain four suckers with no rostel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. saginata scolex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NT\Profiles\dakang\桌面\19.jpg"/>
          <p:cNvPicPr/>
          <p:nvPr/>
        </p:nvPicPr>
        <p:blipFill>
          <a:blip r:embed="rId1"/>
          <a:stretch/>
        </p:blipFill>
        <p:spPr>
          <a:xfrm>
            <a:off x="2743200" y="803160"/>
            <a:ext cx="3587760" cy="4683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362320" y="5668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colex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WINNT\Profiles\dakang\桌面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7"/>
          <p:cNvSpPr/>
          <p:nvPr/>
        </p:nvSpPr>
        <p:spPr>
          <a:xfrm>
            <a:off x="1285920" y="621504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resh speci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5373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 hook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FIGsaginata05"/>
          <p:cNvPicPr/>
          <p:nvPr/>
        </p:nvPicPr>
        <p:blipFill>
          <a:blip r:embed="rId1"/>
          <a:stretch/>
        </p:blipFill>
        <p:spPr>
          <a:xfrm>
            <a:off x="1116000" y="620640"/>
            <a:ext cx="662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5786280"/>
            <a:ext cx="7772400" cy="3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82520" indent="-18252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d segment : the uterine branches contain 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Picture 070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WINNT\Profiles\dakang\桌面\14.gif"/>
          <p:cNvPicPr/>
          <p:nvPr/>
        </p:nvPicPr>
        <p:blipFill>
          <a:blip r:embed="rId1"/>
          <a:stretch/>
        </p:blipFill>
        <p:spPr>
          <a:xfrm>
            <a:off x="1514520" y="304920"/>
            <a:ext cx="5894280" cy="5398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888560" y="5778360"/>
            <a:ext cx="50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cycl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aenia solium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ork tapew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in ho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lex is embedded in the mucosa of the jejunum with the rest of the tape extending through the ile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lex is soliel-shaped with 4 large suckers and a conspicuous rostellum with 2 rows of alternating large and small hooks(25-30 hook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worm is long( 2-10 meters in length), with usually around 1000 proglotti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proglottids are roughly square (12 x 10 mm 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WINNT\Profiles\dakang\桌面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8" name="Rectangle 3"/>
          <p:cNvSpPr/>
          <p:nvPr/>
        </p:nvSpPr>
        <p:spPr>
          <a:xfrm>
            <a:off x="1143000" y="614376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olex of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18148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hook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18148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rostu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257800" y="2666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suc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648320" y="1676520"/>
            <a:ext cx="533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952880" y="2057400"/>
            <a:ext cx="304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52578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257800" y="289548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571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ercus cellulose : four suckers with armed rostellum  and neck followed by b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Picture 078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, segmented body with various length (several mm ~ several 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regions of worm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lex: suckers, hooklets, gro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k: germinal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bila: immature, mature, gravid proglottids (seg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621468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IQ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hook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FIGsolium01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32320" cy="4105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4140360" y="4410360"/>
            <a:ext cx="47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(holdfast)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 pork tapeworm; the scolex measures approximatel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 across. The four suckers are numbered. Note the presence of an armed (hooked) rostellum (*);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gin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 beef tapeworm, does not have an armed rostell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033800" cy="4105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179280" y="4896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The scolex was crushed when this preparation was mad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hasize the shape of the rostellar hoo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95800" cy="4824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4572000" y="5347080"/>
            <a:ext cx="42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reg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the scolex and neck region. The proglottids on the right are immature; not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roductive organs are just beginning to differenti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50920" y="5146200"/>
            <a:ext cx="424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proglottids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.; each proglottid measures about 4 mm in length. Click here to view an image in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haracteristic features are labe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539640" y="5013360"/>
            <a:ext cx="82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gravid proglottid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In this species the uterus of the gravid proglottid has between 7 and 13 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es on each side. I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uterus of the gravid proglottid has between 15 and 20 lateral branches on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d proglotti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gur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gur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79560" y="2209680"/>
          <a:ext cx="5384880" cy="2440080"/>
        </p:xfrm>
        <a:graphic>
          <a:graphicData uri="http://schemas.openxmlformats.org/drawingml/2006/table">
            <a:tbl>
              <a:tblPr/>
              <a:tblGrid>
                <a:gridCol w="3168720"/>
                <a:gridCol w="2216160"/>
              </a:tblGrid>
              <a:tr h="24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5" descr="T. saginata gravid proglottid"/>
          <p:cNvPicPr/>
          <p:nvPr/>
        </p:nvPicPr>
        <p:blipFill>
          <a:blip r:embed="rId1"/>
          <a:stretch/>
        </p:blipFill>
        <p:spPr>
          <a:xfrm>
            <a:off x="0" y="1785960"/>
            <a:ext cx="4929120" cy="21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T. saginata gravid proglottid"/>
          <p:cNvPicPr/>
          <p:nvPr/>
        </p:nvPicPr>
        <p:blipFill>
          <a:blip r:embed="rId2"/>
          <a:stretch/>
        </p:blipFill>
        <p:spPr>
          <a:xfrm>
            <a:off x="4929120" y="1785960"/>
            <a:ext cx="421488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T. solium gravid proglottids"/>
          <p:cNvPicPr/>
          <p:nvPr/>
        </p:nvPicPr>
        <p:blipFill>
          <a:blip r:embed="rId3"/>
          <a:stretch/>
        </p:blipFill>
        <p:spPr>
          <a:xfrm>
            <a:off x="0" y="3929040"/>
            <a:ext cx="4929120" cy="29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T. solium gravid proglottid"/>
          <p:cNvPicPr/>
          <p:nvPr/>
        </p:nvPicPr>
        <p:blipFill>
          <a:blip r:embed="rId4"/>
          <a:stretch/>
        </p:blipFill>
        <p:spPr>
          <a:xfrm>
            <a:off x="4929120" y="39290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8"/>
          <p:cNvSpPr/>
          <p:nvPr/>
        </p:nvSpPr>
        <p:spPr>
          <a:xfrm>
            <a:off x="2260440" y="3429000"/>
            <a:ext cx="4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7021440" y="342900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2128680" y="628668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783480" y="621504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WINNT\Profiles\dakang\桌面\18.jpg"/>
          <p:cNvPicPr/>
          <p:nvPr/>
        </p:nvPicPr>
        <p:blipFill>
          <a:blip r:embed="rId1"/>
          <a:stretch/>
        </p:blipFill>
        <p:spPr>
          <a:xfrm>
            <a:off x="4786200" y="0"/>
            <a:ext cx="4357800" cy="578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5357880" y="5729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d proglottid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C:\WINNT\Profiles\dakang\桌面\21.jpg"/>
          <p:cNvPicPr/>
          <p:nvPr/>
        </p:nvPicPr>
        <p:blipFill>
          <a:blip r:embed="rId2"/>
          <a:stretch/>
        </p:blipFill>
        <p:spPr>
          <a:xfrm>
            <a:off x="0" y="0"/>
            <a:ext cx="4786200" cy="5786280"/>
          </a:xfrm>
          <a:prstGeom prst="rect">
            <a:avLst/>
          </a:prstGeom>
          <a:ln w="0">
            <a:noFill/>
          </a:ln>
        </p:spPr>
      </p:pic>
      <p:sp>
        <p:nvSpPr>
          <p:cNvPr id="164" name="مستطيل 6"/>
          <p:cNvSpPr/>
          <p:nvPr/>
        </p:nvSpPr>
        <p:spPr>
          <a:xfrm>
            <a:off x="1214280" y="57862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d proglottid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مستطيل 7"/>
          <p:cNvSpPr/>
          <p:nvPr/>
        </p:nvSpPr>
        <p:spPr>
          <a:xfrm>
            <a:off x="2676600" y="5749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572000" y="5347080"/>
            <a:ext cx="42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reg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oliu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the scolex and neck region. The proglottids on the right are immature; not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roductive organs are just beginning to differenti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0920" y="5146200"/>
            <a:ext cx="424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ure proglottids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.; each proglottid measures about 4 mm in length. Click here to view an image in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haracteristic features are labe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cycle of T. s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taeniasis_diagram"/>
          <p:cNvPicPr/>
          <p:nvPr/>
        </p:nvPicPr>
        <p:blipFill>
          <a:blip r:embed="rId1"/>
          <a:stretch/>
        </p:blipFill>
        <p:spPr>
          <a:xfrm>
            <a:off x="179280" y="1062000"/>
            <a:ext cx="8785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Taenia-solium"/>
          <p:cNvPicPr/>
          <p:nvPr/>
        </p:nvPicPr>
        <p:blipFill>
          <a:blip r:embed="rId1"/>
          <a:stretch/>
        </p:blipFill>
        <p:spPr>
          <a:xfrm>
            <a:off x="971640" y="189000"/>
            <a:ext cx="741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WINNT\Profiles\dakang\桌面\13.gif"/>
          <p:cNvPicPr/>
          <p:nvPr/>
        </p:nvPicPr>
        <p:blipFill>
          <a:blip r:embed="rId1"/>
          <a:stretch/>
        </p:blipFill>
        <p:spPr>
          <a:xfrm>
            <a:off x="1447920" y="380880"/>
            <a:ext cx="6467400" cy="5396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2216520" y="5897520"/>
            <a:ext cx="47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cycl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enia so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aenia sol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Pork tapeworm / Hook tapew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aenia sagin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Beef tapeworm / Hookless tapew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osis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fection with the C. cellulos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ar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4643280" y="5575680"/>
            <a:ext cx="42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issue section of a cysticercus in muscle. Note the fibrotic capsule (*) around the cysticerc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95280" y="5576400"/>
            <a:ext cx="36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example of a cysticercu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enia soli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ysticercus cellulosa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n the tissues of the intermediate host.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4572000" y="5578200"/>
            <a:ext cx="4321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 of a human brain containing numerou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sticerci. (Original image by Ana Flisser, UNAM, Mexico.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permission of Javier Ambrosio, UNAM, Mexi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 flipV="1" rot="10787400">
            <a:off x="176040" y="5632920"/>
            <a:ext cx="403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ined whole mount of a cysticercus. The cysticercus measures approximately 5 mm in length, and the scolex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33"/>
          <p:cNvPicPr/>
          <p:nvPr/>
        </p:nvPicPr>
        <p:blipFill>
          <a:blip r:embed="rId1"/>
          <a:stretch/>
        </p:blipFill>
        <p:spPr>
          <a:xfrm>
            <a:off x="324000" y="1484280"/>
            <a:ext cx="4464000" cy="391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n82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2428920" y="63579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cutaneous cysticerc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-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ercus bo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mg0059g"/>
          <p:cNvPicPr/>
          <p:nvPr/>
        </p:nvPicPr>
        <p:blipFill>
          <a:blip r:embed="rId1"/>
          <a:stretch/>
        </p:blipFill>
        <p:spPr>
          <a:xfrm>
            <a:off x="0" y="714240"/>
            <a:ext cx="4786200" cy="614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6"/>
          <p:cNvPicPr/>
          <p:nvPr/>
        </p:nvPicPr>
        <p:blipFill>
          <a:blip r:embed="rId2"/>
          <a:stretch/>
        </p:blipFill>
        <p:spPr>
          <a:xfrm>
            <a:off x="4788000" y="714240"/>
            <a:ext cx="4356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volume1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50920" y="5221440"/>
            <a:ext cx="86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sticercus in pork. The larval stage occurs in the pig, they are usually white and ovoid, measuring approximately 8 x 5mm. Man becomes infected by eating undercooked meat which is infected with cysticerci containing an invaginated protscol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isticerco bov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143000" y="500040"/>
            <a:ext cx="69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602360" y="510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isticercose em bovino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Line 5"/>
          <p:cNvSpPr/>
          <p:nvPr/>
        </p:nvSpPr>
        <p:spPr>
          <a:xfrm>
            <a:off x="1676520" y="3886200"/>
            <a:ext cx="76176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514600" y="3048120"/>
            <a:ext cx="762120" cy="759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09880" y="2590920"/>
            <a:ext cx="762120" cy="759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3886200" y="4495680"/>
            <a:ext cx="76212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716400" y="214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7773120" y="6019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640x480_cisticercose-bov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11640" y="228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neurocisticercose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285920" y="62866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UROCISTICERCOS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144800" y="533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828800"/>
          <a:ext cx="8077320" cy="4005360"/>
        </p:xfrm>
        <a:graphic>
          <a:graphicData uri="http://schemas.openxmlformats.org/drawingml/2006/table">
            <a:tbl>
              <a:tblPr/>
              <a:tblGrid>
                <a:gridCol w="1600200"/>
                <a:gridCol w="2590920"/>
                <a:gridCol w="388620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.sagin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.so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co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su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sucker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stellum &amp; hookl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ure proglott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v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l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l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0-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avid proglotti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terine bran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6286320"/>
            <a:ext cx="3635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ebral cysticer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image223"/>
          <p:cNvPicPr/>
          <p:nvPr/>
        </p:nvPicPr>
        <p:blipFill>
          <a:blip r:embed="rId1"/>
          <a:stretch/>
        </p:blipFill>
        <p:spPr>
          <a:xfrm>
            <a:off x="0" y="0"/>
            <a:ext cx="4714920" cy="6215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ysticercosisKnees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215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5292720" y="62150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ular cysticer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n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fig5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g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 in two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Ascarid e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ly striated embryop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: hexocanth embryo (oncosphere: 6 hookl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WINNT\Profiles\dakang\桌面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1752480" y="5929200"/>
            <a:ext cx="6523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sp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e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not differentiat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agin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54291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643280" y="5364360"/>
            <a:ext cx="427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gg. Note the thick, "striated" shell and several of the larval hooks; approximate size = 40 μm. Eggs of al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ok like this example. (Original image from "Atlas of Medical Parasitology.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542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79280" y="5432400"/>
            <a:ext cx="43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other example of 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gg showing the thick (striated) "shell." (Original image from Oklahoma State Universi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Picture 077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28760" y="5929200"/>
            <a:ext cx="8030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enia sagin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um : the outer shell like a frame and the oncosphere is obvi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5429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4427640" y="5505120"/>
            <a:ext cx="442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erial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vered from a dog. The four suckers and armed rostellum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ible in this prepar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5429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324000" y="5433840"/>
            <a:ext cx="37922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higher magnification of the above image showing the rosette of hook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5929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4788000" y="593280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tained whole mount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pisiformi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 common parasite of dog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59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324000" y="593280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n 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ew of the scolex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pisiform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wing the four suckers and hoo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WINNT\Profiles\dakang\桌面\10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957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609480" y="4876920"/>
            <a:ext cx="80773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aenia sp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adult w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hain of proglottids is called the strobila, and may be composed of over 1.000 proglottids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.sagin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measure 9 m, where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.sol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reach 6 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WINNT\Profiles\dakang\桌面\17.jpg"/>
          <p:cNvPicPr/>
          <p:nvPr/>
        </p:nvPicPr>
        <p:blipFill>
          <a:blip r:embed="rId1"/>
          <a:stretch/>
        </p:blipFill>
        <p:spPr>
          <a:xfrm>
            <a:off x="1295280" y="871560"/>
            <a:ext cx="6629400" cy="4386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371600" y="5500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eef tapew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pecime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enia saginat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beef tapew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in ho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um of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lex is pear-shaped with 4 prominent round sucker without rost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worm is very long( usually about 5 meters, sometimes exceeding 20 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 1000-2000 proglotti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proglottid measures about 12mm wide and 10mm lo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Saginata adult w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62040" y="2209680"/>
          <a:ext cx="6019920" cy="2440080"/>
        </p:xfrm>
        <a:graphic>
          <a:graphicData uri="http://schemas.openxmlformats.org/drawingml/2006/table">
            <a:tbl>
              <a:tblPr/>
              <a:tblGrid>
                <a:gridCol w="2914560"/>
                <a:gridCol w="3105360"/>
              </a:tblGrid>
              <a:tr h="24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5" descr="T. saginata adult worm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T. saginata adult worm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1-25T22:18:09Z</dcterms:modified>
  <cp:revision>26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