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0.wmf" ContentType="image/x-wmf"/>
  <Override PartName="/ppt/media/image22.jpeg" ContentType="image/jpeg"/>
  <Override PartName="/ppt/media/image21.jpeg" ContentType="image/jpeg"/>
  <Override PartName="/ppt/media/image29.png" ContentType="image/png"/>
  <Override PartName="/ppt/media/image32.wmf" ContentType="image/x-wmf"/>
  <Override PartName="/ppt/media/image19.wmf" ContentType="image/x-wmf"/>
  <Override PartName="/ppt/media/image17.wmf" ContentType="image/x-wmf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12.png" ContentType="image/png"/>
  <Override PartName="/ppt/media/image52.wmf" ContentType="image/x-wmf"/>
  <Override PartName="/ppt/media/image2.jpeg" ContentType="image/jpeg"/>
  <Override PartName="/ppt/media/image18.wmf" ContentType="image/x-wmf"/>
  <Override PartName="/ppt/media/image36.jpeg" ContentType="image/jpeg"/>
  <Override PartName="/ppt/media/image25.jpeg" ContentType="image/jpeg"/>
  <Override PartName="/ppt/media/image4.jpeg" ContentType="image/jpeg"/>
  <Override PartName="/ppt/media/image33.wmf" ContentType="image/x-wmf"/>
  <Override PartName="/ppt/media/image35.jpeg" ContentType="image/jpeg"/>
  <Override PartName="/ppt/media/image50.wmf" ContentType="image/x-wmf"/>
  <Override PartName="/ppt/media/image10.jpeg" ContentType="image/jpeg"/>
  <Override PartName="/ppt/media/image42.jpeg" ContentType="image/jpeg"/>
  <Override PartName="/ppt/media/image43.png" ContentType="image/png"/>
  <Override PartName="/ppt/media/image11.jpeg" ContentType="image/jpeg"/>
  <Override PartName="/ppt/media/image44.jpeg" ContentType="image/jpeg"/>
  <Override PartName="/ppt/media/image45.png" ContentType="image/png"/>
  <Override PartName="/ppt/media/image46.jpeg" ContentType="image/jpeg"/>
  <Override PartName="/ppt/media/image34.jpeg" ContentType="image/jpeg"/>
  <Override PartName="/ppt/media/image28.jpeg" ContentType="image/jpeg"/>
  <Override PartName="/ppt/media/image47.wmf" ContentType="image/x-wmf"/>
  <Override PartName="/ppt/media/image49.jpeg" ContentType="image/jpeg"/>
  <Override PartName="/ppt/media/image53.wmf" ContentType="image/x-wmf"/>
  <Override PartName="/ppt/media/image9.jpeg" ContentType="image/jpeg"/>
  <Override PartName="/ppt/media/image51.wmf" ContentType="image/x-wmf"/>
  <Override PartName="/ppt/media/image6.png" ContentType="image/png"/>
  <Override PartName="/ppt/media/image40.jpeg" ContentType="image/jpeg"/>
  <Override PartName="/ppt/media/image13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7.jpeg" ContentType="image/jpeg"/>
  <Override PartName="/ppt/media/image31.wmf" ContentType="image/x-wmf"/>
  <Override PartName="/ppt/media/image48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12B3-257C-49E9-86C8-9CCDAA38DEB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DC4A-0803-4975-9359-E6C9B97462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  <a:ea typeface="SimSun"/>
              </a:rPr>
              <a:t>Taenia sagin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  <a:ea typeface="SimSun"/>
              </a:rPr>
              <a:t>Adult-sco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来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http://www.medicine.cmu.ac.th/dept/parasite/official/cestode/frame_t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85E1-EA8E-445C-9AE4-09C538EC14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451"/>
              </a:spcBef>
              <a:buClr>
                <a:srgbClr val="008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40"/>
                </a:solidFill>
                <a:latin typeface="Times New Roman"/>
                <a:ea typeface="SimSun"/>
              </a:rPr>
              <a:t>Taenia sagin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51"/>
              </a:spcBef>
              <a:buClr>
                <a:srgbClr val="008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40"/>
                </a:solidFill>
                <a:latin typeface="Times New Roman"/>
                <a:ea typeface="SimSu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Note : Four suckers, no rostel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来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http://www.medicine.cmu.ac.th/dept/parasite/official/cestode/frame_t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44F5-0238-4E21-86E1-88BDB7784A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Life cycle of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Taenia sagin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Humans are the only definitive hosts for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Taenia saginata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The adult tapeworms (length: usually 5 m or less, but up to 25 m) reside in the small intestine, where they attach by their scolex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They produce proglottids (each worm has 1,000 to 2,000 proglottids), which mature, become gravid, detach from the tapeworm, and migrate to the anus or are passed in the stool (approximately 6 per day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The eggs contained in the gravid proglottids (80,000 to 100,000 eggs per proglottid) are released after the proglottid becomes free and are passed with the fece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The eggs can survive for months to years in the environmen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Cattle and other herbivores become infected by ingesting vegetation contaminated with eggs (or proglottids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In the animal's intestine, the eggs release the oncosphere, which evaginates, invades the intestinal wall and migrates to the striated muscles, where its develops into a cysticercu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The cysticercus can survive for several years in the animal. Humans become infected by ingesting raw or undercooked infected mea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In the human intestine, the cysticercus develops over 2 months into an adult tapeworm, which can survive for more than 30 year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SimSun"/>
              </a:rPr>
              <a:t>http://www.dpd.cdc.gov/DPDx/HTML/ImageLibrary/S_Listing_il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E044-349E-4E4F-A131-0759909AE6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colex of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. sol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(show here) has four suckers and an armed-rostellum. The scolex of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. saginat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looks similar but lacks hooks. These two species can be differentiated by counting the number of uterine branches in the proglottids;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. sol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has between 7 to 13 per side, whil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. saginat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has 15 to 2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来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http://www.udel.edu/medtech/dlehman/mt372/Taenia.htm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0521-6EA0-4DB9-B28C-60886FFF82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451"/>
              </a:spcBef>
              <a:buClr>
                <a:srgbClr val="008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40"/>
                </a:solidFill>
                <a:latin typeface="Times New Roman"/>
                <a:ea typeface="SimSun"/>
              </a:rPr>
              <a:t>Taenia sagin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51"/>
              </a:spcBef>
              <a:buClr>
                <a:srgbClr val="008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40"/>
                </a:solidFill>
                <a:latin typeface="Times New Roman"/>
                <a:ea typeface="SimSun"/>
              </a:rPr>
              <a:t>Gravid proglotti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, India ink techniqu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Note : More than 14 lateral uterine branches (one side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来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http://www.medicine.cmu.ac.th/dept/parasite/official/cestode/frame_t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949D-13BD-4F7B-8E50-B4A4CEE76E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Life cycle of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Taenia so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The life cycle of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Taenia soliu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is similar to that of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T. saginata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The adults (length 2 to 7 m; less than 1,000 proglottids, which are less active than in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T. saginata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, and each with 50,000 eggs; longevity up to 25 years) develop not only in humans but also some other animal species (monkeys, hamsters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The cysticercus develops not only in striated muscle, but also in the brain, liver, and other tissues of pigs and other animals, including human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Humans develop taeniasis when they ingest undercooked pork meat containing cysticerci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They develop cysticercosis by ingesting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T. soliu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eggs, either by ingestion of fecally contaminated food, or by autoinfection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In the latter case, a human infected with adult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T. soliu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ingests eggs produced by that tapeworm, either through fecal contamination or, more arguably, from proglottids carried into the stomach by reverse peristalsi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SimSun"/>
              </a:rPr>
              <a:t>http://www.dpd.cdc.gov/DPDx/HTML/ImageLibrary/S_Listing_il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BE92-8E00-4873-96A3-E974712E7C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Wet mou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Note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: Brown, striated embryophor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Can not differentiat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. saginat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from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. soliu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来源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http://www.medicine.cmu.ac.th/dept/parasite/official/cestode/frame_t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25B3-366E-43B6-A756-ACE99FE780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0000"/>
                </a:solidFill>
                <a:latin typeface="Times New Roman"/>
                <a:ea typeface="SimSun"/>
              </a:rPr>
              <a:t>Taenia </a:t>
            </a:r>
            <a:r>
              <a:rPr b="1" lang="en-US" sz="1200" spc="-1" strike="noStrike">
                <a:solidFill>
                  <a:srgbClr val="800000"/>
                </a:solidFill>
                <a:latin typeface="Times New Roman"/>
                <a:ea typeface="SimSun"/>
              </a:rPr>
              <a:t>spp</a:t>
            </a:r>
            <a:r>
              <a:rPr b="1" i="1" lang="en-US" sz="1200" spc="-1" strike="noStrike">
                <a:solidFill>
                  <a:srgbClr val="800000"/>
                </a:solidFill>
                <a:latin typeface="Times New Roman"/>
                <a:ea typeface="SimSun"/>
              </a:rPr>
              <a:t>. </a:t>
            </a:r>
            <a:r>
              <a:rPr b="1" lang="en-US" sz="1200" spc="-1" strike="noStrike">
                <a:solidFill>
                  <a:srgbClr val="800000"/>
                </a:solidFill>
                <a:latin typeface="Times New Roman"/>
                <a:ea typeface="SimSun"/>
              </a:rPr>
              <a:t>(</a:t>
            </a:r>
            <a:r>
              <a:rPr b="1" i="1" lang="en-US" sz="1200" spc="-1" strike="noStrike">
                <a:solidFill>
                  <a:srgbClr val="800000"/>
                </a:solidFill>
                <a:latin typeface="Times New Roman"/>
                <a:ea typeface="SimSun"/>
              </a:rPr>
              <a:t>saginata</a:t>
            </a:r>
            <a:r>
              <a:rPr b="1" lang="en-US" sz="1200" spc="-1" strike="noStrike">
                <a:solidFill>
                  <a:srgbClr val="800000"/>
                </a:solidFill>
                <a:latin typeface="Times New Roman"/>
                <a:ea typeface="SimSun"/>
              </a:rPr>
              <a:t> and</a:t>
            </a:r>
            <a:r>
              <a:rPr b="1" i="1" lang="en-US" sz="1200" spc="-1" strike="noStrike">
                <a:solidFill>
                  <a:srgbClr val="800000"/>
                </a:solidFill>
                <a:latin typeface="Times New Roman"/>
                <a:ea typeface="SimSun"/>
              </a:rPr>
              <a:t> solium</a:t>
            </a:r>
            <a:r>
              <a:rPr b="1" lang="en-US" sz="1200" spc="-1" strike="noStrike">
                <a:solidFill>
                  <a:srgbClr val="800000"/>
                </a:solidFill>
                <a:latin typeface="Times New Roman"/>
                <a:ea typeface="SimSun"/>
              </a:rPr>
              <a:t>), adult worm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the chain of proglottides i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called the strobila, and may be composed of over 1.000 proglottides.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.saginat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may measure 9 m, whereas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.soliu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may reach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8AD2-89E7-45AA-8C27-D9CDA51FA4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he beef tapewor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Living specime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来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http://www.medicine.cmu.ac.th/dept/parasite/official/cestode/frame_t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0088-B0D6-4B9C-A76B-341E852D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A89A-9889-4E2E-99E7-3F7361DB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B271-7423-46C0-A7D4-061D6D40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BEF-BB17-4581-A4B1-61FB4273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6FDC-E71E-463C-A895-191D7CBD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F21A-3EA8-4622-AB09-FB410865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92EA-D4EA-4E2C-A758-A3B26738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2349-F500-4551-9756-F8D18101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0DC0-770C-41F7-AA80-B164BE3D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2B41-C5D8-4182-A5AE-2671762E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445C-FDFB-4DE9-BF4C-8DB2210B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7FA-23C8-40E4-96B7-04E95B0D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97EB-E894-4614-9A97-40F17FC6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AB9D-88A9-44F1-B419-B10F7296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D159-C0BE-4BC5-AADD-3C793AEC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6917-563E-4105-88D2-B3506303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12CA-3299-4133-AEB1-58C300C6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E3E-EA94-4E36-8DDA-B525F26B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D187-8D15-45D4-966C-F4335EC4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5BE-9F71-45B1-AC9B-330FC5E4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E03-0134-4F2C-8C9E-8748BDA5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F39-9BC4-4C7D-B05B-97FB7E85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87DC-7301-46C3-B280-8E1E906E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57C5-8166-4720-BA86-A78575EB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B3C8-1375-4A04-B908-B60BB113DA3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A3EA-7898-4F4A-8522-F24C624D1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42680"/>
            <a:ext cx="791856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s : Cestod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er : Cyclophyllide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mily : Taenide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us 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aenia saginata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 Taenia soliu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 Taenia pisiformi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 Taenia Multiceps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مستطيل 2"/>
          <p:cNvSpPr/>
          <p:nvPr/>
        </p:nvSpPr>
        <p:spPr>
          <a:xfrm>
            <a:off x="928800" y="214200"/>
            <a:ext cx="692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roduction of  Cestodes (Tapewor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enia sagina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colex and segments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4572000" y="1643040"/>
            <a:ext cx="4572000" cy="5214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T. saginata scolex"/>
          <p:cNvPicPr/>
          <p:nvPr/>
        </p:nvPicPr>
        <p:blipFill>
          <a:blip r:embed="rId2"/>
          <a:stretch/>
        </p:blipFill>
        <p:spPr>
          <a:xfrm>
            <a:off x="0" y="1628640"/>
            <a:ext cx="4572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6000840"/>
            <a:ext cx="7772400" cy="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000"/>
          </a:bodyPr>
          <a:p>
            <a:pPr marL="5760" indent="-57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lex : contain four suckers with no rostel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T. saginata scolex"/>
          <p:cNvPicPr/>
          <p:nvPr/>
        </p:nvPicPr>
        <p:blipFill>
          <a:blip r:embed="rId1"/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WINNT\Profiles\dakang\桌面\19.jpg"/>
          <p:cNvPicPr/>
          <p:nvPr/>
        </p:nvPicPr>
        <p:blipFill>
          <a:blip r:embed="rId1"/>
          <a:stretch/>
        </p:blipFill>
        <p:spPr>
          <a:xfrm>
            <a:off x="2743200" y="803160"/>
            <a:ext cx="3587760" cy="46832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2362320" y="5668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colex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. sagin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WINNT\Profiles\dakang\桌面\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7"/>
          <p:cNvSpPr/>
          <p:nvPr/>
        </p:nvSpPr>
        <p:spPr>
          <a:xfrm>
            <a:off x="1285920" y="621504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aenia saginat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fresh speci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537372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aenia sagin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o hook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FIGsaginata05"/>
          <p:cNvPicPr/>
          <p:nvPr/>
        </p:nvPicPr>
        <p:blipFill>
          <a:blip r:embed="rId1"/>
          <a:stretch/>
        </p:blipFill>
        <p:spPr>
          <a:xfrm>
            <a:off x="1116000" y="620640"/>
            <a:ext cx="6624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5786280"/>
            <a:ext cx="7772400" cy="3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82520" indent="-182520" algn="ct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enia sagi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d segment : the uterine branches contain e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Picture 070"/>
          <p:cNvPicPr/>
          <p:nvPr/>
        </p:nvPicPr>
        <p:blipFill>
          <a:blip r:embed="rId1"/>
          <a:stretch/>
        </p:blipFill>
        <p:spPr>
          <a:xfrm>
            <a:off x="0" y="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WINNT\Profiles\dakang\桌面\14.gif"/>
          <p:cNvPicPr/>
          <p:nvPr/>
        </p:nvPicPr>
        <p:blipFill>
          <a:blip r:embed="rId1"/>
          <a:stretch/>
        </p:blipFill>
        <p:spPr>
          <a:xfrm>
            <a:off x="1514520" y="304920"/>
            <a:ext cx="5894280" cy="53989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1888560" y="5778360"/>
            <a:ext cx="50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fe cycle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aenia sagin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Taenia solium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pork tapew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424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in ho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colex is embedded in the mucosa of the jejunum with the rest of the tape extending through the ile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lex is soliel-shaped with 4 large suckers and a conspicuous rostellum with 2 rows of alternating large and small hooks(25-30 hook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 of worm is long( 2-10 meters in length), with usually around 1000 proglotti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ure proglottids are roughly square (12 x 10 mm 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WINNT\Profiles\dakang\桌面\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28" name="Rectangle 3"/>
          <p:cNvSpPr/>
          <p:nvPr/>
        </p:nvSpPr>
        <p:spPr>
          <a:xfrm>
            <a:off x="1143000" y="6143760"/>
            <a:ext cx="56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colex of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. sol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181480" y="1447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hook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5181480" y="1828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rostul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257800" y="2666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suc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4648320" y="1676520"/>
            <a:ext cx="5331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4952880" y="2057400"/>
            <a:ext cx="304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525780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5257800" y="2895480"/>
            <a:ext cx="2286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557172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enia sol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sticercus cellulose : four suckers with armed rostellum  and neck followed by bo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Picture 078"/>
          <p:cNvPicPr/>
          <p:nvPr/>
        </p:nvPicPr>
        <p:blipFill>
          <a:blip r:embed="rId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ph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t, segmented body with various length (several mm ~ several me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regions of worm bod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lex: suckers, hooklets, groo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k: germinal 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bila: immature, mature, gravid proglottids (seg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6214680"/>
            <a:ext cx="777240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0000"/>
          </a:bodyPr>
          <a:p>
            <a:pPr marL="342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IQ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aenia sol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hook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FIGsolium01"/>
          <p:cNvPicPr/>
          <p:nvPr/>
        </p:nvPicPr>
        <p:blipFill>
          <a:blip r:embed="rId1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4432320" cy="41054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4140360" y="4410360"/>
            <a:ext cx="477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stained whole mount of the scolex (holdfast) of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aenia soliu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the pork tapeworm; the scolex measures approximatel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m across. The four suckers are numbered. Note the presence of an armed (hooked) rostellum (*); the scolex of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a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agin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the beef tapeworm, does not have an armed rostellu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033800" cy="41054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179280" y="4896000"/>
            <a:ext cx="39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stained whole mount of the scolex of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aenia soliu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The scolex was crushed when this preparation was made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hasize the shape of the rostellar hook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4195800" cy="48243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4572000" y="5347080"/>
            <a:ext cx="428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ior reg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enia solium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ing the scolex and neck region. The proglottids on the right are immature; note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productive organs are just beginning to differentia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250920" y="5146200"/>
            <a:ext cx="424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ture proglottids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.; each proglottid measures about 4 mm in length. Click here to view an image in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characteristic features are labele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539640" y="5013360"/>
            <a:ext cx="8293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gravid proglottid of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aenia soliu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In this species the uterus of the gravid proglottid has between 7 and 13 lat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anches on each side. In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. saginat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uterus of the gravid proglottid has between 15 and 20 lateral branches on 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d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id proglottid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enia sagin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gur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enia sol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gur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879560" y="2209680"/>
          <a:ext cx="5384880" cy="2440080"/>
        </p:xfrm>
        <a:graphic>
          <a:graphicData uri="http://schemas.openxmlformats.org/drawingml/2006/table">
            <a:tbl>
              <a:tblPr/>
              <a:tblGrid>
                <a:gridCol w="3168720"/>
                <a:gridCol w="2216160"/>
              </a:tblGrid>
              <a:tr h="247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5" descr="T. saginata gravid proglottid"/>
          <p:cNvPicPr/>
          <p:nvPr/>
        </p:nvPicPr>
        <p:blipFill>
          <a:blip r:embed="rId1"/>
          <a:stretch/>
        </p:blipFill>
        <p:spPr>
          <a:xfrm>
            <a:off x="0" y="1785960"/>
            <a:ext cx="4929120" cy="2143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T. saginata gravid proglottid"/>
          <p:cNvPicPr/>
          <p:nvPr/>
        </p:nvPicPr>
        <p:blipFill>
          <a:blip r:embed="rId2"/>
          <a:stretch/>
        </p:blipFill>
        <p:spPr>
          <a:xfrm>
            <a:off x="4929120" y="1785960"/>
            <a:ext cx="4214880" cy="214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2" descr="T. solium gravid proglottids"/>
          <p:cNvPicPr/>
          <p:nvPr/>
        </p:nvPicPr>
        <p:blipFill>
          <a:blip r:embed="rId3"/>
          <a:stretch/>
        </p:blipFill>
        <p:spPr>
          <a:xfrm>
            <a:off x="0" y="3929040"/>
            <a:ext cx="4929120" cy="2928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4" descr="T. solium gravid proglottid"/>
          <p:cNvPicPr/>
          <p:nvPr/>
        </p:nvPicPr>
        <p:blipFill>
          <a:blip r:embed="rId4"/>
          <a:stretch/>
        </p:blipFill>
        <p:spPr>
          <a:xfrm>
            <a:off x="4929120" y="392904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8"/>
          <p:cNvSpPr/>
          <p:nvPr/>
        </p:nvSpPr>
        <p:spPr>
          <a:xfrm>
            <a:off x="2260440" y="3429000"/>
            <a:ext cx="4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7021440" y="342900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2128680" y="6286680"/>
            <a:ext cx="6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783480" y="6215040"/>
            <a:ext cx="3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WINNT\Profiles\dakang\桌面\18.jpg"/>
          <p:cNvPicPr/>
          <p:nvPr/>
        </p:nvPicPr>
        <p:blipFill>
          <a:blip r:embed="rId1"/>
          <a:stretch/>
        </p:blipFill>
        <p:spPr>
          <a:xfrm>
            <a:off x="4786200" y="0"/>
            <a:ext cx="4357800" cy="57862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3"/>
          <p:cNvSpPr/>
          <p:nvPr/>
        </p:nvSpPr>
        <p:spPr>
          <a:xfrm>
            <a:off x="5357880" y="57294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vid proglottid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. sagi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C:\WINNT\Profiles\dakang\桌面\21.jpg"/>
          <p:cNvPicPr/>
          <p:nvPr/>
        </p:nvPicPr>
        <p:blipFill>
          <a:blip r:embed="rId2"/>
          <a:stretch/>
        </p:blipFill>
        <p:spPr>
          <a:xfrm>
            <a:off x="0" y="0"/>
            <a:ext cx="4786200" cy="5786280"/>
          </a:xfrm>
          <a:prstGeom prst="rect">
            <a:avLst/>
          </a:prstGeom>
          <a:ln w="0">
            <a:noFill/>
          </a:ln>
        </p:spPr>
      </p:pic>
      <p:sp>
        <p:nvSpPr>
          <p:cNvPr id="164" name="مستطيل 6"/>
          <p:cNvSpPr/>
          <p:nvPr/>
        </p:nvSpPr>
        <p:spPr>
          <a:xfrm>
            <a:off x="1214280" y="5786280"/>
            <a:ext cx="292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vid proglottid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. sol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مستطيل 7"/>
          <p:cNvSpPr/>
          <p:nvPr/>
        </p:nvSpPr>
        <p:spPr>
          <a:xfrm>
            <a:off x="2676600" y="5749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572000" y="5347080"/>
            <a:ext cx="428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ior reg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enia solium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ing the scolex and neck region. The proglottids on the right are immature; note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productive organs are just beginning to differentia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250920" y="5146200"/>
            <a:ext cx="424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ture proglottids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.; each proglottid measures about 4 mm in length. Click here to view an image in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characteristic features are labele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 cycle of T. sol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taeniasis_diagram"/>
          <p:cNvPicPr/>
          <p:nvPr/>
        </p:nvPicPr>
        <p:blipFill>
          <a:blip r:embed="rId1"/>
          <a:stretch/>
        </p:blipFill>
        <p:spPr>
          <a:xfrm>
            <a:off x="179280" y="1062000"/>
            <a:ext cx="87854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4" descr="Taenia-solium"/>
          <p:cNvPicPr/>
          <p:nvPr/>
        </p:nvPicPr>
        <p:blipFill>
          <a:blip r:embed="rId1"/>
          <a:stretch/>
        </p:blipFill>
        <p:spPr>
          <a:xfrm>
            <a:off x="971640" y="189000"/>
            <a:ext cx="7416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WINNT\Profiles\dakang\桌面\13.gif"/>
          <p:cNvPicPr/>
          <p:nvPr/>
        </p:nvPicPr>
        <p:blipFill>
          <a:blip r:embed="rId1"/>
          <a:stretch/>
        </p:blipFill>
        <p:spPr>
          <a:xfrm>
            <a:off x="1447920" y="380880"/>
            <a:ext cx="6467400" cy="53960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2216520" y="5897520"/>
            <a:ext cx="47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fe cycle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aenia sol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SimHei"/>
              </a:rPr>
              <a:t>Taenia sol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Hei"/>
              </a:rPr>
              <a:t>Pork tapeworm / Hook tapew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SimHei"/>
              </a:rPr>
              <a:t>Taenia sagin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Hei"/>
              </a:rPr>
              <a:t>Beef tapeworm / Hookless tapew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sticercosis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infection with the C. cellulosa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al Cysticerc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ular Cysticerc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ular Cysticerc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utaneous Cysticerc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55720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4643280" y="5575680"/>
            <a:ext cx="423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tissue section of a cysticercus in muscle. Note the fibrotic capsule (*) around the cysticerc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55720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395280" y="5576400"/>
            <a:ext cx="360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other example of a cysticercu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aenia soliu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ysticercus cellulosa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in the tissues of the intermediate host. 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55720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4572000" y="5578200"/>
            <a:ext cx="43210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tion of a human brain containing numerou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ysticerci. (Original image by Ana Flisser, UNAM, Mexico.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permission of Javier Ambrosio, UNAM, Mexi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55720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7"/>
          <p:cNvSpPr/>
          <p:nvPr/>
        </p:nvSpPr>
        <p:spPr>
          <a:xfrm flipV="1" rot="10787400">
            <a:off x="176040" y="5632920"/>
            <a:ext cx="4035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stained whole mount of a cysticercus. The cysticercus measures approximately 5 mm in length, and the scolex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sticer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33"/>
          <p:cNvPicPr/>
          <p:nvPr/>
        </p:nvPicPr>
        <p:blipFill>
          <a:blip r:embed="rId1"/>
          <a:stretch/>
        </p:blipFill>
        <p:spPr>
          <a:xfrm>
            <a:off x="324000" y="1484280"/>
            <a:ext cx="4464000" cy="3911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in82"/>
          <p:cNvPicPr/>
          <p:nvPr/>
        </p:nvPicPr>
        <p:blipFill>
          <a:blip r:embed="rId2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2428920" y="635796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cutaneous cysticerc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2960" y="-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sticercus bov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Img0059g"/>
          <p:cNvPicPr/>
          <p:nvPr/>
        </p:nvPicPr>
        <p:blipFill>
          <a:blip r:embed="rId1"/>
          <a:stretch/>
        </p:blipFill>
        <p:spPr>
          <a:xfrm>
            <a:off x="0" y="714240"/>
            <a:ext cx="4786200" cy="6143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Image6"/>
          <p:cNvPicPr/>
          <p:nvPr/>
        </p:nvPicPr>
        <p:blipFill>
          <a:blip r:embed="rId2"/>
          <a:stretch/>
        </p:blipFill>
        <p:spPr>
          <a:xfrm>
            <a:off x="4788000" y="714240"/>
            <a:ext cx="4356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volume1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250920" y="5221440"/>
            <a:ext cx="863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sticercus in pork. The larval stage occurs in the pig, they are usually white and ovoid, measuring approximately 8 x 5mm. Man becomes infected by eating undercooked meat which is infected with cysticerci containing an invaginated protscol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isticerco bovin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143000" y="500040"/>
            <a:ext cx="69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602360" y="5105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isticercose em bovino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Line 5"/>
          <p:cNvSpPr/>
          <p:nvPr/>
        </p:nvSpPr>
        <p:spPr>
          <a:xfrm>
            <a:off x="1676520" y="3886200"/>
            <a:ext cx="76176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2514600" y="3048120"/>
            <a:ext cx="762120" cy="759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3809880" y="2590920"/>
            <a:ext cx="762120" cy="759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3886200" y="4495680"/>
            <a:ext cx="762120" cy="763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716400" y="214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7773120" y="6019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640x480_cisticercose-bovi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611640" y="228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neurocisticercose"/>
          <p:cNvPicPr/>
          <p:nvPr/>
        </p:nvPicPr>
        <p:blipFill>
          <a:blip r:embed="rId1"/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285920" y="628668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NEUROCISTICERCOSE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EREB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144800" y="5335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ph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09480" y="1828800"/>
          <a:ext cx="8077320" cy="4005360"/>
        </p:xfrm>
        <a:graphic>
          <a:graphicData uri="http://schemas.openxmlformats.org/drawingml/2006/table">
            <a:tbl>
              <a:tblPr/>
              <a:tblGrid>
                <a:gridCol w="1600200"/>
                <a:gridCol w="2590920"/>
                <a:gridCol w="3886200"/>
              </a:tblGrid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.sagin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.sol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-8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-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co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suck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sucker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ostellum &amp; hookl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ature proglott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Ov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lo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 lo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s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00-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50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Gravid proglottid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terine branch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5-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6286320"/>
            <a:ext cx="36352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rebral cysticerc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image223"/>
          <p:cNvPicPr/>
          <p:nvPr/>
        </p:nvPicPr>
        <p:blipFill>
          <a:blip r:embed="rId1"/>
          <a:stretch/>
        </p:blipFill>
        <p:spPr>
          <a:xfrm>
            <a:off x="0" y="0"/>
            <a:ext cx="4714920" cy="6215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CysticercosisKnees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2150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7"/>
          <p:cNvSpPr/>
          <p:nvPr/>
        </p:nvSpPr>
        <p:spPr>
          <a:xfrm>
            <a:off x="5292720" y="6215040"/>
            <a:ext cx="35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cular cysticerc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utaneous no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4" descr="fig5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g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stinguishable in two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 Ascarid eg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cally striated embryoph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: hexocanth embryo (oncosphere: 6 hookl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:\WINNT\Profiles\dakang\桌面\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1752480" y="5929200"/>
            <a:ext cx="6523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aenia sp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eg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 not differentiat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. sagin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. soliu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54291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4643280" y="5364360"/>
            <a:ext cx="4270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gg. Note the thick, "striated" shell and several of the larval hooks; approximate size = 40 μm. Eggs of all spe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ok like this example. (Original image from "Atlas of Medical Parasitology.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54291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179280" y="5432400"/>
            <a:ext cx="439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other example of a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gg showing the thick (striated) "shell." (Original image from Oklahoma State Universit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Picture 077"/>
          <p:cNvPicPr/>
          <p:nvPr/>
        </p:nvPicPr>
        <p:blipFill>
          <a:blip r:embed="rId1"/>
          <a:stretch/>
        </p:blipFill>
        <p:spPr>
          <a:xfrm>
            <a:off x="0" y="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28760" y="5929200"/>
            <a:ext cx="80308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aenia saginat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um : the outer shell like a frame and the oncosphere is obvio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54291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6"/>
          <p:cNvSpPr/>
          <p:nvPr/>
        </p:nvSpPr>
        <p:spPr>
          <a:xfrm>
            <a:off x="4427640" y="5505120"/>
            <a:ext cx="442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stained whole mount of the scolex of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aenia seriali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overed from a dog. The four suckers and armed rostellum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sible in this prepara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4714920" cy="54291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8"/>
          <p:cNvSpPr/>
          <p:nvPr/>
        </p:nvSpPr>
        <p:spPr>
          <a:xfrm>
            <a:off x="324000" y="5433840"/>
            <a:ext cx="37922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higher magnification of the above image showing the rosette of hook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59292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4788000" y="5932800"/>
            <a:ext cx="43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stained whole mount of the scolex of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aenia pisiformi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a common parasite of dog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59292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8"/>
          <p:cNvSpPr/>
          <p:nvPr/>
        </p:nvSpPr>
        <p:spPr>
          <a:xfrm>
            <a:off x="324000" y="593280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n fac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ew of the scolex of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aenia pisiformi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owing the four suckers and hook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WINNT\Profiles\dakang\桌面\10.jpg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3957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609480" y="4876920"/>
            <a:ext cx="807732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aenia sp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adult w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hain of proglottids is called the strobila, and may be composed of over 1.000 proglottids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.sagin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ay measure 9 m, wherea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.soliu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ay reach 6 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WINNT\Profiles\dakang\桌面\17.jpg"/>
          <p:cNvPicPr/>
          <p:nvPr/>
        </p:nvPicPr>
        <p:blipFill>
          <a:blip r:embed="rId1"/>
          <a:stretch/>
        </p:blipFill>
        <p:spPr>
          <a:xfrm>
            <a:off x="1295280" y="871560"/>
            <a:ext cx="6629400" cy="43862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1371600" y="55008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eef tapewor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ving specime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enia saginata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beef tapew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in ho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eum of small inte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lex is pear-shaped with 4 prominent round sucker without rostel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 of worm is very long( usually about 5 meters, sometimes exceeding 20 me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es 1000-2000 proglotti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ure proglottid measures about 12mm wide and 10mm long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 Saginata adult w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IQ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62040" y="2209680"/>
          <a:ext cx="6019920" cy="2440080"/>
        </p:xfrm>
        <a:graphic>
          <a:graphicData uri="http://schemas.openxmlformats.org/drawingml/2006/table">
            <a:tbl>
              <a:tblPr/>
              <a:tblGrid>
                <a:gridCol w="2914560"/>
                <a:gridCol w="3105360"/>
              </a:tblGrid>
              <a:tr h="247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Picture 5" descr="T. saginata adult worm"/>
          <p:cNvPicPr/>
          <p:nvPr/>
        </p:nvPicPr>
        <p:blipFill>
          <a:blip r:embed="rId1"/>
          <a:stretch/>
        </p:blipFill>
        <p:spPr>
          <a:xfrm>
            <a:off x="0" y="1628640"/>
            <a:ext cx="4500720" cy="5229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T. saginata adult worm"/>
          <p:cNvPicPr/>
          <p:nvPr/>
        </p:nvPicPr>
        <p:blipFill>
          <a:blip r:embed="rId2"/>
          <a:stretch/>
        </p:blipFill>
        <p:spPr>
          <a:xfrm>
            <a:off x="4500720" y="1628640"/>
            <a:ext cx="46432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5-01-25T22:18:09Z</dcterms:modified>
  <cp:revision>26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