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F7E-1630-4C2D-976A-5A167CF9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4CB-C828-40B0-8BD4-C332DA6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0AF-E213-4A21-B58F-482F06E6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3E1-70BC-4687-A628-B97E903F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CCE-7166-4A0E-837B-097A5E0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1FD-7E02-4C7C-980F-DB8443B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5B8-AE54-4FC9-8408-335DFA80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957-0BF2-4F6F-B50A-8F5BF28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8DD-E5F9-4424-8F5B-BAF58D2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BDD-CE04-4F4A-9143-B5A02F9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7AE-0002-49CE-810D-6C5F04A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A74-9463-4892-ACE4-EACB02B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8D39-FF68-4B13-A191-29179BA82AF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um : Platyhelminth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: Nematod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er : Strongylid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 family: Strongyloid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y: Strongylidae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pecies: -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S. Edentatus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S. vulgaris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. equi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 vulgar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notic : 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host : Hor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ite :Large intest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: 83-93 um , width : 48-52 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tage : L3,living nematode lar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tech. : Fecal fl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stage : Thin- shelled, Elliptical in 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 edentatus</a:t>
            </a:r>
            <a:br>
              <a:rPr sz="3200"/>
            </a:br>
            <a:r>
              <a:rPr b="0" i="1" lang="ar-S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notic : 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host : Hor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ite :Large intest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: 78-88 um , width : 48-52 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tage : L3,living nematode lar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tech. : Fecal fl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stage : Thin- shelled, Elliptical in 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cal.vet.upenn.edu/projects/merial/Nematodes/images/leafcrown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826920" y="4365720"/>
            <a:ext cx="748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ongylus vulgaris. Figure 1 DR of anterior ends (from left: Strongylus equinus, S. edentatus, S. vulgaris). AL, outer cr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lamellae; CR, cuticular annulus; IL, inner crown of lamellae; MH, buccal cavity; OM, muscles of oesophagus; ZL, tooth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862360" y="189000"/>
            <a:ext cx="341928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3328200" y="52552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ongylus vulgar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Eg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11-23T21:23:07Z</dcterms:modified>
  <cp:revision>1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