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F63-8F55-460B-BB8A-382643DD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39F8-19D6-4B34-8940-0C097890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6DDC-44EE-4F09-89B8-A5C108EA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386-ABA2-4247-BC29-01F8DFE1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5827-7380-4A63-A524-25A309CF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A293-41AD-4713-A135-F412E266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A7A0-1456-416A-A7C4-6D6A4B90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726-7A04-476A-8E92-9719128F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738-77CD-4AE8-9155-26DC84EA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9E83-2C4E-4F5D-A8ED-E2D67E56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470D-5D71-4D83-BC24-617EE0B1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9F65-C78C-4112-A77C-00A26B97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4863-255A-485F-AC9F-E78BA72E624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62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ylum : Platyhelminth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 : Nematod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der : Strongylid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per family: Strongyloide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mily: Strongylidae</a:t>
            </a:r>
            <a:br>
              <a:rPr sz="4000"/>
            </a:b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Species: - 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S. Edentatus</a:t>
            </a:r>
            <a:br>
              <a:rPr sz="4000"/>
            </a:b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 S. vulgaris</a:t>
            </a:r>
            <a:br>
              <a:rPr sz="4000"/>
            </a:b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. equinu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1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. vulgar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onotic : N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e host : Hors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ctive site :Large intest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: 83-93 um , width : 48-52 u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ctive stage : L3,living nematode larv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gnosis tech. : Fecal flot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gnosis stage : Thin- shelled, Elliptical in sha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6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. edentatus</a:t>
            </a:r>
            <a:br>
              <a:rPr sz="3200"/>
            </a:br>
            <a:r>
              <a:rPr b="0" i="1" lang="ar-SA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</a:t>
            </a: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onotic : N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e host : Hors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ctive site :Large intest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: 78-88 um , width : 48-52 u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ctive stage : L3,living nematode larv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gnosis tech. : Fecal flot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gnosis stage : Thin- shelled, Elliptical in sha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cal.vet.upenn.edu/projects/merial/Nematodes/images/leafcrown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6048720" cy="33717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826920" y="4365720"/>
            <a:ext cx="7483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ongylus vulgaris. Figure 1 DR of anterior ends (from left: Strongylus equinus, S. edentatus, S. vulgaris). AL, outer cr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lamellae; CR, cuticular annulus; IL, inner crown of lamellae; MH, buccal cavity; OM, muscles of oesophagus; ZL, toothli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2862360" y="189000"/>
            <a:ext cx="3419280" cy="4464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3328200" y="5255280"/>
            <a:ext cx="33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rongylus vulgar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.Eg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4-11-23T21:23:07Z</dcterms:modified>
  <cp:revision>10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