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6936-1A55-452C-A426-784250FEB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61A3-4462-409D-8E11-3935C3E56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CD33-E033-4DEF-87D1-0E5A3C81C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F0AA-7F28-433A-AF02-BFAED333D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A04B-689B-40D7-80C3-355FAAC9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E020-D434-456B-80CD-83B16F0FD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402C-417A-4E79-BBEB-7107359CE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D34B-65B9-49EC-BE33-29A95677A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0CA9-E110-4EAB-B6AC-134610D39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A555-9404-4551-82F4-299A1033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94EC-340B-40B2-B4E9-A0FA8E48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A3A1-C038-4380-9943-E85601B6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D41C8-A7E6-4823-8F6D-001BA96DCCD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62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hylum : Platyhelminth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ass : Nematod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rder : Strongylida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per family: Strongyloide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amily: Strongylidae</a:t>
            </a:r>
            <a:br>
              <a:rPr sz="4000"/>
            </a:b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Species: - </a:t>
            </a: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S. Edentatus</a:t>
            </a:r>
            <a:br>
              <a:rPr sz="4000"/>
            </a:b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 S. vulgaris</a:t>
            </a:r>
            <a:br>
              <a:rPr sz="4000"/>
            </a:b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S. equinu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1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. vulgari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oonotic : No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ive host : Hors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ctive site :Large intestin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ngth : 83-93 um , width : 48-52 u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ctive stage : L3,living nematode larv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agnosis tech. : Fecal flot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agnosis stage : Thin- shelled, Elliptical in shap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69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. edentatus</a:t>
            </a:r>
            <a:br>
              <a:rPr sz="3200"/>
            </a:br>
            <a:r>
              <a:rPr b="0" i="1" lang="ar-SA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</a:t>
            </a:r>
            <a:br>
              <a:rPr sz="3200"/>
            </a:b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oonotic : No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ive host : Hors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ctive site :Large intestin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ngth : 78-88 um , width : 48-52 u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ctive stage : L3,living nematode larv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agnosis tech. : Fecal flot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agnosis stage : Thin- shelled, Elliptical in shap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cal.vet.upenn.edu/projects/merial/Nematodes/images/leafcrown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"/>
          <p:cNvPicPr/>
          <p:nvPr/>
        </p:nvPicPr>
        <p:blipFill>
          <a:blip r:embed="rId1"/>
          <a:stretch/>
        </p:blipFill>
        <p:spPr>
          <a:xfrm>
            <a:off x="1547640" y="549360"/>
            <a:ext cx="6048720" cy="33717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6"/>
          <p:cNvSpPr/>
          <p:nvPr/>
        </p:nvSpPr>
        <p:spPr>
          <a:xfrm>
            <a:off x="826920" y="4365720"/>
            <a:ext cx="7483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rongylus vulgaris. Figure 1 DR of anterior ends (from left: Strongylus equinus, S. edentatus, S. vulgaris). AL, outer cr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f lamellae; CR, cuticular annulus; IL, inner crown of lamellae; MH, buccal cavity; OM, muscles of oesophagus; ZL, toothli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ructure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2862360" y="189000"/>
            <a:ext cx="3419280" cy="4464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3328200" y="5255280"/>
            <a:ext cx="33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trongylus vulgari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.Eg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4-11-23T21:23:07Z</dcterms:modified>
  <cp:revision>10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