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7F4-22B8-4329-803D-477C8543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F3D-4014-467B-AA1C-1783DDDD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073-E53D-4B30-BC80-64ADBBCE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27E-9CC9-4E9C-BB7D-F827AC8A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C16-941A-4609-AE78-84FFA3E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61D-A681-43EA-8536-76A0D619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6B0-F310-4E18-A149-557EB3EF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1D8-4C89-42EA-BFC0-37C94E80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798-5EF9-43E1-8BFD-940E0D9E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B6F-7E14-42E9-ADAE-7B616BC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BD8-881C-4C04-966E-B5C9B19B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74C-9567-4106-8D33-3ACD282D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E46-47B2-4AD1-9DC4-180902872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444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istosoma japonic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um : ovoid shape with rudimentary s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S. japonicum egg"/>
          <p:cNvPicPr/>
          <p:nvPr/>
        </p:nvPicPr>
        <p:blipFill>
          <a:blip r:embed="rId1"/>
          <a:stretch/>
        </p:blipFill>
        <p:spPr>
          <a:xfrm>
            <a:off x="1692360" y="1231920"/>
            <a:ext cx="56163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icrocoelium dendritic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lancet liver fluke)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icrocoelium dendritic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alled the lancet liver fluke because of its characteristic shape. Unlike most other digenet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matodes whose life cycles involve aquatic or marine hosts, the life cycle of this parasite is completely terrestri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lving a terrestrial snail as the first intermediate host and an ant as the second intermediate host. The definitive hos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includes sheep, cattle, goats, pigs, and humans (rarely), is infected when it ingests ants that are infected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cercariae (view diagram of the life cycle). In the definitive host the parasite migrates into the bile duct and cau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ology similar to that caus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onorchis sinen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is parasite is distributed throughout much of Europe and Asia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is also found in parts of North America and Austral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1708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541152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crocoelium dendritic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dult, stained whole mount; approximate size = 9 mm in length. Click here to view a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is parasite in which the internal organs are label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530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crocoelium dendritic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 : fluke is 6-10 mm long and 1.5-2.5 mm wide with oral and ventral suck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18" descr="Dicrocoelium dentriticum"/>
          <p:cNvPicPr/>
          <p:nvPr/>
        </p:nvPicPr>
        <p:blipFill>
          <a:blip r:embed="rId1"/>
          <a:stretch/>
        </p:blipFill>
        <p:spPr>
          <a:xfrm>
            <a:off x="826920" y="609480"/>
            <a:ext cx="72741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15772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istosoma japon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17" descr="FIGjapon04"/>
          <p:cNvPicPr/>
          <p:nvPr/>
        </p:nvPicPr>
        <p:blipFill>
          <a:blip r:embed="rId1"/>
          <a:stretch/>
        </p:blipFill>
        <p:spPr>
          <a:xfrm>
            <a:off x="1835280" y="549360"/>
            <a:ext cx="5329080" cy="446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57474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um : measure 70-100 by 50-80 µm. oval sh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15772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istosoma haematob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S. haematobium egg"/>
          <p:cNvPicPr/>
          <p:nvPr/>
        </p:nvPicPr>
        <p:blipFill>
          <a:blip r:embed="rId1"/>
          <a:stretch/>
        </p:blipFill>
        <p:spPr>
          <a:xfrm>
            <a:off x="1763640" y="476280"/>
            <a:ext cx="5545080" cy="4321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7567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000000"/>
              </a:buClr>
              <a:buFont typeface="Times New Roman"/>
              <a:buAutoNum type="alphaLcPeriod"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um : ovoid shape with terminal s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22900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istosoma intercal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um : oval shape with unequal polars with terminal sp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16" descr="Schistosoma intercalatum egg"/>
          <p:cNvPicPr/>
          <p:nvPr/>
        </p:nvPicPr>
        <p:blipFill>
          <a:blip r:embed="rId1"/>
          <a:stretch/>
        </p:blipFill>
        <p:spPr>
          <a:xfrm>
            <a:off x="1835280" y="620640"/>
            <a:ext cx="547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53002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istosoma bo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caria : forked tail cercaria with orall and ventral suc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14" descr="Schsitosoma bovis  -"/>
          <p:cNvPicPr/>
          <p:nvPr/>
        </p:nvPicPr>
        <p:blipFill>
          <a:blip r:embed="rId1"/>
          <a:stretch/>
        </p:blipFill>
        <p:spPr>
          <a:xfrm>
            <a:off x="1763640" y="620640"/>
            <a:ext cx="56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508428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histosoma matthee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 : a nematode like 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15" descr="schistosoma mattheei"/>
          <p:cNvPicPr/>
          <p:nvPr/>
        </p:nvPicPr>
        <p:blipFill>
          <a:blip r:embed="rId1"/>
          <a:srcRect l="2327" t="1829" r="8192" b="12924"/>
          <a:stretch/>
        </p:blipFill>
        <p:spPr>
          <a:xfrm>
            <a:off x="1042920" y="620640"/>
            <a:ext cx="6985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522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istosoma manso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s copulation : the female is thin and longer than the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S. mansoni adults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5373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strodiscus aegyptiac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val stages : The egg is oval and measures 131-139 by 87-90 µ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19" descr="gastrodiscus aegyptiacus"/>
          <p:cNvPicPr/>
          <p:nvPr/>
        </p:nvPicPr>
        <p:blipFill>
          <a:blip r:embed="rId1"/>
          <a:stretch/>
        </p:blipFill>
        <p:spPr>
          <a:xfrm>
            <a:off x="1692360" y="692280"/>
            <a:ext cx="5759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chistosom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chistosomes or blood flukes; schistosomiasi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The schistosomes are unusual trematodes in that the sexes are separate (they are dioecious), they reside in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sels of the definitive host, and there are no second intermediate hosts in their life cycles. There are a number of spec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chistosomes that can infect humans, but most human infections are caused by one of the three following species: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chistosoma manso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haematob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japonic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Considering the distributions of all three species, schistosomiasi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d throughout almost all of Africa, parts of southeast Asia, parts of northwest South America, and some islands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ibbean Sea. It is estimated that approximately 200,000,000 million people are infected with schistosomes, resul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,000,000 deaths each year. The approximate geographic distribution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manson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japonic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 he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cycles of the three primary species of human schistosomes are similar. The male and female worms average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mm in length and live in the veins of the abdominal cavity. Here they mate and the females produce eggs. The adul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ms can live 20-30 years and, depending on the species, and each female can produce several hundred eggs each 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s escape from the body by penetrating the walls of the veins and small intestine or urinary bladder, and they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ed in the feces or urine. The eggs hatch in water, the first intermediate host (a snail) is infected, and cercaria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ated from the snails. When humans come in contact with water containing cercariae, the cercariae penetrate their sk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y become infected. This occurs when the humans swim, bath, wash clothes, etc., in rivers and streams. After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cariae penetrate the skin the immature worms enter the circulatory system and migrate to the veins of the abdomi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, and in about six weeks they reach sexual maturity (view diagram of the life cycle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eggs of the schistosomes penetrate the walls of the veins and the small intestine or urinary bladder, they cause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amount of damage to the tissues. The tissues hemorrhage, so blood often appears in the urine or feces. A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n progresses the tissues become inflamed and fibrotic and unable to function normally. Many of the eggs produc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female worms do not escape from the veins, but are swept up in the circulatory system and deposited in the host'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. The liver responds to the presence of the eggs by encapsulating them in a fibrous granuloma. The damage to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intestine (or urinary bladder) and liver accumulate over time and result in a chronic, disabling disease that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ith most trematode infections, diagnosis most often depends on finding the parasite's eggs. In the case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aematob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ggs are most often recovered in the urine; eggs of the other two species are most often recovered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0-09-10T08:07:07Z</dcterms:modified>
  <cp:revision>1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