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32.wmf" ContentType="image/x-wmf"/>
  <Override PartName="/ppt/media/image20.jpeg" ContentType="image/jpeg"/>
  <Override PartName="/ppt/media/image29.wmf" ContentType="image/x-wmf"/>
  <Override PartName="/ppt/media/image1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30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34.jpeg" ContentType="image/jpeg"/>
  <Override PartName="/ppt/media/image40.wmf" ContentType="image/x-wmf"/>
  <Override PartName="/ppt/media/image28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4.jpeg" ContentType="image/jpeg"/>
  <Override PartName="/ppt/media/image8.wmf" ContentType="image/x-wmf"/>
  <Override PartName="/ppt/media/image39.jpeg" ContentType="image/jpeg"/>
  <Override PartName="/ppt/media/image14.jpeg" ContentType="image/jpeg"/>
  <Override PartName="/ppt/media/image41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5.png" ContentType="image/png"/>
  <Override PartName="/ppt/media/image4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F620-6EA4-47B8-B220-BB35E67A83D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9557-62DC-4E01-8851-C4826B9C02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r" rtl="1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Protoscolices with double row hooklets and calcareous corpuscle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来源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http://www.medicine.cmu.ac.th/dept/parasite/official/cestode/frame_t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743F-5690-4A65-BFAB-D24CF3AF76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r" rtl="1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Protoscolices with double row hooklets and calcareous corpuscle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来源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http://www.medicine.cmu.ac.th/dept/parasite/official/cestode/frame_t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ACAE-5BE9-4E49-A252-AD2D581D18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"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Hydatid sand"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 Fluid aspirated from a hydatid cyst will show multiple protoscolices (size approximately 10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µ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m), each of which has typical hooklet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 The protoscolices are normally invaginated (left), and evaginate (middle, then right) when put in saline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 Image contributed by Georgia Division of Public Health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来源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http://www.dpd.cdc.gov/DPDx/HTML/ImageLibrary/Echinococcosis_il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6892-31BE-42E6-AC78-2068501DC3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来源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http://www.medicine.cmu.ac.th/dept/parasite/official/cestode/frame_t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9D6B-2600-492E-8577-6C1CA50C5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0DF9-94B4-4582-8C85-8854BDCD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E0B4-DE20-46F4-9707-2F2145F87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2408-C1BE-4515-8DAC-875C3C1F2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0786-F2AA-4E51-844D-AB1A5F48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7090-E6E5-4ADD-BEC6-C99FB9A2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71E6-15F5-4164-86E7-B81CC12A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0141-76A2-440D-AA56-1197871C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C597-81D8-42C4-8D4F-103E08CF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36AE-BBF5-43CD-B1FE-E25A5D7D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19F6-3656-4D16-AA42-F66CEEB2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EBDD-ECEA-4222-AADD-01BC9907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CDE1-3D72-4A37-A709-94784A75402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hinococcus granulos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Kingdom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imal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hylum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latyhelminth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ass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estod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rder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yclophyllide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mily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eniida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nus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chinococcu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pecies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. granulosu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inomial na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chinococcus granulosu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hinococcus granulosus ad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J:\ecchi\main_files\adult2.jpg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1" descr="PIC_0030"/>
          <p:cNvPicPr/>
          <p:nvPr/>
        </p:nvPicPr>
        <p:blipFill>
          <a:blip r:embed="rId1"/>
          <a:srcRect l="-2343" t="-3123" r="-2343" b="-3123"/>
          <a:stretch/>
        </p:blipFill>
        <p:spPr>
          <a:xfrm>
            <a:off x="0" y="142920"/>
            <a:ext cx="90010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0" y="-35712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1619280" y="5008320"/>
            <a:ext cx="60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chinococcus granulosu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the small, white objects) in the small intestine of a dog. Although these tapeworms are quit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A973HVT"/>
          <p:cNvPicPr/>
          <p:nvPr/>
        </p:nvPicPr>
        <p:blipFill>
          <a:blip r:embed="rId1"/>
          <a:stretch/>
        </p:blipFill>
        <p:spPr>
          <a:xfrm>
            <a:off x="6156360" y="333360"/>
            <a:ext cx="1992240" cy="3124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AT6FNXQ"/>
          <p:cNvPicPr/>
          <p:nvPr/>
        </p:nvPicPr>
        <p:blipFill>
          <a:blip r:embed="rId2"/>
          <a:stretch/>
        </p:blipFill>
        <p:spPr>
          <a:xfrm>
            <a:off x="3962520" y="533520"/>
            <a:ext cx="1657080" cy="2546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A2F3STO"/>
          <p:cNvPicPr/>
          <p:nvPr/>
        </p:nvPicPr>
        <p:blipFill>
          <a:blip r:embed="rId3"/>
          <a:stretch/>
        </p:blipFill>
        <p:spPr>
          <a:xfrm>
            <a:off x="6156360" y="3645000"/>
            <a:ext cx="1828800" cy="2743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CA6DY5G9"/>
          <p:cNvPicPr/>
          <p:nvPr/>
        </p:nvPicPr>
        <p:blipFill>
          <a:blip r:embed="rId4"/>
          <a:stretch/>
        </p:blipFill>
        <p:spPr>
          <a:xfrm>
            <a:off x="3851280" y="3573360"/>
            <a:ext cx="2046240" cy="2210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CA97394W"/>
          <p:cNvPicPr/>
          <p:nvPr/>
        </p:nvPicPr>
        <p:blipFill>
          <a:blip r:embed="rId5"/>
          <a:stretch/>
        </p:blipFill>
        <p:spPr>
          <a:xfrm>
            <a:off x="1763640" y="404640"/>
            <a:ext cx="1505160" cy="3416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CANP03T9"/>
          <p:cNvPicPr/>
          <p:nvPr/>
        </p:nvPicPr>
        <p:blipFill>
          <a:blip r:embed="rId6"/>
          <a:stretch/>
        </p:blipFill>
        <p:spPr>
          <a:xfrm>
            <a:off x="971640" y="4437000"/>
            <a:ext cx="2736720" cy="9828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/>
          <p:cNvSpPr/>
          <p:nvPr/>
        </p:nvSpPr>
        <p:spPr>
          <a:xfrm>
            <a:off x="1523880" y="6019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chinococcus granulosu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ult wor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WINNT\Profiles\dakang\桌面\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0" y="5638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toscoleces with double row hooklet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WINNT\Profiles\dakang\桌面\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4421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3"/>
          <p:cNvSpPr/>
          <p:nvPr/>
        </p:nvSpPr>
        <p:spPr>
          <a:xfrm>
            <a:off x="3352680" y="542916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toscole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images(17)"/>
          <p:cNvPicPr/>
          <p:nvPr/>
        </p:nvPicPr>
        <p:blipFill>
          <a:blip r:embed="rId1"/>
          <a:stretch/>
        </p:blipFill>
        <p:spPr>
          <a:xfrm>
            <a:off x="6019920" y="2952720"/>
            <a:ext cx="2463840" cy="184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images(3)"/>
          <p:cNvPicPr/>
          <p:nvPr/>
        </p:nvPicPr>
        <p:blipFill>
          <a:blip r:embed="rId2"/>
          <a:stretch/>
        </p:blipFill>
        <p:spPr>
          <a:xfrm>
            <a:off x="3352680" y="3002040"/>
            <a:ext cx="2254320" cy="1646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images(4)"/>
          <p:cNvPicPr/>
          <p:nvPr/>
        </p:nvPicPr>
        <p:blipFill>
          <a:blip r:embed="rId3"/>
          <a:stretch/>
        </p:blipFill>
        <p:spPr>
          <a:xfrm>
            <a:off x="3429000" y="944640"/>
            <a:ext cx="2254320" cy="16462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1219320" y="50292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chinococcus granulos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toscol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CAAVC927"/>
          <p:cNvPicPr/>
          <p:nvPr/>
        </p:nvPicPr>
        <p:blipFill>
          <a:blip r:embed="rId4"/>
          <a:stretch/>
        </p:blipFill>
        <p:spPr>
          <a:xfrm>
            <a:off x="6400800" y="533520"/>
            <a:ext cx="1542960" cy="2209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CAYNC5IF"/>
          <p:cNvPicPr/>
          <p:nvPr/>
        </p:nvPicPr>
        <p:blipFill>
          <a:blip r:embed="rId5"/>
          <a:stretch/>
        </p:blipFill>
        <p:spPr>
          <a:xfrm>
            <a:off x="609480" y="685800"/>
            <a:ext cx="2286000" cy="2138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CAQ8UAHX"/>
          <p:cNvPicPr/>
          <p:nvPr/>
        </p:nvPicPr>
        <p:blipFill>
          <a:blip r:embed="rId6"/>
          <a:stretch/>
        </p:blipFill>
        <p:spPr>
          <a:xfrm>
            <a:off x="762120" y="3048120"/>
            <a:ext cx="205740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cosphere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chinococcus granulo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J:\ecchi\Echinococcus_granulosus_files\220px-Echinococcus_granulosus_scolex.jpg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cosphe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J:\ecchi\overview_files\21658_580_360.jpg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4292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osphere of Echinococcus granulos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J:\ecchi\images_files\images_002.jpg"/>
          <p:cNvPicPr/>
          <p:nvPr/>
        </p:nvPicPr>
        <p:blipFill>
          <a:blip r:embed="rId2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ult wor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small intestine of the dog and other carniv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va (hydatid cy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tissue of human being, sheep, horse, pig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324000" y="5238360"/>
            <a:ext cx="859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section of a hydatid cyst at low power. The cyst consists of a thick outer layer (*), several thinner internal layers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y protoscolices. The protoscolices are often called "hydatid san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673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2484360" y="5596920"/>
            <a:ext cx="405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igher magnification of the protoscolice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WINNT\Profiles\dakang\桌面\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3124080" y="5572080"/>
            <a:ext cx="251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ydatid s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1692360" y="537336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 egg of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chinococcus granulosu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; these eggs are virtually indistinguishable from other, closely related specie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peworms such as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aeni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A775SQL"/>
          <p:cNvPicPr/>
          <p:nvPr/>
        </p:nvPicPr>
        <p:blipFill>
          <a:blip r:embed="rId1"/>
          <a:stretch/>
        </p:blipFill>
        <p:spPr>
          <a:xfrm>
            <a:off x="685800" y="2819520"/>
            <a:ext cx="2908440" cy="2192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CAA7GPQN"/>
          <p:cNvPicPr/>
          <p:nvPr/>
        </p:nvPicPr>
        <p:blipFill>
          <a:blip r:embed="rId2"/>
          <a:stretch/>
        </p:blipFill>
        <p:spPr>
          <a:xfrm>
            <a:off x="5562720" y="762120"/>
            <a:ext cx="2450880" cy="21254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5029200" y="3429000"/>
            <a:ext cx="32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chinococcus granulosu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ult attached to the intestinal wall of the d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28600" y="51055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chinococcus granulosu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g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6" descr="CAX73EA9"/>
          <p:cNvPicPr/>
          <p:nvPr/>
        </p:nvPicPr>
        <p:blipFill>
          <a:blip r:embed="rId3"/>
          <a:stretch/>
        </p:blipFill>
        <p:spPr>
          <a:xfrm>
            <a:off x="762120" y="496800"/>
            <a:ext cx="28256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ature w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J:\ecchi\images_files\images_004.jpg"/>
          <p:cNvPicPr/>
          <p:nvPr/>
        </p:nvPicPr>
        <p:blipFill>
          <a:blip r:embed="rId2"/>
          <a:stretch/>
        </p:blipFill>
        <p:spPr>
          <a:xfrm>
            <a:off x="0" y="1500120"/>
            <a:ext cx="91440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cted liver in Echinococcus granulosus ad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J:\ecchi\images_files\images_007.jpg"/>
          <p:cNvPicPr/>
          <p:nvPr/>
        </p:nvPicPr>
        <p:blipFill>
          <a:blip r:embed="rId2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ver and l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J:\ecchi\images_files\images_012.jpg"/>
          <p:cNvPicPr/>
          <p:nvPr/>
        </p:nvPicPr>
        <p:blipFill>
          <a:blip r:embed="rId2"/>
          <a:stretch/>
        </p:blipFill>
        <p:spPr>
          <a:xfrm>
            <a:off x="0" y="1571760"/>
            <a:ext cx="9144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cted l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J:\ecchi\main_files\liver1.jpg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48578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0" y="500868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hydatid cyst (*) in the cranium of a child (the ruler at the top measures 6 inches long, and the child's brain is below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ydatid cyst). This infection resulted in the child's deat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section of a hydatid cyst at low power. The cyst consists of a thick outer layer (*), several thinner internal layers,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ny protoscolices. The protoscolices are often called "hydatid san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905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images(18)"/>
          <p:cNvPicPr/>
          <p:nvPr/>
        </p:nvPicPr>
        <p:blipFill>
          <a:blip r:embed="rId1"/>
          <a:stretch/>
        </p:blipFill>
        <p:spPr>
          <a:xfrm>
            <a:off x="1523880" y="533520"/>
            <a:ext cx="2673360" cy="2174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images(8)"/>
          <p:cNvPicPr/>
          <p:nvPr/>
        </p:nvPicPr>
        <p:blipFill>
          <a:blip r:embed="rId2"/>
          <a:stretch/>
        </p:blipFill>
        <p:spPr>
          <a:xfrm>
            <a:off x="5181480" y="609480"/>
            <a:ext cx="3022560" cy="2051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images(5)"/>
          <p:cNvPicPr/>
          <p:nvPr/>
        </p:nvPicPr>
        <p:blipFill>
          <a:blip r:embed="rId3"/>
          <a:stretch/>
        </p:blipFill>
        <p:spPr>
          <a:xfrm>
            <a:off x="5207040" y="3048120"/>
            <a:ext cx="2793960" cy="1877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images(7)"/>
          <p:cNvPicPr/>
          <p:nvPr/>
        </p:nvPicPr>
        <p:blipFill>
          <a:blip r:embed="rId4"/>
          <a:stretch/>
        </p:blipFill>
        <p:spPr>
          <a:xfrm>
            <a:off x="1523880" y="3048120"/>
            <a:ext cx="2718000" cy="18828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1295280" y="51814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chinococcus granulos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ydatid c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J:\ecchi\main_files\Echinococcus_LifeCycle.gif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WINNT\Profiles\dakang\桌面\12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56484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1447920" y="563868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ult of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chinococcus granulos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hinococcus granulosus ad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3" descr=""/>
          <p:cNvPicPr/>
          <p:nvPr/>
        </p:nvPicPr>
        <p:blipFill>
          <a:blip r:embed="rId2"/>
          <a:stretch/>
        </p:blipFill>
        <p:spPr>
          <a:xfrm>
            <a:off x="0" y="1500120"/>
            <a:ext cx="91440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hinococcus granulosus ad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J:\ecchi\images_files\images_019.jpg"/>
          <p:cNvPicPr/>
          <p:nvPr/>
        </p:nvPicPr>
        <p:blipFill>
          <a:blip r:embed="rId2"/>
          <a:stretch/>
        </p:blipFill>
        <p:spPr>
          <a:xfrm>
            <a:off x="0" y="1500120"/>
            <a:ext cx="91440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hinococcus granulosus ad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J:\ecchi\images_files\images_018.jpg"/>
          <p:cNvPicPr/>
          <p:nvPr/>
        </p:nvPicPr>
        <p:blipFill>
          <a:blip r:embed="rId2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0" y="5573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 adult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chinococcus granulosu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; note that the tapeworm's body (strobila) consists of only three proglottids andmeasures only about 5 mm in leng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5-02-16T21:58:05Z</dcterms:modified>
  <cp:revision>10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