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9E0-D37E-466F-8B3F-1BCFB9A1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1F8-6EFC-4B80-B14D-4D2B09CA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E43-632A-415F-BE54-F9675C1C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BD2-8C24-4997-ACE3-D492D509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B3F4-6F38-41B2-BABF-DD2EC431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5D40-6392-4D44-8BCA-8F66502A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B267-98D4-430C-9AF3-403A37F6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B3D0-B5AB-41CA-A431-453D78EE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825F-3473-4518-94D3-5BECB97E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AC05-1F67-4258-ABA2-324C3ABB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3884-9EFD-4FDC-8263-F9615CF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58B-E730-4C38-B6A4-804C96D5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E7DF-6AC8-4C44-943B-D60D3D90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10A2-BEF3-4671-8D5C-29565588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F239-CAC0-4523-8E59-F39468F1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24E9-6452-4A90-9D4E-EB8B4030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2F4-FF1E-40A7-9721-B20A7D1A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3B8-9C26-4964-B4FF-1164AF2E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22A-99B5-4D6A-A9B2-7C31C10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BE7-AB8B-4FE2-9E41-46B6CBDB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19B-02B9-4CBC-B515-E2BA5612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21B-CB94-4602-8C91-57BDF9D7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EAD-499E-4602-B113-4FC098DE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038-6592-4AC8-B0C0-50D91893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A7F6-EE20-4BFF-84F3-332CE86456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02E8-B676-4C6F-B045-A8ABBF076F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10199"/>
                </a:solidFill>
                <a:latin typeface="Arial"/>
              </a:rPr>
              <a:t>علم الأنسجة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النسيج العضلي و النسيج العصب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. العضلات القلبية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Cardiac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وجد هذه العضلات </a:t>
            </a:r>
            <a:r>
              <a:rPr b="0" lang="ar-SA" sz="3200" spc="-1" strike="noStrike">
                <a:solidFill>
                  <a:srgbClr val="cc0066"/>
                </a:solidFill>
                <a:latin typeface="Arial"/>
              </a:rPr>
              <a:t>في القلب فقط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تتميز بإنقباضاتها المنتظمة التي تحدث دقات القل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ظهر هذه الألياف في القطاع الطولي متفرعة ومتصلة بعضها ببعض لتكون تركيباً شبكياً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تركب الألياف من مدمج خلوي ، والأنوية في هذه الألياف تقع في وسط الليفة ، كما تبدو مخططة مستعرضة داكنة ه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قراص البينية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ntercalated disc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مثل مكان إتصال كل ليفة بالليفة المجاورة ل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رابعاً : الأنسجة العصبية  </a:t>
            </a:r>
            <a:br>
              <a:rPr sz="3200"/>
            </a:b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굴림"/>
              </a:rPr>
              <a:t>NERVOUS TISSUE</a:t>
            </a:r>
            <a:br>
              <a:rPr sz="40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ركب هذه الأنسجة من خـلايا تخصصت في إستقبال المؤثرات الخارجية والداخلي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نقل هذه المؤثرات بين أجزاء الجسم المختلفة 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لذا فهي تعد مسئولة عن تنظيم الأنشطة المختلفة لأعضاء الجسم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نشأ الأنسجة العصبية من </a:t>
            </a:r>
            <a:r>
              <a:rPr b="0" lang="ar-SA" sz="3200" spc="-1" strike="noStrike">
                <a:solidFill>
                  <a:srgbClr val="669900"/>
                </a:solidFill>
                <a:latin typeface="Arial"/>
              </a:rPr>
              <a:t>طبقة الإكتودر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تتميز خلايا الأنسجة العصبية إلى نوعين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cc00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خلايا عصب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كتملة التكوين لا تتكاثر بعد ذلك و لاتحتوي على أجسام مركز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خلايا الغراء العصبي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eurogl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ي تربط الخلايا العصبية بعضها ببعض وتحميها وتمدها بالغذاء والأيونات اللازمة لاداء وظيفتها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بنيان الخلية العصبية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d60093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كو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خلية العصبية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nerve cell or neur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جزأين رئيسيين هما جسم 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الخلية العص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عدد من الزوائد السيتوبلازمة التي تتفرع منه ، وتشمل هذه الزوائد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عدد من الزوائد الصغيرة المتفرعة ، و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زوائد الشجيري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ndrit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هي التي تستقبل المؤثرات وتنقل السيالات العصبية إلى جسم الخلية العصب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تكملة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زائدة واحدة طويلة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محور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  <a:ea typeface="굴림"/>
              </a:rPr>
              <a:t>axon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متد من جسم الخلية العصبية وتنتهي بعدد من التفرعات الصغيرة التي 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تفرعات الإنتهائ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굴림"/>
              </a:rPr>
              <a:t>terminal arborization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ينقل المحور السيالات العصبية من جسم الخلية العصبية إلى خلية أخرى أو إلى خلية أو نسيج لأداء وظيفة محددة . وتتجمع محاور الخلايا العصبية مع بعضها البعض لتكون حزماً تسم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عصاب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er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6699"/>
                </a:solidFill>
                <a:latin typeface="Arial"/>
              </a:rPr>
              <a:t>ثالثاً : الأنسجة العضلية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Arial"/>
                <a:ea typeface="굴림"/>
              </a:rPr>
              <a:t>THE MUSCULAR TISSU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كونَ هذه الأنسجة عضلات الجسم وهي تتركب من وحدات بسيط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مى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خلايا أو الألياف التي تمتاز بقدرتها على الإنقباض والإرتخاء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ختلف الخلايا العضلية عن بقية خلايا الجسم في أن معظم السيتوبلازمة فيها متحررة إلى خيوط متقبضة ، و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لييف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ي تجري موازية للمحور الطولي لليف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ا بقية السيتوبلازمة فت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ساركوبلاز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وجد ثلاثة أنواع من الأنسجة العضلية هي: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99"/>
                </a:solidFill>
                <a:latin typeface="Arial"/>
              </a:rPr>
              <a:t>غير 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SA" sz="3200" spc="-1" strike="noStrike">
                <a:solidFill>
                  <a:srgbClr val="ffccff"/>
                </a:solidFill>
                <a:latin typeface="Arial"/>
              </a:rPr>
              <a:t>المخطط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ff99"/>
                </a:solidFill>
                <a:latin typeface="Arial"/>
              </a:rPr>
              <a:t>القل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60093"/>
                </a:solidFill>
                <a:latin typeface="Arial"/>
              </a:rPr>
              <a:t>الأعصاب </a:t>
            </a: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ner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جد أجسام الخلايا العصبية في الجهاز العصبي المركزي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دة السنجابية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grey matt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 المخ والنخاع الشوكي ، كما توجد في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عقد العصبية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rve gangli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تخرج الأعصاب من هذه الأعضاء لتمتد إلى أنسجة وأعضاء الجسم المختلف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10199"/>
                </a:solidFill>
                <a:latin typeface="Arial"/>
              </a:rPr>
              <a:t>شكراً لحسن الإستماع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199"/>
                </a:solidFill>
                <a:latin typeface="Arial"/>
              </a:rPr>
              <a:t>هل هناك أي سؤال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1 . 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العضلات غير المخططة أو المساء</a:t>
            </a:r>
            <a:r>
              <a:rPr b="1" lang="ar-SA" sz="40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0199"/>
                </a:solidFill>
                <a:latin typeface="Arial"/>
              </a:rPr>
              <a:t>Unstriated or Smooth Musc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غير الإرادية الموجودة في أجزاء الجسم التي لا تخضع في حركتها لإرادة الحيوان ، </a:t>
            </a:r>
            <a:r>
              <a:rPr b="0" lang="ar-SA" sz="3200" spc="-1" strike="noStrike">
                <a:solidFill>
                  <a:srgbClr val="ffcc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ffcc"/>
                </a:solidFill>
                <a:latin typeface="Arial"/>
              </a:rPr>
              <a:t>والأوعية الدمو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والجهاز التناسل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والجهاز التنفس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غير المخططة رفيعة ممدوة و مدببة الطرفين ، وتحتوي بداخلها على عد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كمية قليلة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ساركوبلازم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نوا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يضية في الوسط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10199"/>
                </a:solidFill>
                <a:latin typeface="Arial"/>
              </a:rPr>
              <a:t>أماكن تواجد العضلة الملسا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قد تكون الألياف غير المخططة منفردة كما في الجلد ، أو توجد موزعة بشكل شبكي كما في الأعضاء التنفس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في أعضاء أخرى </a:t>
            </a:r>
            <a:r>
              <a:rPr b="0" lang="ar-SA" sz="3200" spc="-1" strike="noStrike">
                <a:solidFill>
                  <a:srgbClr val="ff66ff"/>
                </a:solidFill>
                <a:latin typeface="Arial"/>
              </a:rPr>
              <a:t>كالقناة الهضم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كونَ هذه الألياف موازية للمحور الطولي للقناة الهضمية ، وطبقة دائرية للداخل تمتد أليافها موازية لمحيط لمحيط القناة الهضم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7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66"/>
                </a:solidFill>
                <a:latin typeface="Arial"/>
              </a:rPr>
              <a:t>العضلات المخططة أو الهيكلية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굴림"/>
              </a:rPr>
              <a:t>Striated or Skeletal Muscle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  <a:ea typeface="굴림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هي العضلات التي ترتبط بالهيكل العظمي ، وهي عضلات إرادية ، فهي المسئولة مثلا عن حركة الأطراف والرأس والفكوك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هي تكونَ الجزء الأكبر مما يسمى بلحم الحيوا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ليفة العضلية الإرادية أسطوانية الشكل ، ويغلف كل ليفة غشاء رقيق يعرف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الصفيحة اللحمية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굴림"/>
              </a:rPr>
              <a:t>sarcolemma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، ويوجد بداخلها عدد كبير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نوي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nucle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افيَة الموضع كما في حالة الثدييات ، أو منتشرة بغير نظام كما في البرمائيات ، ولذلك تعتبر الليف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مدمجاً خلوياً</a:t>
            </a:r>
            <a:r>
              <a:rPr b="1" lang="en-US" sz="3200" spc="-1" strike="noStrike">
                <a:solidFill>
                  <a:srgbClr val="cccc00"/>
                </a:solidFill>
                <a:latin typeface="Arial"/>
                <a:ea typeface="굴림"/>
              </a:rPr>
              <a:t>syncytin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66"/>
                </a:solidFill>
                <a:latin typeface="Arial"/>
              </a:rPr>
              <a:t>العضلات المخطط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توي الليفة العضلية المخططة على العديد م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يفات العضلية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myofibril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عل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أشرطة معتمة وأشرطة مضيئة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ar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ght ban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بالتبادل ، ولذلك تبدو مخطط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أظهر الميكروسكوب الإلكتروني أن الليفة العضلية تتركب من خيوط بروتينية سميك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ايوسين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myosin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أخرى رفيعة من ماد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كتين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actin</a:t>
            </a:r>
            <a:r>
              <a:rPr b="0" lang="ar-SA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 أن هذه الخيوط مرتبة بنظام خا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رتبط الألياف العضلية المخططة بعضها  ببعض عادة بنسيج ضام لتكون حزماً ، و ترتبـط هذه الحزم بدورها بعضها ببعض بنسيج ضام لتكون عضلات الجسم المعروفة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6:09:04Z</dcterms:created>
  <dc:creator> Dr.Maha Daghestani</dc:creator>
  <dc:description/>
  <dc:language>en-US</dc:language>
  <cp:lastModifiedBy> Dr.Maha Daghestani</cp:lastModifiedBy>
  <dcterms:modified xsi:type="dcterms:W3CDTF">2007-03-04T18:03:48Z</dcterms:modified>
  <cp:revision>16</cp:revision>
  <dc:subject/>
  <dc:title>علم الأنسجة</dc:title>
</cp:coreProperties>
</file>