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OSHIBA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12-24T20:26:01.49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awesome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etch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CC856734-6C7C-417E-87F6-4CA2FDF79143}" type="slidenum">
              <a:rPr b="0" lang="ar-SA" sz="1400" spc="-1" strike="noStrike">
                <a:solidFill>
                  <a:srgbClr val="00005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awesome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4" descr="etch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1916CB8D-55BC-4717-AA4B-E3C12C210EAE}" type="slidenum">
              <a:rPr b="0" lang="ar-SA" sz="1400" spc="-1" strike="noStrike">
                <a:solidFill>
                  <a:srgbClr val="000058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1981080"/>
            <a:ext cx="7315200" cy="1371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43d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 rtl="1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مضامين فلسفية في النظرية الكمية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143000" y="2133720"/>
            <a:ext cx="7010280" cy="411480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Times New Roman"/>
                <a:cs typeface="Andalus"/>
              </a:rPr>
              <a:t>أحمد محمود عبد اللطي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سم الفيزياء / كلية العلوم / جامعة كربلا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8" descr="untitled"/>
          <p:cNvPicPr/>
          <p:nvPr/>
        </p:nvPicPr>
        <p:blipFill>
          <a:blip r:embed="rId1"/>
          <a:stretch/>
        </p:blipFill>
        <p:spPr>
          <a:xfrm>
            <a:off x="8001000" y="228600"/>
            <a:ext cx="903240" cy="94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logo physics1New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إستخدام شرودنكر لفرضية دي بروكلي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26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لوصف حركة الالكترون حول نواة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الهيدروجين و ايجاد مفهوم الدالة الموجي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التفسير الإحصائي للدالة الموجية من قبل ماكس بورن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مبدأ اللدقة لهايزنبرك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27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مبدأ الإستبعاد لباولي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دمج الميكانيك الكمي مع النظرية النسبية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28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من قبل ديراك والتنبؤ بوجود البوزترون من منطلق نظري صرف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مبادئ و مفاهيم النظرية الكمية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مبدأ التكميلي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omplementary Principle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مبدأ معرفي و نهجي صاغه نيلز بور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38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لتفسير و حل الإشكلايات المرتبطة 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بثنائية الدقيقة – الموج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فحوى هذا المبدأ إن الوجهين اللذين تظهر بها الجسيمات الصغرى يكمل أحدهما الآخر</a:t>
            </a: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مبدأ التطابق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orrespondence Principle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صاغ هذا المبدأ نيلز بور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20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بصدد العلاقة بين الفيزياء الكلاسيكية و الفيزياء الكمي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ea typeface="Arial"/>
              </a:rPr>
              <a:t>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إن قوانين الفيزياء الكمية و معادلاتها تؤول إلى قوانين الفيزياء الكلاسيكية عند الغاية التي يقترب بها ثابت بلانك من الصفر</a:t>
            </a: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الحتمي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Determinism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الحتمية مفهوم فلسفي يعبر عن الرابطة الموضوعية و الإشتراط المتبادل لكل الأشياء و العمليات في الطبيعة و المجتمع، و وجوب حصولها حسب قوانين محدد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فالأشياء و الظواهر ترتبط ببعضها بروابط لا يمكن خرقها. و بدون وجود هذه الروابط لا يمكن أن يوجد قانون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قد أعترف معظم الفيزياويين بضرورة التسليم بمبدأ الحتمية في البحث العلمي فحتى ماخ الفيلسوف و الفيزياوي النمساوي قال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خلال البحث العلمي يكون كل مفكر حتمياً بالضرورة“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و ظهر إدراك حتمية الأحداث عند الذريين اليونان، ففي ذرية ديمقراط يخضع كل كل حدث لضرورة صارمة لا مكان للمصادفة فيها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و بلغ التفكير بالحتمية أوجه بعد النجاحات الباهرة التي حققتها قوانين الميكانيك الكلاسيكي على يد غاليلو و كبلر و نيوتن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ثنائية الدقيقة-الموجة بينت وكأن الحتمية لا تصح في الحقل الذري. وقد أستنتج بعض الفلاسفة اللاعلميون إن الحتمية قد عفى عليها الدهر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إستند اللاحتميون على أساس إنه لا يمكن التنبؤ بالحدث المفرد للدقيقة الواحدة في العالم الذري الذي يتطلب قوانين إحصائي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غير إن التنبؤ بالحدث ليس معياراً وحيداً لحتميته كما إن القانون الأحصائي لا يقدم تنبؤات دقيقة بالأحداث المفردة، إلا إنه يفترض أحداثاً محتمة لمجموعة الجسيمات ككل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.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السببية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ausality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السببية مفهوم فلسفي يعبر عن الرابطة المباشرة الأساسية بين الأشياء و العمليات في الواقع الموضوعي، حيث تستدعي العملية أو العامل الأول (السبب) في ظروف معينة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بالضرورة حدوث العملية الثانية (النتيجة)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يمكن أعتبار ديمقراط أول من صاغ مبدأ السببية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كل شئ ينشأ بسبب ضروري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قد طور أبيقور و لوكريتس مفهوم السببية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لا يمكن أن ينشأ شئ من لا شئ، وكل فاعل يسبب فعلاً بالضرورة من أصل مادي، و لا يفترض تدخلاً من خارج المادة“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و ال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كون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تبعاً للفيلسوف هولباخ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سلسلة لا تنقطع من الأسباب و النتائج“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ليس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هناك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مكان للمصادفة، فالمصادفة تدل على جهلنا ذاتياً بالأسباب الطبيعية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قد أستنتج هايزنبرك بصورة متسرعة عدم صحة قانون السببية في العالم الذري. و ذهب فيزياويون آخرون مثل بور و باولي نفس المذهب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بينما لم يشاطرهم هذا الرأي فيزياويون آخرون مثل بلانك و آينشتاين و لاوي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و قد دار جدل فلسفي محتدم بين هذين الفريقين أستمر لسنوات طويلة حول الصفة الإحصائية لقوانين الكم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جدل فلسفي حول النظرية الكمي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مدرسة كوبنه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ا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كن (بور، هايزنبرك، بورن، باولي، جوردان)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الجهة المقابلة (آينشتاين، بلانك، دي بروكلي)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توجهات مدرسة كوبنهاكن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رفض شديد للحتمية إستناداً إلى الصفة الإحصائية لقوانين الميكانيك الكمي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إن جسيمات العالم المجهري لا تكتسب صفة الواقع الموضوعي إلا حينما تسجل بواسطة جهاز مختبري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الفيلسوف في العصور القديمة و الوسطى كان دائرة مع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رف عصر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إفلاطون، آرسطو، الفارابي، إبن سينا، إبن رش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لقد أحتوت ”فلسفة الطبيعة“ القديمة على عدد من الأفكار العبقرية و التي أثبت العلم المعاصر صحتها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النظرية الذ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مبدأ حفظ الما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فكرة الحركة و التطو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لا نهائية الكو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gradFill rotWithShape="0">
            <a:gsLst>
              <a:gs pos="0">
                <a:srgbClr val="1a4d80"/>
              </a:gs>
              <a:gs pos="100000">
                <a:srgbClr val="3399ff"/>
              </a:gs>
            </a:gsLst>
            <a:lin ang="2700000"/>
          </a:gradFill>
          <a:ln w="0">
            <a:noFill/>
          </a:ln>
        </p:spPr>
        <p:txBody>
          <a:bodyPr lIns="36000" rIns="360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Arial"/>
              </a:rPr>
              <a:t>العلاقة بين العلم و الفلسفة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لا يمكن الفصل فصلاً واضحاً بين الراصد و المرصود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التفاعل بين جهاز القياس و الجسيم المجهري يخلق إضطراباً لا يمكن السيطرة عليه أو معرفته مقدماً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الإحصاء و السببية ، الإحتمال و الحتمية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نقيضان يتنافى أحدهما مع الآخر. و إن قوانين الميكانيك الكمي الإحصائية تعني اللاحتمية و اللاسببي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كتب جوردان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 إن الفيزياوي عندما يدرس حركة الذرات و الالكترونات العشوائية يرى كل حدث يتم بدون سبب، ولا يمكن التنبؤ به، كحركة الجن“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أما هايزنبرك فيقول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بما إن جميع التجارب تخضع لقوانين الميكانيك الكمي،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فقد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أصبح خطأ قانون السببية مثبتاً إثباتاً مطلقاً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</a:t>
            </a: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ذهب بور إلى: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وجوب الكف عن وصف الأحداث الطبيعية وصفاً سببياً في الفضاء و الزمان، و أعتبر السببية ”مكملة“ للوصف الفضازماني بحيث يتنافى أحدهما مع الآخر“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أما باولي فقد ربط بين الصفة الإحصائية للقوانين الكمية و بين اللاحتمية و اللاسببية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أما بورن فقد رفض الحتمية (الميكانيكية)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أيد السببي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فقد كتب يقول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يبدو لي إن المساواة بين الحتمية و السببية تؤدي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إلى ا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لخطأ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لقد وقف العديد من الفيزياويين ضد التفسير الفلسفي لمدرسة كوبنهاكن للنظرية الكمي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من بينهم بلانك و دي بروكلي و آينشتاين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لم يرفض آينشتاين الميكانيك الكمي رفضاً مطلقاً، بل كان يعتبره من أنجح النظريات الفيزيائية في العصر الحديث، وكتب قبل وفاته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أنني أعترف إعترافاً كاملاً بالتقدم الهام جداً الذي أتت به النظرية الكمية الإحصائية للفيزياء النظرية ..... و إن صياغاتها الرياضية يجب أن تحتويها أية نظرية مقبلة بشكل نتائج منطقي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لكن آينشتاين لم ير سبباً يدعو للإعتقاد بأن قاعدة الفيزياء ستبنى في المستقبل على الإحصاء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كان آينشتاين يرى في الإحتمال الذي تتضمنه النظرية الكمية الإحصائية شيئاً يتعارض مع الخضوع للقانون و يتنافى معه. فقد كتب إلى ماكس بورن مرة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لقد تطورنا في عملنا العلمي حتى أصبحنا نقيضين؛ أنت تؤمن بإله يلعب النرد، و أنا أومن بوجود موضوعي في عالم خاضع للقوانين أسعى لإكتشافه ... أن النجاحات الأولى للنظري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الكمية ليس بمقدورها أن تقودني إلى الإيمان بلعبة النرد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ar-IQ" sz="9600" spc="-1" strike="noStrike">
                <a:solidFill>
                  <a:srgbClr val="ff9900"/>
                </a:solidFill>
                <a:latin typeface="Arial"/>
                <a:cs typeface="Diwani Simple Outline 2"/>
              </a:rPr>
              <a:t>و شكراً</a:t>
            </a:r>
            <a:br>
              <a:rPr sz="9600"/>
            </a:br>
            <a:r>
              <a:rPr b="1" lang="ar-IQ" sz="9600" spc="-1" strike="noStrike">
                <a:solidFill>
                  <a:srgbClr val="ff9900"/>
                </a:solidFill>
                <a:latin typeface="Arial"/>
                <a:ea typeface="Diwani Simple Outline 2"/>
              </a:rPr>
              <a:t> لحسن</a:t>
            </a:r>
            <a:br>
              <a:rPr sz="9600"/>
            </a:br>
            <a:r>
              <a:rPr b="1" lang="ar-IQ" sz="9600" spc="-1" strike="noStrike">
                <a:solidFill>
                  <a:srgbClr val="ff9900"/>
                </a:solidFill>
                <a:latin typeface="Arial"/>
                <a:ea typeface="Diwani Simple Outline 2"/>
              </a:rPr>
              <a:t> إصغائكم</a:t>
            </a:r>
            <a:endParaRPr b="1" lang="en-US" sz="9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في العصر الحديث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معظم الفيزياوين هم فلاسفة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آينشتاين: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ea typeface="Arial"/>
              </a:rPr>
              <a:t>”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في بداية القرن العشرين لم يعن إلا القليل من الفيزياويين بالتفكير الفلسفي، أما الآن فقد أصبح جميع الفيزياويين تقريباً فلاسف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ea typeface="Arial"/>
              </a:rPr>
              <a:t>“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4724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دي بروكلي: ”إن الإنفصال الذي حصل في القرن التاسع عشر بين العلم و الفلسفة ألحق ضرراً بالعلم و الفلسفة على حد السواء“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ماكس بورن: ”أن الفيزياء لا تحافظ على حيويتها إلا حينما يدرك المعنى الفلسفي لنتائجها و أساليبها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</a:t>
            </a: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في عصر النهضة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عند القرنين السادس عشر و السابع عشر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تطورت الأمكانات العلمية و التقنية و سجل الميكانيك أعظم الإنتصارات ممثلة بأعمال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غاليلو و كبلر و نيوتن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حيث وضعت القوانين و المعادلات التي تصف حركة الأجسام و التنبؤ بمدارات الأجرام السماوية بدقة كبير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أصبح الميكانيك نموذج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العلم الدقيق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marL="743040"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أعتبرت مبادئه الرئيسية أساساً لفهم الطبيعة كلها و ظهر نتيجة لذلك إتجاه فلسفي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الحتمية الميكانيكية“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جميع الحركات في الطبيعة يمكن إرجاعها إلى حركات ميكانيكية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الحالة الأولية لأي نظام تتحدد بموضعه و سرعته، ومن هذه يمكن حساب أية حالة للنظام مستقبلاً باستخدام قوانين الميكانيك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قوانين الميكانيك هي القوانين الأساسية لحركة الكون بأجمعه، و بواسطتها يمكن تفسير أية ظاهرة في الطبيعة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تجسد هذا الإعتقاد في مقولة لابلاس الشهيرة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”يجب أن ننظر للحالة الحاضرة للكون كنتيجة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لحالته الماضية، و سبباً لحالته المقبلة.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فلو وجد عقل يعرف في لحظة من اللحظات جميع القوى العاملة في الطبيعة، كما يعرف مواضع جميع العناصر التي تؤلفها، عقل كبير بحيث يتمكن أن يحلل هذه المقادير، لاستطاع ب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م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عادلة واحدة أن يضبط حركات أكبر الأجسام و أصغر الذرات، و لما غاب عن علمه شئ، و لكان المستقبل و الماضي و اضحاً أمام عينيه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“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يكمن الدور التاريخي للحتمية الميكانيكية في إنها كافحت إلى جانب العلم ضد تفسير ظواه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  <a:cs typeface="Arial"/>
              </a:rPr>
              <a:t>ر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الطبيعة تفسيراً غيبياً لا علمياً، و أبرزت دور العقل الإنساني و العلم المبني على التجربة.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 لكن الحتمية الميكانيكية لم تستطع الصمود طويلاً، و واجهت أكبر التحديات عند ظهور النظرية الكمية بما حملته من مفاهيم جديدة: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ثنائية الموجة-الدقيق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مبدأ اللادق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الإحتمالية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و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............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ممهدات ظهور النظرية الكمية</a:t>
            </a:r>
            <a:br>
              <a:rPr sz="4400"/>
            </a:b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فرضية بلانك الجريئة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00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لتفسير إشعاع الجسم الأسود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تفسير آينشتاين لتفسير الظاهرة الكهروضوئية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05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نموذج بور للذرة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13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16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 و نموذج سمرفيلد</a:t>
            </a:r>
            <a:br>
              <a:rPr sz="4400"/>
            </a:b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- فرضية دي بروكلي عام 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1924</a:t>
            </a:r>
            <a:r>
              <a:rPr b="1" lang="ar-IQ" sz="4400" spc="-1" strike="noStrike">
                <a:solidFill>
                  <a:srgbClr val="ff9900"/>
                </a:solidFill>
                <a:latin typeface="Arial"/>
              </a:rPr>
              <a:t>حول أزدواجية موجة – دقيقة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Dr. Fouad A. Majeed</dc:creator>
  <dc:description>From</dc:description>
  <cp:keywords>Renewable energies</cp:keywords>
  <dc:language>en-US</dc:language>
  <cp:lastModifiedBy>alwahip center</cp:lastModifiedBy>
  <dcterms:modified xsi:type="dcterms:W3CDTF">2014-05-01T11:15:32Z</dcterms:modified>
  <cp:revision>283</cp:revision>
  <dc:subject/>
  <dc:title>Power point presentation</dc:title>
</cp:coreProperties>
</file>