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543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18960" y="4001760"/>
            <a:ext cx="7543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84640" y="12952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18960" y="40017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84640" y="40017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9560" y="129528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20520" y="129528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18960" y="400176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9560" y="400176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20520" y="4001760"/>
            <a:ext cx="24289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18960" y="12952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84640" y="12952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00600" y="228240"/>
            <a:ext cx="3200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4640" y="12952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18960" y="40017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368136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4640" y="12952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84640" y="400176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4640" y="1295280"/>
            <a:ext cx="36813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18960" y="4001760"/>
            <a:ext cx="7543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aaapicture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8960" y="12952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bbas.aljuboori@uokerbala.edu.iq" TargetMode="External"/><Relationship Id="rId2" Type="http://schemas.openxmlformats.org/officeDocument/2006/relationships/hyperlink" Target="mailto:abbaszain2003@yahoo.co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76560" y="304560"/>
            <a:ext cx="4267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  <a:ea typeface="宋体"/>
              </a:rPr>
              <a:t>Web Design &amp; Programming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8960" y="2590920"/>
            <a:ext cx="75438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Introduction to the Internet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aramond"/>
                <a:ea typeface="宋体"/>
              </a:rPr>
              <a:t>Dr. Abbas Fadhil M. A. AL-Juboori</a:t>
            </a:r>
            <a:endParaRPr b="0" lang="en-US" sz="2000" spc="-1" strike="noStrike">
              <a:solidFill>
                <a:srgbClr val="000000"/>
              </a:solidFill>
              <a:latin typeface="A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aramond"/>
                <a:ea typeface="宋体"/>
              </a:rPr>
              <a:t>Department of Computer Science</a:t>
            </a:r>
            <a:endParaRPr b="0" lang="en-US" sz="2000" spc="-1" strike="noStrike">
              <a:solidFill>
                <a:srgbClr val="000000"/>
              </a:solidFill>
              <a:latin typeface="A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Garamond"/>
                <a:ea typeface="宋体"/>
              </a:rPr>
              <a:t>University of Kerbala</a:t>
            </a:r>
            <a:endParaRPr b="0" lang="en-US" sz="2000" spc="-1" strike="noStrike">
              <a:solidFill>
                <a:srgbClr val="000000"/>
              </a:solidFill>
              <a:latin typeface="A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Garamond"/>
                <a:ea typeface="宋体"/>
                <a:hlinkClick r:id="rId1"/>
              </a:rPr>
              <a:t>Abbas.aljuboori@uokerbala.edu.iq</a:t>
            </a:r>
            <a:r>
              <a:rPr b="0" lang="en-US" sz="2000" spc="-1" strike="noStrike">
                <a:solidFill>
                  <a:srgbClr val="000000"/>
                </a:solidFill>
                <a:latin typeface="AGaramond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Garamond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Garamond"/>
                <a:ea typeface="宋体"/>
                <a:hlinkClick r:id="rId2"/>
              </a:rPr>
              <a:t>abbaszain2003@yahoo.com</a:t>
            </a:r>
            <a:r>
              <a:rPr b="0" lang="en-US" sz="2000" spc="-1" strike="noStrike">
                <a:solidFill>
                  <a:srgbClr val="000000"/>
                </a:solidFill>
                <a:latin typeface="AGaramond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  <a:ea typeface="宋体"/>
              </a:rPr>
              <a:t>TCP/IP and Domain Names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295280"/>
            <a:ext cx="76960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Each label to the left specifies a subdomain, in our example, subdomain is </a:t>
            </a:r>
            <a:r>
              <a:rPr b="0" i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pitt 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(University of Pittsburgh), and sub-subdomain is </a:t>
            </a:r>
            <a:r>
              <a:rPr b="0" i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cs 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(computer science).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A top-level domain contains of multiple subdomains, each subdomain can contain multiple sub-subdomain, so on. 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The database contains the mapping between a domain name and an IP address is stored on a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DNS server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  <a:ea typeface="宋体"/>
              </a:rPr>
              <a:t>World Wide Web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World Wide Web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 (commonly shortened to the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Web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) is a system of interlinked, hypertext documents accessed via the Internet.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It is created to share files/documents and overcome the barrier of different file formats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Hypertext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 refers to text on a computer that will lead the user to other, related information on demand.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  <a:ea typeface="宋体"/>
              </a:rPr>
              <a:t>World Wide Web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hypertext documents are created using a special kind of document formatting or “markup” language called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HyperText Markup Language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HTML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HTML is sent or received ov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the network using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HyperText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Transfer Protocol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browser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 is a software program which interprets the HTML documents and displays it on the user’s screen.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  <p:pic>
        <p:nvPicPr>
          <p:cNvPr id="120" name="Picture 4" descr="275px-HTML"/>
          <p:cNvPicPr/>
          <p:nvPr/>
        </p:nvPicPr>
        <p:blipFill>
          <a:blip r:embed="rId1"/>
          <a:stretch/>
        </p:blipFill>
        <p:spPr>
          <a:xfrm>
            <a:off x="6934320" y="2895480"/>
            <a:ext cx="177804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800240" y="22824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  <a:ea typeface="宋体"/>
              </a:rPr>
              <a:t>URLs and Client-Server Model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Each document/resource on the WWW needs to have an identifier in order to be accessed by others.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Uniform Resource Identifier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URI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), is a compact string of characters used to identify or name a resource.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Uniform Resource Locator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URL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) is a URI which provides means of obtaining the resource by describing its network “location”.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00240" y="228240"/>
            <a:ext cx="3429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  <a:ea typeface="宋体"/>
              </a:rPr>
              <a:t>URLs and Client-Server Model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  <a:ea typeface="宋体"/>
              </a:rPr>
              <a:t>Two things are given by the URL</a:t>
            </a:r>
            <a:endParaRPr b="0" lang="en-US" sz="2800" spc="-1" strike="noStrike">
              <a:solidFill>
                <a:srgbClr val="000000"/>
              </a:solidFill>
              <a:latin typeface="A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aramond"/>
                <a:ea typeface="宋体"/>
              </a:rPr>
              <a:t>Exact location of the document</a:t>
            </a:r>
            <a:endParaRPr b="0" lang="en-US" sz="2400" spc="-1" strike="noStrike">
              <a:solidFill>
                <a:srgbClr val="000000"/>
              </a:solidFill>
              <a:latin typeface="A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aramond"/>
                <a:ea typeface="宋体"/>
              </a:rPr>
              <a:t>The method or protocol by which to retrieve and display the document</a:t>
            </a:r>
            <a:endParaRPr b="0" lang="en-US" sz="2400" spc="-1" strike="noStrike">
              <a:solidFill>
                <a:srgbClr val="000000"/>
              </a:solidFill>
              <a:latin typeface="AGaramond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Garamond"/>
                <a:ea typeface="宋体"/>
              </a:rPr>
              <a:t>Example, http://www.cs.pitt.edu/~mehmud/cs134/index.html</a:t>
            </a:r>
            <a:endParaRPr b="0" lang="en-US" sz="2800" spc="-1" strike="noStrike">
              <a:solidFill>
                <a:srgbClr val="000000"/>
              </a:solidFill>
              <a:latin typeface="A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aramond"/>
                <a:ea typeface="宋体"/>
              </a:rPr>
              <a:t>http:// – specifies the protocol</a:t>
            </a:r>
            <a:endParaRPr b="0" lang="en-US" sz="2400" spc="-1" strike="noStrike">
              <a:solidFill>
                <a:srgbClr val="000000"/>
              </a:solidFill>
              <a:latin typeface="A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aramond"/>
                <a:ea typeface="宋体"/>
              </a:rPr>
              <a:t>www.cs.pitt.edu – specifies the host name / domain name</a:t>
            </a:r>
            <a:endParaRPr b="0" lang="en-US" sz="2400" spc="-1" strike="noStrike">
              <a:solidFill>
                <a:srgbClr val="000000"/>
              </a:solidFill>
              <a:latin typeface="AGaramond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Garamond"/>
                <a:ea typeface="宋体"/>
              </a:rPr>
              <a:t>/~mehmud/cs134/index.html – specifies the path of the document on the host</a:t>
            </a:r>
            <a:endParaRPr b="0" lang="en-US" sz="24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  <a:ea typeface="宋体"/>
              </a:rPr>
              <a:t>Putting it All Together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pic>
        <p:nvPicPr>
          <p:cNvPr id="126" name="Picture 4" descr="Web_client_server"/>
          <p:cNvPicPr/>
          <p:nvPr/>
        </p:nvPicPr>
        <p:blipFill>
          <a:blip r:embed="rId1"/>
          <a:stretch/>
        </p:blipFill>
        <p:spPr>
          <a:xfrm>
            <a:off x="1219320" y="1530360"/>
            <a:ext cx="792468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  <a:ea typeface="宋体"/>
              </a:rPr>
              <a:t>Internet, Packets and Routing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Internet is a network of computer networks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Data is transmitted by packet switching using the standard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Internet Protocol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IP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Packet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 – a unit of information carriage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Packet switching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 – process of moving packets from one node (computer device) to another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  <a:ea typeface="宋体"/>
              </a:rPr>
              <a:t>A Visualization of Internet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pic>
        <p:nvPicPr>
          <p:cNvPr id="44" name="Picture 5" descr="Internet_map_cp"/>
          <p:cNvPicPr/>
          <p:nvPr/>
        </p:nvPicPr>
        <p:blipFill>
          <a:blip r:embed="rId1"/>
          <a:stretch/>
        </p:blipFill>
        <p:spPr>
          <a:xfrm>
            <a:off x="2209680" y="1066680"/>
            <a:ext cx="6019920" cy="563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  <a:ea typeface="宋体"/>
              </a:rPr>
              <a:t>A Visualization of Internet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pic>
        <p:nvPicPr>
          <p:cNvPr id="46" name="Picture 4" descr="Internet_map_part"/>
          <p:cNvPicPr/>
          <p:nvPr/>
        </p:nvPicPr>
        <p:blipFill>
          <a:blip r:embed="rId1"/>
          <a:stretch/>
        </p:blipFill>
        <p:spPr>
          <a:xfrm>
            <a:off x="2476440" y="1295280"/>
            <a:ext cx="529596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  <a:ea typeface="宋体"/>
              </a:rPr>
              <a:t>Internet, Packets and Routing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At the sender, data is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broken into packets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 and sent to the nearest node (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router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At each router, it sends the packet to another router that is closer to the final destination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At the receiver, packets are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reassembled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 to get the original data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A simple analogy: mailing system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  <a:ea typeface="宋体"/>
              </a:rPr>
              <a:t>Mailing System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grpSp>
        <p:nvGrpSpPr>
          <p:cNvPr id="50" name="Group 33"/>
          <p:cNvGrpSpPr/>
          <p:nvPr/>
        </p:nvGrpSpPr>
        <p:grpSpPr>
          <a:xfrm>
            <a:off x="762120" y="4114800"/>
            <a:ext cx="8381880" cy="2590920"/>
            <a:chOff x="762120" y="4114800"/>
            <a:chExt cx="8381880" cy="2590920"/>
          </a:xfrm>
        </p:grpSpPr>
        <p:sp>
          <p:nvSpPr>
            <p:cNvPr id="51" name="Line 34"/>
            <p:cNvSpPr/>
            <p:nvPr/>
          </p:nvSpPr>
          <p:spPr>
            <a:xfrm>
              <a:off x="762120" y="4267080"/>
              <a:ext cx="838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" name="Group 35"/>
            <p:cNvGrpSpPr/>
            <p:nvPr/>
          </p:nvGrpSpPr>
          <p:grpSpPr>
            <a:xfrm>
              <a:off x="2133720" y="4114800"/>
              <a:ext cx="5334120" cy="2590920"/>
              <a:chOff x="2133720" y="4114800"/>
              <a:chExt cx="5334120" cy="2590920"/>
            </a:xfrm>
          </p:grpSpPr>
          <p:sp>
            <p:nvSpPr>
              <p:cNvPr id="53" name="Freeform 36"/>
              <p:cNvSpPr/>
              <p:nvPr/>
            </p:nvSpPr>
            <p:spPr>
              <a:xfrm>
                <a:off x="2895840" y="4114800"/>
                <a:ext cx="3873240" cy="2590920"/>
              </a:xfrm>
              <a:custGeom>
                <a:avLst/>
                <a:gdLst/>
                <a:ahLst/>
                <a:rect l="l" t="t" r="r" b="b"/>
                <a:pathLst>
                  <a:path w="2440" h="2077">
                    <a:moveTo>
                      <a:pt x="537" y="1523"/>
                    </a:moveTo>
                    <a:cubicBezTo>
                      <a:pt x="526" y="1501"/>
                      <a:pt x="515" y="1451"/>
                      <a:pt x="515" y="1451"/>
                    </a:cubicBezTo>
                    <a:cubicBezTo>
                      <a:pt x="521" y="1421"/>
                      <a:pt x="532" y="1402"/>
                      <a:pt x="543" y="1374"/>
                    </a:cubicBezTo>
                    <a:cubicBezTo>
                      <a:pt x="434" y="1371"/>
                      <a:pt x="371" y="1373"/>
                      <a:pt x="277" y="1363"/>
                    </a:cubicBezTo>
                    <a:cubicBezTo>
                      <a:pt x="242" y="1359"/>
                      <a:pt x="172" y="1346"/>
                      <a:pt x="172" y="1346"/>
                    </a:cubicBezTo>
                    <a:cubicBezTo>
                      <a:pt x="141" y="1334"/>
                      <a:pt x="113" y="1322"/>
                      <a:pt x="83" y="1307"/>
                    </a:cubicBezTo>
                    <a:cubicBezTo>
                      <a:pt x="74" y="1303"/>
                      <a:pt x="65" y="1301"/>
                      <a:pt x="56" y="1296"/>
                    </a:cubicBezTo>
                    <a:cubicBezTo>
                      <a:pt x="44" y="1290"/>
                      <a:pt x="22" y="1274"/>
                      <a:pt x="22" y="1274"/>
                    </a:cubicBezTo>
                    <a:cubicBezTo>
                      <a:pt x="0" y="1239"/>
                      <a:pt x="25" y="1244"/>
                      <a:pt x="45" y="1219"/>
                    </a:cubicBezTo>
                    <a:cubicBezTo>
                      <a:pt x="65" y="1194"/>
                      <a:pt x="83" y="1182"/>
                      <a:pt x="111" y="1163"/>
                    </a:cubicBezTo>
                    <a:cubicBezTo>
                      <a:pt x="131" y="1150"/>
                      <a:pt x="145" y="1123"/>
                      <a:pt x="166" y="1108"/>
                    </a:cubicBezTo>
                    <a:cubicBezTo>
                      <a:pt x="170" y="1101"/>
                      <a:pt x="172" y="1093"/>
                      <a:pt x="177" y="1086"/>
                    </a:cubicBezTo>
                    <a:cubicBezTo>
                      <a:pt x="180" y="1082"/>
                      <a:pt x="191" y="1080"/>
                      <a:pt x="189" y="1075"/>
                    </a:cubicBezTo>
                    <a:cubicBezTo>
                      <a:pt x="186" y="1065"/>
                      <a:pt x="173" y="1060"/>
                      <a:pt x="166" y="1052"/>
                    </a:cubicBezTo>
                    <a:cubicBezTo>
                      <a:pt x="147" y="1030"/>
                      <a:pt x="129" y="1009"/>
                      <a:pt x="111" y="986"/>
                    </a:cubicBezTo>
                    <a:cubicBezTo>
                      <a:pt x="94" y="941"/>
                      <a:pt x="74" y="898"/>
                      <a:pt x="56" y="853"/>
                    </a:cubicBezTo>
                    <a:cubicBezTo>
                      <a:pt x="41" y="815"/>
                      <a:pt x="37" y="775"/>
                      <a:pt x="22" y="737"/>
                    </a:cubicBezTo>
                    <a:cubicBezTo>
                      <a:pt x="31" y="712"/>
                      <a:pt x="46" y="702"/>
                      <a:pt x="67" y="687"/>
                    </a:cubicBezTo>
                    <a:cubicBezTo>
                      <a:pt x="95" y="644"/>
                      <a:pt x="152" y="627"/>
                      <a:pt x="189" y="593"/>
                    </a:cubicBezTo>
                    <a:cubicBezTo>
                      <a:pt x="171" y="577"/>
                      <a:pt x="144" y="537"/>
                      <a:pt x="144" y="537"/>
                    </a:cubicBezTo>
                    <a:cubicBezTo>
                      <a:pt x="139" y="517"/>
                      <a:pt x="134" y="496"/>
                      <a:pt x="128" y="476"/>
                    </a:cubicBezTo>
                    <a:cubicBezTo>
                      <a:pt x="121" y="454"/>
                      <a:pt x="105" y="410"/>
                      <a:pt x="105" y="410"/>
                    </a:cubicBezTo>
                    <a:cubicBezTo>
                      <a:pt x="99" y="374"/>
                      <a:pt x="86" y="340"/>
                      <a:pt x="78" y="305"/>
                    </a:cubicBezTo>
                    <a:cubicBezTo>
                      <a:pt x="80" y="275"/>
                      <a:pt x="73" y="244"/>
                      <a:pt x="83" y="216"/>
                    </a:cubicBezTo>
                    <a:cubicBezTo>
                      <a:pt x="87" y="203"/>
                      <a:pt x="106" y="201"/>
                      <a:pt x="117" y="194"/>
                    </a:cubicBezTo>
                    <a:cubicBezTo>
                      <a:pt x="142" y="178"/>
                      <a:pt x="161" y="165"/>
                      <a:pt x="189" y="155"/>
                    </a:cubicBezTo>
                    <a:cubicBezTo>
                      <a:pt x="284" y="167"/>
                      <a:pt x="367" y="211"/>
                      <a:pt x="454" y="249"/>
                    </a:cubicBezTo>
                    <a:cubicBezTo>
                      <a:pt x="483" y="262"/>
                      <a:pt x="508" y="283"/>
                      <a:pt x="537" y="294"/>
                    </a:cubicBezTo>
                    <a:cubicBezTo>
                      <a:pt x="541" y="298"/>
                      <a:pt x="544" y="305"/>
                      <a:pt x="549" y="305"/>
                    </a:cubicBezTo>
                    <a:cubicBezTo>
                      <a:pt x="566" y="305"/>
                      <a:pt x="574" y="282"/>
                      <a:pt x="587" y="271"/>
                    </a:cubicBezTo>
                    <a:cubicBezTo>
                      <a:pt x="608" y="253"/>
                      <a:pt x="634" y="238"/>
                      <a:pt x="659" y="227"/>
                    </a:cubicBezTo>
                    <a:cubicBezTo>
                      <a:pt x="751" y="186"/>
                      <a:pt x="830" y="162"/>
                      <a:pt x="931" y="155"/>
                    </a:cubicBezTo>
                    <a:cubicBezTo>
                      <a:pt x="949" y="157"/>
                      <a:pt x="968" y="156"/>
                      <a:pt x="986" y="161"/>
                    </a:cubicBezTo>
                    <a:cubicBezTo>
                      <a:pt x="995" y="163"/>
                      <a:pt x="1001" y="172"/>
                      <a:pt x="1008" y="177"/>
                    </a:cubicBezTo>
                    <a:cubicBezTo>
                      <a:pt x="1024" y="188"/>
                      <a:pt x="1043" y="192"/>
                      <a:pt x="1058" y="205"/>
                    </a:cubicBezTo>
                    <a:cubicBezTo>
                      <a:pt x="1081" y="224"/>
                      <a:pt x="1101" y="245"/>
                      <a:pt x="1130" y="255"/>
                    </a:cubicBezTo>
                    <a:cubicBezTo>
                      <a:pt x="1163" y="222"/>
                      <a:pt x="1188" y="173"/>
                      <a:pt x="1224" y="144"/>
                    </a:cubicBezTo>
                    <a:cubicBezTo>
                      <a:pt x="1327" y="61"/>
                      <a:pt x="1455" y="18"/>
                      <a:pt x="1584" y="0"/>
                    </a:cubicBezTo>
                    <a:cubicBezTo>
                      <a:pt x="1632" y="5"/>
                      <a:pt x="1668" y="11"/>
                      <a:pt x="1712" y="28"/>
                    </a:cubicBezTo>
                    <a:cubicBezTo>
                      <a:pt x="1768" y="74"/>
                      <a:pt x="1779" y="99"/>
                      <a:pt x="1817" y="155"/>
                    </a:cubicBezTo>
                    <a:cubicBezTo>
                      <a:pt x="1844" y="247"/>
                      <a:pt x="1787" y="220"/>
                      <a:pt x="1917" y="227"/>
                    </a:cubicBezTo>
                    <a:cubicBezTo>
                      <a:pt x="1954" y="232"/>
                      <a:pt x="1986" y="243"/>
                      <a:pt x="2022" y="249"/>
                    </a:cubicBezTo>
                    <a:cubicBezTo>
                      <a:pt x="2047" y="284"/>
                      <a:pt x="2065" y="335"/>
                      <a:pt x="2077" y="377"/>
                    </a:cubicBezTo>
                    <a:cubicBezTo>
                      <a:pt x="2074" y="415"/>
                      <a:pt x="2069" y="450"/>
                      <a:pt x="2061" y="487"/>
                    </a:cubicBezTo>
                    <a:cubicBezTo>
                      <a:pt x="2083" y="534"/>
                      <a:pt x="2103" y="536"/>
                      <a:pt x="2155" y="554"/>
                    </a:cubicBezTo>
                    <a:cubicBezTo>
                      <a:pt x="2176" y="570"/>
                      <a:pt x="2201" y="581"/>
                      <a:pt x="2221" y="598"/>
                    </a:cubicBezTo>
                    <a:cubicBezTo>
                      <a:pt x="2244" y="618"/>
                      <a:pt x="2260" y="643"/>
                      <a:pt x="2282" y="665"/>
                    </a:cubicBezTo>
                    <a:cubicBezTo>
                      <a:pt x="2319" y="751"/>
                      <a:pt x="2309" y="715"/>
                      <a:pt x="2321" y="770"/>
                    </a:cubicBezTo>
                    <a:cubicBezTo>
                      <a:pt x="2312" y="802"/>
                      <a:pt x="2300" y="836"/>
                      <a:pt x="2282" y="864"/>
                    </a:cubicBezTo>
                    <a:cubicBezTo>
                      <a:pt x="2277" y="887"/>
                      <a:pt x="2266" y="892"/>
                      <a:pt x="2260" y="914"/>
                    </a:cubicBezTo>
                    <a:cubicBezTo>
                      <a:pt x="2307" y="961"/>
                      <a:pt x="2360" y="1011"/>
                      <a:pt x="2393" y="1069"/>
                    </a:cubicBezTo>
                    <a:cubicBezTo>
                      <a:pt x="2407" y="1094"/>
                      <a:pt x="2421" y="1152"/>
                      <a:pt x="2421" y="1152"/>
                    </a:cubicBezTo>
                    <a:cubicBezTo>
                      <a:pt x="2427" y="1196"/>
                      <a:pt x="2440" y="1244"/>
                      <a:pt x="2415" y="1285"/>
                    </a:cubicBezTo>
                    <a:cubicBezTo>
                      <a:pt x="2355" y="1381"/>
                      <a:pt x="2245" y="1431"/>
                      <a:pt x="2138" y="1446"/>
                    </a:cubicBezTo>
                    <a:cubicBezTo>
                      <a:pt x="2184" y="1538"/>
                      <a:pt x="2053" y="1666"/>
                      <a:pt x="1972" y="1695"/>
                    </a:cubicBezTo>
                    <a:cubicBezTo>
                      <a:pt x="1915" y="1691"/>
                      <a:pt x="1866" y="1685"/>
                      <a:pt x="1811" y="1678"/>
                    </a:cubicBezTo>
                    <a:cubicBezTo>
                      <a:pt x="1780" y="1668"/>
                      <a:pt x="1750" y="1663"/>
                      <a:pt x="1723" y="1645"/>
                    </a:cubicBezTo>
                    <a:cubicBezTo>
                      <a:pt x="1719" y="1639"/>
                      <a:pt x="1719" y="1629"/>
                      <a:pt x="1712" y="1628"/>
                    </a:cubicBezTo>
                    <a:cubicBezTo>
                      <a:pt x="1696" y="1624"/>
                      <a:pt x="1664" y="1681"/>
                      <a:pt x="1662" y="1684"/>
                    </a:cubicBezTo>
                    <a:cubicBezTo>
                      <a:pt x="1614" y="1750"/>
                      <a:pt x="1558" y="1807"/>
                      <a:pt x="1485" y="1844"/>
                    </a:cubicBezTo>
                    <a:cubicBezTo>
                      <a:pt x="1470" y="1842"/>
                      <a:pt x="1455" y="1843"/>
                      <a:pt x="1440" y="1839"/>
                    </a:cubicBezTo>
                    <a:cubicBezTo>
                      <a:pt x="1400" y="1828"/>
                      <a:pt x="1327" y="1746"/>
                      <a:pt x="1291" y="1717"/>
                    </a:cubicBezTo>
                    <a:cubicBezTo>
                      <a:pt x="1255" y="1727"/>
                      <a:pt x="1260" y="1743"/>
                      <a:pt x="1235" y="1772"/>
                    </a:cubicBezTo>
                    <a:cubicBezTo>
                      <a:pt x="1207" y="1804"/>
                      <a:pt x="1175" y="1835"/>
                      <a:pt x="1147" y="1867"/>
                    </a:cubicBezTo>
                    <a:cubicBezTo>
                      <a:pt x="1125" y="1892"/>
                      <a:pt x="1099" y="1905"/>
                      <a:pt x="1075" y="1927"/>
                    </a:cubicBezTo>
                    <a:cubicBezTo>
                      <a:pt x="1009" y="1987"/>
                      <a:pt x="943" y="2045"/>
                      <a:pt x="859" y="2077"/>
                    </a:cubicBezTo>
                    <a:cubicBezTo>
                      <a:pt x="819" y="2057"/>
                      <a:pt x="841" y="2072"/>
                      <a:pt x="803" y="2016"/>
                    </a:cubicBezTo>
                    <a:cubicBezTo>
                      <a:pt x="799" y="2010"/>
                      <a:pt x="792" y="1999"/>
                      <a:pt x="792" y="1999"/>
                    </a:cubicBezTo>
                    <a:cubicBezTo>
                      <a:pt x="786" y="1981"/>
                      <a:pt x="777" y="1967"/>
                      <a:pt x="770" y="1950"/>
                    </a:cubicBezTo>
                    <a:cubicBezTo>
                      <a:pt x="760" y="1885"/>
                      <a:pt x="772" y="1815"/>
                      <a:pt x="776" y="1750"/>
                    </a:cubicBezTo>
                    <a:cubicBezTo>
                      <a:pt x="752" y="1745"/>
                      <a:pt x="739" y="1750"/>
                      <a:pt x="715" y="1745"/>
                    </a:cubicBezTo>
                    <a:cubicBezTo>
                      <a:pt x="695" y="1741"/>
                      <a:pt x="654" y="1734"/>
                      <a:pt x="654" y="1734"/>
                    </a:cubicBezTo>
                    <a:cubicBezTo>
                      <a:pt x="630" y="1718"/>
                      <a:pt x="615" y="1691"/>
                      <a:pt x="598" y="1667"/>
                    </a:cubicBezTo>
                    <a:cubicBezTo>
                      <a:pt x="590" y="1656"/>
                      <a:pt x="576" y="1634"/>
                      <a:pt x="576" y="1634"/>
                    </a:cubicBezTo>
                    <a:cubicBezTo>
                      <a:pt x="565" y="1596"/>
                      <a:pt x="550" y="1560"/>
                      <a:pt x="537" y="1523"/>
                    </a:cubicBezTo>
                    <a:close/>
                  </a:path>
                </a:pathLst>
              </a:custGeom>
              <a:solidFill>
                <a:srgbClr val="ffffff"/>
              </a:solidFill>
              <a:ln w="381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Freeform 37"/>
              <p:cNvSpPr/>
              <p:nvPr/>
            </p:nvSpPr>
            <p:spPr>
              <a:xfrm>
                <a:off x="2133720" y="4191120"/>
                <a:ext cx="914400" cy="1143000"/>
              </a:xfrm>
              <a:custGeom>
                <a:avLst/>
                <a:gdLst/>
                <a:ahLst/>
                <a:rect l="l" t="t" r="r" b="b"/>
                <a:pathLst>
                  <a:path w="576" h="720">
                    <a:moveTo>
                      <a:pt x="0" y="0"/>
                    </a:moveTo>
                    <a:lnTo>
                      <a:pt x="0" y="720"/>
                    </a:lnTo>
                    <a:lnTo>
                      <a:pt x="576" y="72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Freeform 38"/>
              <p:cNvSpPr/>
              <p:nvPr/>
            </p:nvSpPr>
            <p:spPr>
              <a:xfrm>
                <a:off x="6629400" y="4191120"/>
                <a:ext cx="838440" cy="1143000"/>
              </a:xfrm>
              <a:custGeom>
                <a:avLst/>
                <a:gdLst/>
                <a:ahLst/>
                <a:rect l="l" t="t" r="r" b="b"/>
                <a:pathLst>
                  <a:path w="528" h="720">
                    <a:moveTo>
                      <a:pt x="0" y="720"/>
                    </a:moveTo>
                    <a:lnTo>
                      <a:pt x="528" y="720"/>
                    </a:lnTo>
                    <a:lnTo>
                      <a:pt x="528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Line 39"/>
              <p:cNvSpPr/>
              <p:nvPr/>
            </p:nvSpPr>
            <p:spPr>
              <a:xfrm flipV="1">
                <a:off x="3353040" y="4876920"/>
                <a:ext cx="38088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0"/>
              <p:cNvSpPr/>
              <p:nvPr/>
            </p:nvSpPr>
            <p:spPr>
              <a:xfrm flipV="1">
                <a:off x="3962520" y="4724280"/>
                <a:ext cx="68580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1"/>
              <p:cNvSpPr/>
              <p:nvPr/>
            </p:nvSpPr>
            <p:spPr>
              <a:xfrm>
                <a:off x="4876920" y="53341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2"/>
              <p:cNvSpPr/>
              <p:nvPr/>
            </p:nvSpPr>
            <p:spPr>
              <a:xfrm>
                <a:off x="4724640" y="487692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3"/>
              <p:cNvSpPr/>
              <p:nvPr/>
            </p:nvSpPr>
            <p:spPr>
              <a:xfrm>
                <a:off x="4724640" y="54100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44"/>
              <p:cNvSpPr/>
              <p:nvPr/>
            </p:nvSpPr>
            <p:spPr>
              <a:xfrm>
                <a:off x="4876920" y="4800600"/>
                <a:ext cx="144792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Line 45"/>
              <p:cNvSpPr/>
              <p:nvPr/>
            </p:nvSpPr>
            <p:spPr>
              <a:xfrm flipH="1" flipV="1">
                <a:off x="3352680" y="5410080"/>
                <a:ext cx="1447560" cy="53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Oval 46"/>
              <p:cNvSpPr/>
              <p:nvPr/>
            </p:nvSpPr>
            <p:spPr>
              <a:xfrm>
                <a:off x="4496040" y="457200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Oval 47"/>
              <p:cNvSpPr/>
              <p:nvPr/>
            </p:nvSpPr>
            <p:spPr>
              <a:xfrm>
                <a:off x="4496040" y="510552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Oval 48"/>
              <p:cNvSpPr/>
              <p:nvPr/>
            </p:nvSpPr>
            <p:spPr>
              <a:xfrm>
                <a:off x="4496040" y="571500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Oval 49"/>
              <p:cNvSpPr/>
              <p:nvPr/>
            </p:nvSpPr>
            <p:spPr>
              <a:xfrm>
                <a:off x="6172200" y="510552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Oval 50"/>
              <p:cNvSpPr/>
              <p:nvPr/>
            </p:nvSpPr>
            <p:spPr>
              <a:xfrm>
                <a:off x="3048120" y="510552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51"/>
              <p:cNvSpPr/>
              <p:nvPr/>
            </p:nvSpPr>
            <p:spPr>
              <a:xfrm>
                <a:off x="3657600" y="4572000"/>
                <a:ext cx="457200" cy="45720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9" name="Group 62"/>
          <p:cNvGrpSpPr/>
          <p:nvPr/>
        </p:nvGrpSpPr>
        <p:grpSpPr>
          <a:xfrm>
            <a:off x="838080" y="1523880"/>
            <a:ext cx="8229600" cy="4591080"/>
            <a:chOff x="838080" y="1523880"/>
            <a:chExt cx="8229600" cy="4591080"/>
          </a:xfrm>
        </p:grpSpPr>
        <p:sp>
          <p:nvSpPr>
            <p:cNvPr id="70" name="Rectangle 5"/>
            <p:cNvSpPr/>
            <p:nvPr/>
          </p:nvSpPr>
          <p:spPr>
            <a:xfrm>
              <a:off x="6400800" y="1905120"/>
              <a:ext cx="2133720" cy="25905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6"/>
            <p:cNvSpPr/>
            <p:nvPr/>
          </p:nvSpPr>
          <p:spPr>
            <a:xfrm>
              <a:off x="1219320" y="1981080"/>
              <a:ext cx="2133360" cy="25909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Oval 7"/>
            <p:cNvSpPr/>
            <p:nvPr/>
          </p:nvSpPr>
          <p:spPr>
            <a:xfrm>
              <a:off x="1752480" y="2286000"/>
              <a:ext cx="990720" cy="68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Text Box 8"/>
            <p:cNvSpPr/>
            <p:nvPr/>
          </p:nvSpPr>
          <p:spPr>
            <a:xfrm>
              <a:off x="2035800" y="2362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Oval 9"/>
            <p:cNvSpPr/>
            <p:nvPr/>
          </p:nvSpPr>
          <p:spPr>
            <a:xfrm>
              <a:off x="7010280" y="2286000"/>
              <a:ext cx="990720" cy="6858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10"/>
            <p:cNvSpPr/>
            <p:nvPr/>
          </p:nvSpPr>
          <p:spPr>
            <a:xfrm>
              <a:off x="7310520" y="2362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11"/>
            <p:cNvSpPr/>
            <p:nvPr/>
          </p:nvSpPr>
          <p:spPr>
            <a:xfrm>
              <a:off x="1676520" y="1600200"/>
              <a:ext cx="60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it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12"/>
            <p:cNvSpPr/>
            <p:nvPr/>
          </p:nvSpPr>
          <p:spPr>
            <a:xfrm>
              <a:off x="7107120" y="152388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I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13"/>
            <p:cNvGrpSpPr/>
            <p:nvPr/>
          </p:nvGrpSpPr>
          <p:grpSpPr>
            <a:xfrm>
              <a:off x="2743200" y="2286000"/>
              <a:ext cx="4267080" cy="668160"/>
              <a:chOff x="2743200" y="2286000"/>
              <a:chExt cx="4267080" cy="668160"/>
            </a:xfrm>
          </p:grpSpPr>
          <p:sp>
            <p:nvSpPr>
              <p:cNvPr id="79" name="Line 14"/>
              <p:cNvSpPr/>
              <p:nvPr/>
            </p:nvSpPr>
            <p:spPr>
              <a:xfrm>
                <a:off x="2743200" y="2666880"/>
                <a:ext cx="426708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0" name="Picture 15" descr="ed00010_"/>
              <p:cNvPicPr/>
              <p:nvPr/>
            </p:nvPicPr>
            <p:blipFill>
              <a:blip r:embed="rId1"/>
              <a:stretch/>
            </p:blipFill>
            <p:spPr>
              <a:xfrm>
                <a:off x="4343040" y="2286000"/>
                <a:ext cx="596520" cy="668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1" name="Group 16"/>
            <p:cNvGrpSpPr/>
            <p:nvPr/>
          </p:nvGrpSpPr>
          <p:grpSpPr>
            <a:xfrm>
              <a:off x="2819520" y="3581280"/>
              <a:ext cx="4038480" cy="571680"/>
              <a:chOff x="2819520" y="3581280"/>
              <a:chExt cx="4038480" cy="571680"/>
            </a:xfrm>
          </p:grpSpPr>
          <p:sp>
            <p:nvSpPr>
              <p:cNvPr id="82" name="Line 17"/>
              <p:cNvSpPr/>
              <p:nvPr/>
            </p:nvSpPr>
            <p:spPr>
              <a:xfrm>
                <a:off x="2819520" y="3886200"/>
                <a:ext cx="4038480" cy="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3" name="Picture 18" descr="bs00988_"/>
              <p:cNvPicPr/>
              <p:nvPr/>
            </p:nvPicPr>
            <p:blipFill>
              <a:blip r:embed="rId2"/>
              <a:stretch/>
            </p:blipFill>
            <p:spPr>
              <a:xfrm>
                <a:off x="5715000" y="3581280"/>
                <a:ext cx="60984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Picture 19" descr="bs00988_"/>
              <p:cNvPicPr/>
              <p:nvPr/>
            </p:nvPicPr>
            <p:blipFill>
              <a:blip r:embed="rId3"/>
              <a:stretch/>
            </p:blipFill>
            <p:spPr>
              <a:xfrm>
                <a:off x="5029200" y="3581280"/>
                <a:ext cx="60984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20" descr="bs00988_"/>
              <p:cNvPicPr/>
              <p:nvPr/>
            </p:nvPicPr>
            <p:blipFill>
              <a:blip r:embed="rId4"/>
              <a:stretch/>
            </p:blipFill>
            <p:spPr>
              <a:xfrm>
                <a:off x="4191120" y="3581280"/>
                <a:ext cx="609480" cy="571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21" descr="bs00988_"/>
              <p:cNvPicPr/>
              <p:nvPr/>
            </p:nvPicPr>
            <p:blipFill>
              <a:blip r:embed="rId5"/>
              <a:stretch/>
            </p:blipFill>
            <p:spPr>
              <a:xfrm>
                <a:off x="3353040" y="3581280"/>
                <a:ext cx="609480" cy="571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7" name="Group 22"/>
            <p:cNvGrpSpPr/>
            <p:nvPr/>
          </p:nvGrpSpPr>
          <p:grpSpPr>
            <a:xfrm>
              <a:off x="838080" y="2971800"/>
              <a:ext cx="8229600" cy="1219320"/>
              <a:chOff x="838080" y="2971800"/>
              <a:chExt cx="8229600" cy="1219320"/>
            </a:xfrm>
          </p:grpSpPr>
          <p:grpSp>
            <p:nvGrpSpPr>
              <p:cNvPr id="88" name="Group 23"/>
              <p:cNvGrpSpPr/>
              <p:nvPr/>
            </p:nvGrpSpPr>
            <p:grpSpPr>
              <a:xfrm>
                <a:off x="838080" y="3124080"/>
                <a:ext cx="8229600" cy="1067040"/>
                <a:chOff x="838080" y="3124080"/>
                <a:chExt cx="8229600" cy="1067040"/>
              </a:xfrm>
            </p:grpSpPr>
            <p:sp>
              <p:nvSpPr>
                <p:cNvPr id="89" name="Line 24"/>
                <p:cNvSpPr/>
                <p:nvPr/>
              </p:nvSpPr>
              <p:spPr>
                <a:xfrm>
                  <a:off x="838080" y="3124080"/>
                  <a:ext cx="8229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Oval 25"/>
                <p:cNvSpPr/>
                <p:nvPr/>
              </p:nvSpPr>
              <p:spPr>
                <a:xfrm>
                  <a:off x="1599840" y="3505320"/>
                  <a:ext cx="1219320" cy="685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Text Box 26"/>
                <p:cNvSpPr/>
                <p:nvPr/>
              </p:nvSpPr>
              <p:spPr>
                <a:xfrm>
                  <a:off x="1677240" y="3652920"/>
                  <a:ext cx="1028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dmi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Oval 27"/>
                <p:cNvSpPr/>
                <p:nvPr/>
              </p:nvSpPr>
              <p:spPr>
                <a:xfrm>
                  <a:off x="6857640" y="3505320"/>
                  <a:ext cx="1219320" cy="685800"/>
                </a:xfrm>
                <a:prstGeom prst="ellipse">
                  <a:avLst/>
                </a:prstGeom>
                <a:solidFill>
                  <a:srgbClr val="ffffff"/>
                </a:solidFill>
                <a:ln w="381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Text Box 28"/>
                <p:cNvSpPr/>
                <p:nvPr/>
              </p:nvSpPr>
              <p:spPr>
                <a:xfrm>
                  <a:off x="6935040" y="3652920"/>
                  <a:ext cx="1028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dmi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Line 29"/>
              <p:cNvSpPr/>
              <p:nvPr/>
            </p:nvSpPr>
            <p:spPr>
              <a:xfrm>
                <a:off x="2209680" y="297180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Line 30"/>
              <p:cNvSpPr/>
              <p:nvPr/>
            </p:nvSpPr>
            <p:spPr>
              <a:xfrm>
                <a:off x="7467480" y="2971800"/>
                <a:ext cx="0" cy="533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6" name="Picture 31" descr="ed00010_"/>
              <p:cNvPicPr/>
              <p:nvPr/>
            </p:nvPicPr>
            <p:blipFill>
              <a:blip r:embed="rId6"/>
              <a:stretch/>
            </p:blipFill>
            <p:spPr>
              <a:xfrm>
                <a:off x="1752480" y="2971800"/>
                <a:ext cx="339480" cy="38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Picture 32" descr="ed00010_"/>
              <p:cNvPicPr/>
              <p:nvPr/>
            </p:nvPicPr>
            <p:blipFill>
              <a:blip r:embed="rId7"/>
              <a:stretch/>
            </p:blipFill>
            <p:spPr>
              <a:xfrm>
                <a:off x="7619760" y="2971800"/>
                <a:ext cx="339840" cy="3808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8" name="Picture 52" descr="in00930_"/>
            <p:cNvPicPr/>
            <p:nvPr/>
          </p:nvPicPr>
          <p:blipFill>
            <a:blip r:embed="rId8"/>
            <a:stretch/>
          </p:blipFill>
          <p:spPr>
            <a:xfrm>
              <a:off x="1905120" y="4343400"/>
              <a:ext cx="5331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53" descr="in00930_"/>
            <p:cNvPicPr/>
            <p:nvPr/>
          </p:nvPicPr>
          <p:blipFill>
            <a:blip r:embed="rId9"/>
            <a:stretch/>
          </p:blipFill>
          <p:spPr>
            <a:xfrm>
              <a:off x="1905120" y="5162400"/>
              <a:ext cx="5331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54" descr="in00930_"/>
            <p:cNvPicPr/>
            <p:nvPr/>
          </p:nvPicPr>
          <p:blipFill>
            <a:blip r:embed="rId10"/>
            <a:stretch/>
          </p:blipFill>
          <p:spPr>
            <a:xfrm>
              <a:off x="2971800" y="5162400"/>
              <a:ext cx="5335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55" descr="in00930_"/>
            <p:cNvPicPr/>
            <p:nvPr/>
          </p:nvPicPr>
          <p:blipFill>
            <a:blip r:embed="rId11"/>
            <a:stretch/>
          </p:blipFill>
          <p:spPr>
            <a:xfrm>
              <a:off x="3657600" y="5467320"/>
              <a:ext cx="5335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56" descr="in00930_"/>
            <p:cNvPicPr/>
            <p:nvPr/>
          </p:nvPicPr>
          <p:blipFill>
            <a:blip r:embed="rId12"/>
            <a:stretch/>
          </p:blipFill>
          <p:spPr>
            <a:xfrm>
              <a:off x="4419720" y="5791320"/>
              <a:ext cx="53316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57" descr="in00930_"/>
            <p:cNvPicPr/>
            <p:nvPr/>
          </p:nvPicPr>
          <p:blipFill>
            <a:blip r:embed="rId13"/>
            <a:stretch/>
          </p:blipFill>
          <p:spPr>
            <a:xfrm>
              <a:off x="4495680" y="5181480"/>
              <a:ext cx="5335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58" descr="in00930_"/>
            <p:cNvPicPr/>
            <p:nvPr/>
          </p:nvPicPr>
          <p:blipFill>
            <a:blip r:embed="rId14"/>
            <a:stretch/>
          </p:blipFill>
          <p:spPr>
            <a:xfrm>
              <a:off x="5334120" y="5181480"/>
              <a:ext cx="53316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9" descr="in00930_"/>
            <p:cNvPicPr/>
            <p:nvPr/>
          </p:nvPicPr>
          <p:blipFill>
            <a:blip r:embed="rId15"/>
            <a:stretch/>
          </p:blipFill>
          <p:spPr>
            <a:xfrm>
              <a:off x="6095880" y="5181480"/>
              <a:ext cx="5335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60" descr="in00930_"/>
            <p:cNvPicPr/>
            <p:nvPr/>
          </p:nvPicPr>
          <p:blipFill>
            <a:blip r:embed="rId16"/>
            <a:stretch/>
          </p:blipFill>
          <p:spPr>
            <a:xfrm>
              <a:off x="7010280" y="5162400"/>
              <a:ext cx="5335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61" descr="in00930_"/>
            <p:cNvPicPr/>
            <p:nvPr/>
          </p:nvPicPr>
          <p:blipFill>
            <a:blip r:embed="rId17"/>
            <a:stretch/>
          </p:blipFill>
          <p:spPr>
            <a:xfrm>
              <a:off x="7162920" y="4495680"/>
              <a:ext cx="53316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  <a:ea typeface="宋体"/>
              </a:rPr>
              <a:t>TCP/IP and Domain Names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Basic task of IP – moving packets as quickly as possible from one router to another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Yet, it doesn’t check whether packets are delivered successfully, thus need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TCP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TCP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Transmission Control Protocol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) – disassemble/reassemble packets, error checking, ACK packets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  <a:ea typeface="宋体"/>
              </a:rPr>
              <a:t>TCP/IP and Domain Names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We need some sort of address in order to identify different nodes, as if every house has a mailing address in order to receive mail from others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The one used by Internet Protocol is called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IP address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Every host on the Internet has a unique IP address, made up of four numbers. E.g.. 192.56.215.131, each number is between 0 and 255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800600" y="22824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Garamond"/>
                <a:ea typeface="宋体"/>
              </a:rPr>
              <a:t>TCP/IP and Domain Names</a:t>
            </a:r>
            <a:endParaRPr b="0" lang="en-US" sz="2000" spc="-1" strike="noStrike">
              <a:solidFill>
                <a:srgbClr val="ffffff"/>
              </a:solidFill>
              <a:latin typeface="A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8960" y="1295280"/>
            <a:ext cx="7543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The numbers in an IP address is hard to remember, while names are easier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Domain Name System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 – a mapping between the human-readable name (domain name) of a host and its IP address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domain name</a:t>
            </a: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 consists of two or more parts, e.g. </a:t>
            </a:r>
            <a:r>
              <a:rPr b="0" i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cs.pitt.edu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The rightmost label conveys the top-level domain, e.g. </a:t>
            </a:r>
            <a:r>
              <a:rPr b="0" i="1" lang="en-US" sz="3200" spc="-1" strike="noStrike">
                <a:solidFill>
                  <a:srgbClr val="000000"/>
                </a:solidFill>
                <a:latin typeface="AGaramond"/>
                <a:ea typeface="宋体"/>
              </a:rPr>
              <a:t>edu</a:t>
            </a:r>
            <a:endParaRPr b="0" lang="en-US" sz="3200" spc="-1" strike="noStrike">
              <a:solidFill>
                <a:srgbClr val="000000"/>
              </a:solidFill>
              <a:latin typeface="A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30T21:41:18Z</dcterms:created>
  <dc:creator>WSE</dc:creator>
  <dc:description/>
  <dc:language>en-US</dc:language>
  <cp:lastModifiedBy>ABBAS</cp:lastModifiedBy>
  <dcterms:modified xsi:type="dcterms:W3CDTF">2014-10-11T18:13:04Z</dcterms:modified>
  <cp:revision>66</cp:revision>
  <dc:subject/>
  <dc:title>No Slide Title</dc:title>
</cp:coreProperties>
</file>