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arrow.wav" ContentType="audio/x-wav"/>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25211-6364-47BB-A04B-A4F5262F7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81E2-E5A5-40A6-92BE-BC56F7B6B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9FE237-CA77-42B9-A2C3-2136F8F4FA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C08A01-7934-437A-B075-9FBE59536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3733D-2022-4FDF-A3F0-BF5B20E5C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E78C0-AC96-4120-A9E4-E44FDAE99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35B50A-D4F9-4E87-8E6A-CCC9AD83C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D439E-D2BC-415E-94E9-621C9298A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5D2A77-7DC3-4F4A-B803-84345BA578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A84CE3-8323-4586-AC83-B13067C6E8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3B7AB2-593A-4CD8-B1D7-694D6B8E83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F1560F-63FF-44FE-9A51-2C2B2FA05D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22827-33C5-4157-862A-536373EA1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896379-DE76-4596-BCE1-E0780F4838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2BA0BA-5D4D-4370-AA89-BE6B471A41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1592CF-9B22-43E9-9309-AD6F1F39B6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D880D6-D0EE-49EE-B4F2-C580FE6A61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31B71B-462E-48D4-B4DC-A2B18D3C82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0366CE-2DBC-447E-BB5A-5EB57D5399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AEEA6E-6450-4AE5-BBE0-116CF7CE73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EB4D32-2D30-4E97-B019-FCD7A268A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82347C-BFD7-4BD1-85F7-3980FC0D19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CE04DA-9E79-491B-AB00-0950050883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8ACC9-D7D9-4D8C-8E8D-4048668A2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186A3F-D789-4C14-BA2A-548A8288F3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5F8AEF-750C-42B9-80D2-DE78D8AAA2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94A035-70F4-4A4D-964D-7DE35499C3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806465-237A-4D4E-83EE-A7AEA1130F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DBDAF3-E9BF-46DA-921F-6B9F9C260D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3D612B-6AEB-4D5A-8491-B90E04CC7C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87C79B-7A8F-48D0-BA30-796E66B46C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B95BD5-9C9B-43FC-B8E7-C2F3506CE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FCEDE-1B00-4D49-944C-43359C8A5D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31C4A6-260C-48BE-A7F5-5928A6A3C0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50157-262D-42CA-95F0-E4D33A645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2A3578-5D73-45E7-B4BC-CEED6F5BC8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0A0EE8-B26D-4BE6-888E-C4A52D3011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886D3D-72DD-4468-963D-0C45AD4BBB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760B6C-50CD-4133-A79F-7184DC9099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A58AA4-B6E6-44E2-925C-7C4C1D3F26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9CA4A5-0073-47C3-B2F8-07045DA614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202BE4-FA9C-4737-BF14-760C7ADB3F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62F061-7891-483F-A0F7-C16E458E0B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5D1994-37F2-4FDD-B7E2-6DCD047E8B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3B970C-5C93-4277-A447-89242009F9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AAA36-85C3-4526-A860-F9B3228C4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DA61DE-DAA0-4DD6-9019-BED50A6D3A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87973C-ECF5-4BFE-B6CA-682B01B84E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727E3F-CAB4-4C34-9BB6-F3E0D64CE4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90F344-2755-413D-B6CA-0DEBA42A6F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7E2290-F9A3-4DF9-870C-68E375CE48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2BD39-037D-4192-A41E-62E96FA0D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BB85B-8E4E-420E-AE05-7751339EB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F52C8-7CE0-49B5-BD35-4AA6A3C1F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B5D4D-72BA-418F-8C73-2BFB8EACE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BD04-1982-45F3-806C-1DD09327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EE14-BD2B-4943-BF55-6ED0BE644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5DD33-B2C3-4EF5-A9CA-F1C15A1B9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311C-63AA-4AC9-8205-42EBA502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A5306-6840-4C66-86FA-70DC6550B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0B34B-8646-4571-82B9-4C7E467A3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2BB97-0884-4AC7-B453-D816BD192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082102-76E0-47ED-A791-2ADA9CCF3A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F1B48-0BB3-47BE-9306-EE0A9BA89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1B132-F48A-46B4-84A8-52645BF5E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C1ADD-0D60-4F22-B232-216A62525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4E303-2371-4BDD-A15E-512D248A7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963C3-8528-4F96-A0F3-2C061753C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50E7A-FDF0-4ECB-B434-5BC90BE61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FDDC9-2C8F-4C06-AF4D-53D26673F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69163-AF94-4646-B798-729F68D7A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92B0F-3066-4326-A9B2-7A5C9E920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D4283-BD92-4A46-B687-ABBA3DACF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13EBE-152E-41B7-8C4A-9CDE65D3A9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2771D3-809A-4DA8-99E4-C8C8BB8461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36394C-E55C-4E2A-AC2F-0739BD8C29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337D0-E287-4EEF-AD94-5DFDC452A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C8D46-7660-4BC3-8121-D457A02A7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9BB2-E76C-4EAD-9DA3-A2C5CD8F3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FFAC1-084C-420A-BEFD-15FBC0B8D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CB7AC-51E1-4182-B956-70098CFDF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E96D65-2B47-4E3F-A656-DE03E9FF2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3E622-29E5-4D9F-B518-D90140FE2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D373D-4045-4B22-97E0-5844236E7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B17A9-E3DB-4697-8B9E-AD23F63C3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C6840-430A-4404-8001-1986DED27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78669A-AF6E-4767-A504-540CD1A8E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066149-8EE0-4A49-8FD8-46AA9FB6D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123F9B-3368-4539-AA40-25AF1756E2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02826-FFF9-4FB9-B116-BBA2B6A9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39CED-4544-46F2-A1F2-9A5BCADAB5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7BAB6-01E0-4D7E-A863-097E6AEA8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71BE96-8483-4BD1-877D-5DB2244265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A4903B-3758-4549-9308-13F541A59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040478-51C2-41C1-91E5-9D7804D5C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2CC4F-027A-4ADA-9249-756840EB9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B81B2-966A-4895-8B3A-F8406F49C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C6E27-EF8B-4237-A4A1-B28D2821E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14912-0D63-47CC-A93F-682B7BC58E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D8F92-FE87-4547-9D6D-D619D69818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535BE-3036-47BA-BC35-71F48FBC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4CE986-87BA-44FE-B77A-5259117ACE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723630-820B-4CD8-A5F5-075236EEA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BCDDA0-31CF-46D4-8DBD-90FA86D96E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CE032-D433-4A38-8969-C47E1AFDC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588CA-EB6B-43A2-B7C7-F0A4032A6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E3718-63CB-4F00-ABED-954256F2B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EE6EA-7900-4E28-AE98-4F6985CFC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32CB7-B018-4B34-8518-C2BF2AEED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62D64-9942-4DE5-831F-387BF5FBE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E4954-8941-413E-87EF-4D416831E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8B94-DFD1-4133-BA23-6489A9A1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906CE-EF99-421E-93AB-607B21E81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461FD9-9FCD-42AD-88BD-E01F556A1F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A25579-CCBA-47DD-8D97-448229382C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295F43-53BC-4697-B0EB-8C2E65D15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8D98D-7B9F-4358-BE9B-3640AA306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88E93-08F1-4E82-B339-AC5EC4C49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4CF7B2-58ED-4470-B44D-67FC35A59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089BD9-7DA1-4FC1-BDC1-B91AB6410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C6A4D5-AFC9-4DBC-A833-FC53CC50F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91370-25DC-473C-A956-5F092756E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BED7-BFB5-4592-9404-1D9F38C5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09B50-721B-4C31-B172-A864EDEAB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BCFBA-3A61-4F9C-855C-B8C51E28C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029BEC-4D9E-4568-B79C-9879A1E12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AC8D5B-52BB-49DD-B045-179873A65C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D827A-3F31-4558-9D71-A70EF5E96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3F8D22-5A7A-4C97-BFF4-FA3C6024C8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3F9E45-DF91-43C1-AC9D-F2BC9B5345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6BE70-6916-44C7-8E4A-C13F26D8A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69A0B2-EAF3-4A4D-BD21-B7C684643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92C123-5BF7-44F9-876A-9923B3E10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B35E8-9063-45FF-80CF-D1C8494A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976021-E101-4500-840F-B7D4D095D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A01041-816D-4127-878A-5D427634D7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AB05D-7799-457A-97CF-06A937FA4F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79A0D-2E25-4FE4-A0A5-75918EE4A4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06C06B-1D78-4E65-93AA-1B9642A579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DCC393-1030-4BF8-A1B8-84115DFF32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B100B8-9C5D-4127-BCC4-8950BC8817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566926-5822-4283-AA7E-FB688797B2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76872A-B6EB-40DB-A042-468E8599DF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25F28-6B4F-4524-BA28-6ABF95D1A6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4786-FA43-4C69-970D-50A6A0E81C4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0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04"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PlaceHolder 5"/>
          <p:cNvSpPr>
            <a:spLocks noGrp="1"/>
          </p:cNvSpPr>
          <p:nvPr>
            <p:ph type="sldNum" idx="30"/>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9F2A-442D-47F6-AA12-7D179BCE4D2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4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47"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4D12-FFEA-479D-B145-9A7FB5DA613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90"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450F-6364-4EB3-9C01-67C44799658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E253-BCCB-4912-8991-D4D90043CE3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3"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6E5C-A413-4A66-A342-C93FBB1FCCD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3" name="Rounded Rectangle 10"/>
          <p:cNvGrpSpPr/>
          <p:nvPr/>
        </p:nvGrpSpPr>
        <p:grpSpPr>
          <a:xfrm>
            <a:off x="66600" y="66600"/>
            <a:ext cx="9016920" cy="6699240"/>
            <a:chOff x="66600" y="66600"/>
            <a:chExt cx="9016920" cy="6699240"/>
          </a:xfrm>
        </p:grpSpPr>
        <p:pic>
          <p:nvPicPr>
            <p:cNvPr id="134" name="Rounded Rectangle 10" descr=""/>
            <p:cNvPicPr/>
            <p:nvPr/>
          </p:nvPicPr>
          <p:blipFill>
            <a:blip r:embed="rId3"/>
            <a:stretch/>
          </p:blipFill>
          <p:spPr>
            <a:xfrm>
              <a:off x="66600" y="66600"/>
              <a:ext cx="9016920" cy="6699240"/>
            </a:xfrm>
            <a:prstGeom prst="rect">
              <a:avLst/>
            </a:prstGeom>
            <a:ln w="0">
              <a:noFill/>
            </a:ln>
          </p:spPr>
        </p:pic>
        <p:sp>
          <p:nvSpPr>
            <p:cNvPr id="13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36"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1F8D-A722-45DA-879F-F059543948B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3341-016C-43E8-8B78-804CC828D95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7"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9"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132D-6E03-44F4-A737-2AA331576F8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6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0"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2"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2F2D-7FDD-403A-B098-E4796BAA259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0963-B45B-4BDF-9E7F-681E768D26D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0"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8349-525A-4273-978A-C7346E7A064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bas.aljuboori@uokerbala.edu.iq" TargetMode="External"/><Relationship Id="rId2" Type="http://schemas.openxmlformats.org/officeDocument/2006/relationships/audio" Target="../media/arrow.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rrow.wav"/><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rrow.wav"/><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rrow.wav"/><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alpha val="97000"/>
          </a:srgbClr>
        </a:solidFill>
      </p:bgPr>
    </p:bg>
    <p:spTree>
      <p:nvGrpSpPr>
        <p:cNvPr id="1" name=""/>
        <p:cNvGrpSpPr/>
        <p:nvPr/>
      </p:nvGrpSpPr>
      <p:grpSpPr>
        <a:xfrm>
          <a:off x="0" y="0"/>
          <a:ext cx="0" cy="0"/>
          <a:chOff x="0" y="0"/>
          <a:chExt cx="0" cy="0"/>
        </a:xfrm>
      </p:grpSpPr>
      <p:sp>
        <p:nvSpPr>
          <p:cNvPr id="529" name="Text Box 7"/>
          <p:cNvSpPr/>
          <p:nvPr/>
        </p:nvSpPr>
        <p:spPr>
          <a:xfrm>
            <a:off x="0" y="76320"/>
            <a:ext cx="9144000" cy="683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1610"/>
                </a:solidFill>
                <a:latin typeface="Tw Cen MT Condensed Extra Bold"/>
                <a:ea typeface="Arial"/>
              </a:rPr>
              <a:t>Chapter One</a:t>
            </a:r>
            <a:endParaRPr b="1" lang="en-US" sz="48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e1610"/>
                </a:solidFill>
                <a:latin typeface="Franklin Gothic Heavy"/>
                <a:ea typeface="Arial"/>
              </a:rPr>
              <a:t>Multimedia</a:t>
            </a:r>
            <a:endParaRPr b="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e1610"/>
                </a:solidFill>
                <a:latin typeface="Franklin Gothic Heavy"/>
                <a:ea typeface="Arial"/>
              </a:rPr>
              <a:t> </a:t>
            </a:r>
            <a:r>
              <a:rPr b="0" lang="en-US" sz="6000" spc="-1" strike="noStrike">
                <a:solidFill>
                  <a:srgbClr val="4e1610"/>
                </a:solidFill>
                <a:latin typeface="Franklin Gothic Heavy"/>
                <a:ea typeface="Arial"/>
              </a:rPr>
              <a:t>Introduction </a:t>
            </a:r>
            <a:endParaRPr b="1"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1610"/>
                </a:solidFill>
                <a:latin typeface="Times New Roman"/>
                <a:ea typeface="Times New Roman"/>
              </a:rPr>
              <a:t>Dr. Abbas Fadhil Mohammed</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Ali AL-Juboori</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ea typeface="Times New Roman"/>
                <a:hlinkClick r:id="rId1"/>
              </a:rPr>
              <a:t>Abbas.aljuboori@uokerbala.edu.iq</a:t>
            </a:r>
            <a:r>
              <a:rPr b="0" lang="en-US" sz="2000" spc="-1" strike="noStrike">
                <a:solidFill>
                  <a:srgbClr val="4e1610"/>
                </a:solidFill>
                <a:latin typeface="Times New Roman"/>
                <a:ea typeface="Times New Roman"/>
              </a:rPr>
              <a:t>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e1610"/>
                </a:solidFill>
                <a:latin typeface="Palace Script MT"/>
                <a:ea typeface="Arial"/>
              </a:rPr>
              <a:t>2011</a:t>
            </a:r>
            <a:endParaRPr b="1"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1610"/>
                </a:solidFill>
                <a:latin typeface="Times New Roman"/>
                <a:ea typeface="Times New Roman"/>
              </a:rPr>
              <a:t>All rights reserved</a:t>
            </a:r>
            <a:endParaRPr b="1" lang="en-US" sz="2000" spc="-1" strike="noStrike">
              <a:solidFill>
                <a:srgbClr val="000000"/>
              </a:solidFill>
              <a:latin typeface="Times New Roman"/>
            </a:endParaRPr>
          </a:p>
        </p:txBody>
      </p:sp>
    </p:spTree>
  </p:cSld>
  <p:transition>
    <p:dissolve/>
    <p:sndAc>
      <p:stSnd>
        <p:snd r:embed="rId2"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68E7-5925-47BF-9D86-4E7B126D170F}"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49" name=""/>
          <p:cNvSpPr txBox="1"/>
          <p:nvPr/>
        </p:nvSpPr>
        <p:spPr>
          <a:xfrm>
            <a:off x="533160" y="1294920"/>
            <a:ext cx="7589880" cy="495324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nally, we mention that video is another element of multimedia. Obviously, video and audio are closely related, and together they are the most effective means of communication that can be a part of the multimedia system</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304560"/>
            <a:ext cx="7543800" cy="1447560"/>
          </a:xfrm>
          <a:prstGeom prst="rect">
            <a:avLst/>
          </a:prstGeom>
          <a:solidFill>
            <a:srgbClr val="fad9cd"/>
          </a:solid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Franklin Gothic Book"/>
              </a:rPr>
              <a:t>MA</a:t>
            </a:r>
            <a:r>
              <a:rPr b="1" lang="nn-NO" sz="3200" spc="-1" strike="noStrike">
                <a:solidFill>
                  <a:srgbClr val="696464"/>
                </a:solidFill>
                <a:latin typeface="Franklin Gothic Book"/>
              </a:rPr>
              <a:t>SS MEDIA VERSUS MULTIMEDIA</a:t>
            </a:r>
            <a:br>
              <a:rPr sz="3200"/>
            </a:br>
            <a:r>
              <a:rPr b="1" lang="nn-NO" sz="3200" spc="-1" strike="noStrike">
                <a:solidFill>
                  <a:srgbClr val="696464"/>
                </a:solidFill>
                <a:latin typeface="Franklin Gothic Book"/>
              </a:rPr>
              <a:t>DIGITAL AND ANALOG DATA</a:t>
            </a:r>
            <a:endParaRPr b="0" lang="en-US" sz="3200" spc="-1" strike="noStrike">
              <a:solidFill>
                <a:srgbClr val="696464"/>
              </a:solidFill>
              <a:latin typeface="Franklin Gothic Book"/>
            </a:endParaRPr>
          </a:p>
        </p:txBody>
      </p:sp>
      <p:sp>
        <p:nvSpPr>
          <p:cNvPr id="55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E8F6-1184-4FDE-91CE-91ED26C9A681}"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52" name=""/>
          <p:cNvSpPr txBox="1"/>
          <p:nvPr/>
        </p:nvSpPr>
        <p:spPr>
          <a:xfrm>
            <a:off x="533520" y="2361960"/>
            <a:ext cx="7772400" cy="373356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mputer is an intrinsic part of multimedia. Thus all the elements of multimedia have to be in digital format. In contrast, other multiple media such as TV programs and films are analog in nature. It is important to understand the difference between the two formats</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p:transition>
    <p:dissolve/>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135B-672E-4CD2-A54D-5D5C97CCCA22}"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54" name=""/>
          <p:cNvSpPr txBox="1"/>
          <p:nvPr/>
        </p:nvSpPr>
        <p:spPr>
          <a:xfrm>
            <a:off x="761760" y="685800"/>
            <a:ext cx="7589880" cy="541008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fference between discrete and continuous. Consider a line segmen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necting two points. There are an infinite number of points on any line segment. However, when we wish to write a program to draw a line segment on the screen connecting two points, we will not be able to draw an infinite number of points. This is because the number of pixels on the screen is finite, and only a finite number of pixels have to be colored black (on a white screen) to draw a line segment</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A897-5818-40F1-9F8C-DF0C5B3EED52}"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56" name=""/>
          <p:cNvSpPr txBox="1"/>
          <p:nvPr/>
        </p:nvSpPr>
        <p:spPr>
          <a:xfrm>
            <a:off x="1173240" y="533160"/>
            <a:ext cx="7665840" cy="617220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other words, we can say that the line segment (as defined in geometry books) is continuous and the line made on the computer screen is discrete</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since the pixels on the screen are very close to each other, our eyes cannot tell the difference, and we perceive a continuous line</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can say that analog is continuous data, and digital is discrete. The plants and trees that we see around us are continuous, but their digital pictures are forced to be discrete</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28F5-E7EA-432D-A222-124365647704}"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58" name=""/>
          <p:cNvSpPr txBox="1"/>
          <p:nvPr/>
        </p:nvSpPr>
        <p:spPr>
          <a:xfrm>
            <a:off x="685800" y="685800"/>
            <a:ext cx="7742160" cy="548640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evertheless, we have seen that if we include enough data in our digital representation, our eyes cannot tell the difference. One advantage of working with digitally stored media is the comparative ease of editing media files. This is the primary reason why even analog media studios employ computers in their work. For example, the 2-D and 3-D animations that you see these days on television</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nd in movies are almost all done by using computers</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68A5-552E-43C0-86B4-C6A1265B3A8F}"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60" name=""/>
          <p:cNvSpPr txBox="1"/>
          <p:nvPr/>
        </p:nvSpPr>
        <p:spPr>
          <a:xfrm>
            <a:off x="762120" y="1523880"/>
            <a:ext cx="7772400" cy="3657600"/>
          </a:xfrm>
          <a:prstGeom prst="rect">
            <a:avLst/>
          </a:prstGeom>
          <a:noFill/>
          <a:ln w="0">
            <a:noFill/>
          </a:ln>
        </p:spPr>
        <p:txBody>
          <a:bodyPr anchor="t">
            <a:normAutofit fontScale="99000"/>
          </a:bodyPr>
          <a:p>
            <a:pPr marL="270000" indent="-27000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e consequence of requiring all multimedia elements to be in a digital format is that we need special hardware and software to convert from analog to digital format. For example, we may shoot a video to incorporate in our multimedia project, but we need some special software and hardware to convert it into a digital format, aside from the software to edit it</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p:transition>
    <p:dissolve/>
    <p:sndAc>
      <p:stSnd>
        <p:snd r:embed="rId1"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3CF7-48E1-44AC-BD03-12D095FC73CF}"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62" name=""/>
          <p:cNvSpPr txBox="1"/>
          <p:nvPr/>
        </p:nvSpPr>
        <p:spPr>
          <a:xfrm>
            <a:off x="685440" y="609120"/>
            <a:ext cx="7666200" cy="579132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reover, multimedia files usually take up a lot of space on the disk, so we usually use different techniques to reduce the file size of (or compress) the data. We may also need to find special programs to view or play the files</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 example, to compress music files using a technique called MP3 compression, we use an MP3 encoder. To play the music files, we need (aside from the usual multimedia computer)</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ftware that can play the music in this format an MP3 Player</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228600"/>
            <a:ext cx="7772400" cy="9144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Franklin Gothic Book"/>
              </a:rPr>
              <a:t>Multimedia is Multidisciplinary</a:t>
            </a:r>
            <a:endParaRPr b="0" lang="en-US" sz="4000" spc="-1" strike="noStrike">
              <a:solidFill>
                <a:srgbClr val="696464"/>
              </a:solidFill>
              <a:latin typeface="Franklin Gothic Book"/>
            </a:endParaRPr>
          </a:p>
        </p:txBody>
      </p:sp>
      <p:sp>
        <p:nvSpPr>
          <p:cNvPr id="564"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0936-654A-4D30-A999-252692BFF249}"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65" name="Oval 3"/>
          <p:cNvSpPr/>
          <p:nvPr/>
        </p:nvSpPr>
        <p:spPr>
          <a:xfrm>
            <a:off x="1447920" y="3060720"/>
            <a:ext cx="4724280" cy="1905120"/>
          </a:xfrm>
          <a:prstGeom prst="ellipse">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Oval 4"/>
          <p:cNvSpPr/>
          <p:nvPr/>
        </p:nvSpPr>
        <p:spPr>
          <a:xfrm>
            <a:off x="4267080" y="3137040"/>
            <a:ext cx="4648320" cy="167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Text Box 5"/>
          <p:cNvSpPr/>
          <p:nvPr/>
        </p:nvSpPr>
        <p:spPr>
          <a:xfrm>
            <a:off x="1828800" y="37465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 audio, speech processing</a:t>
            </a:r>
            <a:endParaRPr b="1" lang="en-US" sz="1800" spc="-1" strike="noStrike">
              <a:solidFill>
                <a:srgbClr val="000000"/>
              </a:solidFill>
              <a:latin typeface="Times New Roman"/>
            </a:endParaRPr>
          </a:p>
        </p:txBody>
      </p:sp>
      <p:sp>
        <p:nvSpPr>
          <p:cNvPr id="568" name="Text Box 6"/>
          <p:cNvSpPr/>
          <p:nvPr/>
        </p:nvSpPr>
        <p:spPr>
          <a:xfrm>
            <a:off x="6705000" y="3517920"/>
            <a:ext cx="191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 vis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tern recognition</a:t>
            </a:r>
            <a:endParaRPr b="1" lang="en-US" sz="1800" spc="-1" strike="noStrike">
              <a:solidFill>
                <a:srgbClr val="000000"/>
              </a:solidFill>
              <a:latin typeface="Times New Roman"/>
            </a:endParaRPr>
          </a:p>
        </p:txBody>
      </p:sp>
      <p:sp>
        <p:nvSpPr>
          <p:cNvPr id="569" name="Oval 7"/>
          <p:cNvSpPr/>
          <p:nvPr/>
        </p:nvSpPr>
        <p:spPr>
          <a:xfrm>
            <a:off x="4267080" y="1155600"/>
            <a:ext cx="2057400" cy="358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 name="Text Box 8"/>
          <p:cNvSpPr/>
          <p:nvPr/>
        </p:nvSpPr>
        <p:spPr>
          <a:xfrm>
            <a:off x="4495680" y="1689120"/>
            <a:ext cx="173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system</a:t>
            </a:r>
            <a:endParaRPr b="1" lang="en-US" sz="1800" spc="-1" strike="noStrike">
              <a:solidFill>
                <a:srgbClr val="000000"/>
              </a:solidFill>
              <a:latin typeface="Times New Roman"/>
            </a:endParaRPr>
          </a:p>
        </p:txBody>
      </p:sp>
      <p:sp>
        <p:nvSpPr>
          <p:cNvPr id="571" name="Oval 9"/>
          <p:cNvSpPr/>
          <p:nvPr/>
        </p:nvSpPr>
        <p:spPr>
          <a:xfrm rot="2700000">
            <a:off x="3206520" y="2915640"/>
            <a:ext cx="2057400" cy="423216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Text Box 10"/>
          <p:cNvSpPr/>
          <p:nvPr/>
        </p:nvSpPr>
        <p:spPr>
          <a:xfrm>
            <a:off x="3429000" y="5118120"/>
            <a:ext cx="183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computer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on</a:t>
            </a:r>
            <a:endParaRPr b="1" lang="en-US" sz="1800" spc="-1" strike="noStrike">
              <a:solidFill>
                <a:srgbClr val="000000"/>
              </a:solidFill>
              <a:latin typeface="Times New Roman"/>
            </a:endParaRPr>
          </a:p>
        </p:txBody>
      </p:sp>
      <p:sp>
        <p:nvSpPr>
          <p:cNvPr id="573" name="Oval 11"/>
          <p:cNvSpPr/>
          <p:nvPr/>
        </p:nvSpPr>
        <p:spPr>
          <a:xfrm rot="2700000">
            <a:off x="3964320" y="4074480"/>
            <a:ext cx="4719600" cy="176220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Text Box 12"/>
          <p:cNvSpPr/>
          <p:nvPr/>
        </p:nvSpPr>
        <p:spPr>
          <a:xfrm>
            <a:off x="6476400" y="5270400"/>
            <a:ext cx="1200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a:t>
            </a:r>
            <a:endParaRPr b="1" lang="en-US" sz="2000" spc="-1" strike="noStrike">
              <a:solidFill>
                <a:srgbClr val="000000"/>
              </a:solidFill>
              <a:latin typeface="Times New Roman"/>
            </a:endParaRPr>
          </a:p>
        </p:txBody>
      </p:sp>
      <p:sp>
        <p:nvSpPr>
          <p:cNvPr id="575" name="Oval 13"/>
          <p:cNvSpPr/>
          <p:nvPr/>
        </p:nvSpPr>
        <p:spPr>
          <a:xfrm>
            <a:off x="4724280" y="3365640"/>
            <a:ext cx="1143000" cy="1066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media</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ing</a:t>
            </a:r>
            <a:endParaRPr b="1" lang="en-US" sz="1800" spc="-1" strike="noStrike">
              <a:solidFill>
                <a:srgbClr val="000000"/>
              </a:solidFill>
              <a:latin typeface="Times New Roman"/>
            </a:endParaRPr>
          </a:p>
        </p:txBody>
      </p:sp>
    </p:spTree>
  </p:cSld>
  <p:transition>
    <p:dissolve/>
    <p:sndAc>
      <p:stSnd>
        <p:snd r:embed="rId1"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33520"/>
            <a:ext cx="6400800" cy="884160"/>
          </a:xfrm>
          <a:prstGeom prst="rect">
            <a:avLst/>
          </a:prstGeom>
          <a:solidFill>
            <a:srgbClr val="fad9cd"/>
          </a:solid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Multimedia- Applications</a:t>
            </a:r>
            <a:endParaRPr b="0" lang="en-US" sz="3600" spc="-1" strike="noStrike">
              <a:solidFill>
                <a:srgbClr val="696464"/>
              </a:solidFill>
              <a:latin typeface="Franklin Gothic Book"/>
            </a:endParaRPr>
          </a:p>
        </p:txBody>
      </p:sp>
      <p:sp>
        <p:nvSpPr>
          <p:cNvPr id="57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E604-B93B-42E4-AD08-66022036AD8A}"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78" name=""/>
          <p:cNvSpPr txBox="1"/>
          <p:nvPr/>
        </p:nvSpPr>
        <p:spPr>
          <a:xfrm>
            <a:off x="1143000" y="1981080"/>
            <a:ext cx="7802640" cy="4114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Garamond"/>
              </a:rPr>
              <a:t>Multimedia plays major role in following areas</a:t>
            </a: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Garamond"/>
              </a:rPr>
              <a:t>Instruction</a:t>
            </a:r>
            <a:endParaRPr b="0" lang="en-US" sz="24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Garamond"/>
              </a:rPr>
              <a:t>Business</a:t>
            </a:r>
            <a:endParaRPr b="0" lang="en-US" sz="24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Advertisements</a:t>
            </a:r>
            <a:endParaRPr b="0" lang="en-US" sz="20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Training materials</a:t>
            </a:r>
            <a:endParaRPr b="0" lang="en-US" sz="20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Presentations</a:t>
            </a:r>
            <a:endParaRPr b="0" lang="en-US" sz="20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Customer support services</a:t>
            </a:r>
            <a:endParaRPr b="0" lang="en-US" sz="20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Garamond"/>
              </a:rPr>
              <a:t>Entertainment</a:t>
            </a:r>
            <a:endParaRPr b="0" lang="en-US" sz="24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Interactive Games</a:t>
            </a:r>
            <a:endParaRPr b="0" lang="en-US" sz="2000" spc="-1" strike="noStrike">
              <a:solidFill>
                <a:srgbClr val="000000"/>
              </a:solidFill>
              <a:latin typeface="Perpetua"/>
            </a:endParaRPr>
          </a:p>
        </p:txBody>
      </p:sp>
    </p:spTree>
  </p:cSld>
  <p:transition>
    <p:dissolve/>
    <p:sndAc>
      <p:stSnd>
        <p:snd r:embed="rId1" name="arrow.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57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78">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78">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78">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78">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78">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78">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78">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533520"/>
            <a:ext cx="6705720" cy="884160"/>
          </a:xfrm>
          <a:prstGeom prst="rect">
            <a:avLst/>
          </a:prstGeom>
          <a:solidFill>
            <a:srgbClr val="fad9cd"/>
          </a:solid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Multimedia- Applications</a:t>
            </a:r>
            <a:endParaRPr b="0" lang="en-US" sz="3600" spc="-1" strike="noStrike">
              <a:solidFill>
                <a:srgbClr val="696464"/>
              </a:solidFill>
              <a:latin typeface="Franklin Gothic Book"/>
            </a:endParaRPr>
          </a:p>
        </p:txBody>
      </p:sp>
      <p:sp>
        <p:nvSpPr>
          <p:cNvPr id="580"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9BC0-FF62-4E45-98EB-8A0861C632D0}"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81" name=""/>
          <p:cNvSpPr txBox="1"/>
          <p:nvPr/>
        </p:nvSpPr>
        <p:spPr>
          <a:xfrm>
            <a:off x="914400" y="1447920"/>
            <a:ext cx="7772400" cy="4572000"/>
          </a:xfrm>
          <a:prstGeom prst="rect">
            <a:avLst/>
          </a:prstGeom>
          <a:noFill/>
          <a:ln w="0">
            <a:noFill/>
          </a:ln>
        </p:spPr>
        <p:txBody>
          <a:bodyPr anchor="t">
            <a:normAutofit/>
          </a:bodyPr>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Garamond"/>
              </a:rPr>
              <a:t>Enabling Technology</a:t>
            </a:r>
            <a:endParaRPr b="0" lang="en-US" sz="24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Accessibility to web based materials</a:t>
            </a:r>
            <a:endParaRPr b="0" lang="en-US" sz="20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Teaching-learning disabled children &amp; adults</a:t>
            </a:r>
            <a:endParaRPr b="0" lang="en-US" sz="20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Garamond"/>
              </a:rPr>
              <a:t>Fine Arts &amp; Humanities</a:t>
            </a:r>
            <a:endParaRPr b="0" lang="en-US" sz="24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Museum tours</a:t>
            </a:r>
            <a:endParaRPr b="0" lang="en-US" sz="20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Art exhibitions</a:t>
            </a:r>
            <a:endParaRPr b="0" lang="en-US" sz="2000" spc="-1" strike="noStrike">
              <a:solidFill>
                <a:srgbClr val="000000"/>
              </a:solidFill>
              <a:latin typeface="Perpetua"/>
            </a:endParaRPr>
          </a:p>
          <a:p>
            <a:pPr lvl="3" marL="1096920" indent="-228600">
              <a:lnSpc>
                <a:spcPct val="100000"/>
              </a:lnSpc>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Garamond"/>
              </a:rPr>
              <a:t>Presentations of literature</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p:dissolve/>
    <p:sndAc>
      <p:stSnd>
        <p:snd r:embed="rId1" name="arrow.wav"/>
      </p:stSnd>
    </p:sndAc>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81">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81">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81">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81">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581">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581">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5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BC1F-0382-44E0-A543-B9BA1C2A810A}"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31" name=""/>
          <p:cNvSpPr txBox="1"/>
          <p:nvPr/>
        </p:nvSpPr>
        <p:spPr>
          <a:xfrm>
            <a:off x="609480" y="914400"/>
            <a:ext cx="7772400" cy="495288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earning to make digital multimedia on a computer is a bit like learning a language</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t a computer language like Visual Basic or C++ but languages like English or German</a:t>
            </a:r>
            <a:r>
              <a:rPr b="0" lang="en-US" sz="2800" spc="-1" strike="noStrike">
                <a:solidFill>
                  <a:srgbClr val="000000"/>
                </a:solidFill>
                <a:latin typeface="Perpetua"/>
              </a:rPr>
              <a:t>. </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is because multimedia is more about communication between human beings than about technology</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14040" y="533520"/>
            <a:ext cx="6629400" cy="884160"/>
          </a:xfrm>
          <a:prstGeom prst="rect">
            <a:avLst/>
          </a:prstGeom>
          <a:solidFill>
            <a:srgbClr val="fad9cd"/>
          </a:solid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ftware Tools</a:t>
            </a:r>
            <a:endParaRPr b="0" lang="en-US" sz="4000" spc="-1" strike="noStrike">
              <a:solidFill>
                <a:srgbClr val="696464"/>
              </a:solidFill>
              <a:latin typeface="Franklin Gothic Book"/>
            </a:endParaRPr>
          </a:p>
        </p:txBody>
      </p:sp>
      <p:sp>
        <p:nvSpPr>
          <p:cNvPr id="58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D90C-F34F-4689-8808-19D5BB942B88}"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84"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ategories</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Music Sequencing and Notation</a:t>
            </a:r>
            <a:endParaRPr b="0" lang="en-US" sz="16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ackWalk, Cubase, </a:t>
            </a:r>
            <a:r>
              <a:rPr b="0" lang="en-US" sz="2000" spc="-1" strike="noStrike">
                <a:solidFill>
                  <a:srgbClr val="000000"/>
                </a:solidFill>
                <a:latin typeface="Perpetua"/>
              </a:rPr>
              <a:t>Macromedia</a:t>
            </a:r>
            <a:r>
              <a:rPr b="0" lang="en-US" sz="1400" spc="-1" strike="noStrike">
                <a:solidFill>
                  <a:srgbClr val="000000"/>
                </a:solidFill>
                <a:latin typeface="Perpetua"/>
              </a:rPr>
              <a:t> Sound Edit, etc</a:t>
            </a:r>
            <a:endParaRPr b="0" lang="en-US" sz="1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igital Audio</a:t>
            </a:r>
            <a:endParaRPr b="0" lang="en-US" sz="16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ool Edit, Sound Forge, Pro Tools, etc</a:t>
            </a:r>
            <a:endParaRPr b="0" lang="en-US" sz="1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Graphics and Image Editing</a:t>
            </a:r>
            <a:endParaRPr b="0" lang="en-US" sz="16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dobe Illustrator, Adobe Photoshop, Macromedia Fireworks, etc</a:t>
            </a:r>
            <a:endParaRPr b="0" lang="en-US" sz="1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Video Editing</a:t>
            </a:r>
            <a:endParaRPr b="0" lang="en-US" sz="16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dobe Premiere, Windows Movie Maker, iMovie, etc</a:t>
            </a:r>
            <a:endParaRPr b="0" lang="en-US" sz="1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Animation</a:t>
            </a:r>
            <a:endParaRPr b="0" lang="en-US" sz="16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D Studio Max, Maya, etc</a:t>
            </a:r>
            <a:endParaRPr b="0" lang="en-US" sz="14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Multimedia Authoring</a:t>
            </a:r>
            <a:endParaRPr b="0" lang="en-US" sz="1600" spc="-1" strike="noStrike">
              <a:solidFill>
                <a:srgbClr val="000000"/>
              </a:solidFill>
              <a:latin typeface="Perpetua"/>
            </a:endParaRPr>
          </a:p>
          <a:p>
            <a:pPr lvl="2" marL="822240" indent="-2286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Macromedia Flash, Macromedia Director, etc</a:t>
            </a:r>
            <a:endParaRPr b="0" lang="en-US" sz="1400" spc="-1" strike="noStrike">
              <a:solidFill>
                <a:srgbClr val="000000"/>
              </a:solidFill>
              <a:latin typeface="Perpetua"/>
            </a:endParaRPr>
          </a:p>
        </p:txBody>
      </p:sp>
    </p:spTree>
  </p:cSld>
  <p:transition>
    <p:dissolve/>
    <p:sndAc>
      <p:stSnd>
        <p:snd r:embed="rId1"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Multimedia- Applications</a:t>
            </a:r>
            <a:endParaRPr b="0" lang="en-US" sz="4000" spc="-1" strike="noStrike">
              <a:solidFill>
                <a:srgbClr val="696464"/>
              </a:solidFill>
              <a:latin typeface="Franklin Gothic Book"/>
            </a:endParaRPr>
          </a:p>
        </p:txBody>
      </p:sp>
      <p:sp>
        <p:nvSpPr>
          <p:cNvPr id="58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DE85-2675-4901-ADA4-BB7EF128B199}"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pic>
        <p:nvPicPr>
          <p:cNvPr id="587" name="Picture 3" descr=""/>
          <p:cNvPicPr/>
          <p:nvPr/>
        </p:nvPicPr>
        <p:blipFill>
          <a:blip r:embed="rId1"/>
          <a:stretch/>
        </p:blipFill>
        <p:spPr>
          <a:xfrm>
            <a:off x="1295280" y="1981080"/>
            <a:ext cx="5685120" cy="4114800"/>
          </a:xfrm>
          <a:prstGeom prst="rect">
            <a:avLst/>
          </a:prstGeom>
          <a:ln w="0">
            <a:noFill/>
          </a:ln>
        </p:spPr>
      </p:pic>
      <p:sp>
        <p:nvSpPr>
          <p:cNvPr id="588" name="AutoShape 4"/>
          <p:cNvSpPr/>
          <p:nvPr/>
        </p:nvSpPr>
        <p:spPr>
          <a:xfrm>
            <a:off x="7132680" y="2057400"/>
            <a:ext cx="2011320" cy="380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Times New Roman"/>
              </a:rPr>
              <a:t>In Medicine</a:t>
            </a:r>
            <a:br>
              <a:rPr sz="2400"/>
            </a:br>
            <a:br>
              <a:rPr sz="1800"/>
            </a:br>
            <a:br>
              <a:rPr sz="1800"/>
            </a:br>
            <a:br>
              <a:rPr sz="1800"/>
            </a:br>
            <a:r>
              <a:rPr b="0" lang="en-US" sz="1800" spc="-1" strike="noStrike" u="sng">
                <a:solidFill>
                  <a:srgbClr val="696464"/>
                </a:solidFill>
                <a:uFillTx/>
                <a:latin typeface="Times New Roman"/>
              </a:rPr>
              <a:t>Source</a:t>
            </a:r>
            <a:r>
              <a:rPr b="0" lang="en-US" sz="1800" spc="-1" strike="noStrike">
                <a:solidFill>
                  <a:srgbClr val="696464"/>
                </a:solidFill>
                <a:latin typeface="Times New Roman"/>
              </a:rPr>
              <a:t>: </a:t>
            </a:r>
            <a:br>
              <a:rPr sz="1800"/>
            </a:br>
            <a:r>
              <a:rPr b="0" lang="en-US" sz="1800" spc="-1" strike="noStrike">
                <a:solidFill>
                  <a:srgbClr val="696464"/>
                </a:solidFill>
                <a:latin typeface="Times New Roman"/>
              </a:rPr>
              <a:t>Cardiac Imaging,</a:t>
            </a:r>
            <a:br>
              <a:rPr sz="1800"/>
            </a:br>
            <a:r>
              <a:rPr b="0" lang="en-US" sz="1800" spc="-1" strike="noStrike">
                <a:solidFill>
                  <a:srgbClr val="696464"/>
                </a:solidFill>
                <a:latin typeface="Times New Roman"/>
              </a:rPr>
              <a:t>YALE centre for advanced cardiac imaging</a:t>
            </a:r>
            <a:endParaRPr b="1" lang="en-US" sz="1800" spc="-1" strike="noStrike">
              <a:solidFill>
                <a:srgbClr val="000000"/>
              </a:solidFill>
              <a:latin typeface="Times New Roman"/>
            </a:endParaRPr>
          </a:p>
        </p:txBody>
      </p:sp>
    </p:spTree>
  </p:cSld>
  <p:transition>
    <p:dissolve/>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Multimedia- Applications</a:t>
            </a:r>
            <a:endParaRPr b="0" lang="en-US" sz="4000" spc="-1" strike="noStrike">
              <a:solidFill>
                <a:srgbClr val="696464"/>
              </a:solidFill>
              <a:latin typeface="Franklin Gothic Book"/>
            </a:endParaRPr>
          </a:p>
        </p:txBody>
      </p:sp>
      <p:sp>
        <p:nvSpPr>
          <p:cNvPr id="590"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9A34-B725-4B87-A324-BDCE1467F6D4}"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pic>
        <p:nvPicPr>
          <p:cNvPr id="591" name="Picture 3" descr=""/>
          <p:cNvPicPr/>
          <p:nvPr/>
        </p:nvPicPr>
        <p:blipFill>
          <a:blip r:embed="rId1"/>
          <a:stretch/>
        </p:blipFill>
        <p:spPr>
          <a:xfrm>
            <a:off x="1173240" y="1981080"/>
            <a:ext cx="5761080" cy="4114800"/>
          </a:xfrm>
          <a:prstGeom prst="rect">
            <a:avLst/>
          </a:prstGeom>
          <a:ln w="0">
            <a:noFill/>
          </a:ln>
        </p:spPr>
      </p:pic>
      <p:sp>
        <p:nvSpPr>
          <p:cNvPr id="592" name="AutoShape 4"/>
          <p:cNvSpPr/>
          <p:nvPr/>
        </p:nvSpPr>
        <p:spPr>
          <a:xfrm>
            <a:off x="7132680" y="2057400"/>
            <a:ext cx="2011320" cy="380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2d1f"/>
                </a:solidFill>
                <a:latin typeface="Times New Roman"/>
              </a:rPr>
              <a:t>In training</a:t>
            </a:r>
            <a:br>
              <a:rPr sz="2400"/>
            </a:br>
            <a:br>
              <a:rPr sz="1800"/>
            </a:br>
            <a:br>
              <a:rPr sz="1800"/>
            </a:br>
            <a:endParaRPr b="1" lang="en-US" sz="2400" spc="-1" strike="noStrike">
              <a:solidFill>
                <a:srgbClr val="000000"/>
              </a:solidFill>
              <a:latin typeface="Times New Roman"/>
            </a:endParaRPr>
          </a:p>
        </p:txBody>
      </p:sp>
    </p:spTree>
  </p:cSld>
  <p:transition>
    <p:dissolve/>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Multimedia- Applications</a:t>
            </a:r>
            <a:endParaRPr b="0" lang="en-US" sz="4000" spc="-1" strike="noStrike">
              <a:solidFill>
                <a:srgbClr val="696464"/>
              </a:solidFill>
              <a:latin typeface="Franklin Gothic Book"/>
            </a:endParaRPr>
          </a:p>
        </p:txBody>
      </p:sp>
      <p:sp>
        <p:nvSpPr>
          <p:cNvPr id="594"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5960-A6A0-4800-B660-3D41D40F448F}"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pic>
        <p:nvPicPr>
          <p:cNvPr id="595" name="Picture 3" descr=""/>
          <p:cNvPicPr/>
          <p:nvPr/>
        </p:nvPicPr>
        <p:blipFill>
          <a:blip r:embed="rId1"/>
          <a:stretch/>
        </p:blipFill>
        <p:spPr>
          <a:xfrm>
            <a:off x="1173240" y="1981080"/>
            <a:ext cx="5456160" cy="3962520"/>
          </a:xfrm>
          <a:prstGeom prst="rect">
            <a:avLst/>
          </a:prstGeom>
          <a:ln w="0">
            <a:noFill/>
          </a:ln>
        </p:spPr>
      </p:pic>
      <p:sp>
        <p:nvSpPr>
          <p:cNvPr id="596" name="AutoShape 4"/>
          <p:cNvSpPr/>
          <p:nvPr/>
        </p:nvSpPr>
        <p:spPr>
          <a:xfrm>
            <a:off x="6705720" y="2057400"/>
            <a:ext cx="2239920" cy="380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Times New Roman"/>
              </a:rPr>
              <a:t>Public awareness campaign</a:t>
            </a:r>
            <a:br>
              <a:rPr sz="2000"/>
            </a:br>
            <a:br>
              <a:rPr sz="2000"/>
            </a:br>
            <a:br>
              <a:rPr sz="1600"/>
            </a:br>
            <a:r>
              <a:rPr b="0" lang="en-US" sz="1600" spc="-1" strike="noStrike" u="sng">
                <a:solidFill>
                  <a:srgbClr val="000000"/>
                </a:solidFill>
                <a:uFillTx/>
                <a:latin typeface="Times New Roman"/>
              </a:rPr>
              <a:t>Source</a:t>
            </a:r>
            <a:br>
              <a:rPr sz="1600"/>
            </a:br>
            <a:r>
              <a:rPr b="0" lang="en-US" sz="1200" spc="-1" strike="noStrike">
                <a:solidFill>
                  <a:srgbClr val="000000"/>
                </a:solidFill>
                <a:latin typeface="Times New Roman"/>
              </a:rPr>
              <a:t>Interactive Multimedia Project </a:t>
            </a:r>
            <a:br>
              <a:rPr sz="1200"/>
            </a:br>
            <a:r>
              <a:rPr b="0" lang="en-US" sz="1200" spc="-1" strike="noStrike">
                <a:solidFill>
                  <a:srgbClr val="000000"/>
                </a:solidFill>
                <a:latin typeface="Times New Roman"/>
              </a:rPr>
              <a:t>Department of food science&amp; nutrition, Colorado State Univ</a:t>
            </a:r>
            <a:br>
              <a:rPr sz="1800"/>
            </a:br>
            <a:br>
              <a:rPr sz="1400"/>
            </a:br>
            <a:br>
              <a:rPr sz="1800"/>
            </a:br>
            <a:endParaRPr b="1" lang="en-US" sz="1200" spc="-1" strike="noStrike">
              <a:solidFill>
                <a:srgbClr val="000000"/>
              </a:solidFill>
              <a:latin typeface="Times New Roman"/>
            </a:endParaRPr>
          </a:p>
        </p:txBody>
      </p:sp>
    </p:spTree>
  </p:cSld>
  <p:transition>
    <p:dissolve/>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4300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Book</a:t>
            </a:r>
            <a:endParaRPr b="0" lang="en-US" sz="4000" spc="-1" strike="noStrike">
              <a:solidFill>
                <a:srgbClr val="696464"/>
              </a:solidFill>
              <a:latin typeface="Franklin Gothic Book"/>
            </a:endParaRPr>
          </a:p>
        </p:txBody>
      </p:sp>
      <p:sp>
        <p:nvSpPr>
          <p:cNvPr id="598"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84F0-D2D3-4B68-B950-CB24EBD912AF}"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Introduction to Multimedia Systems</a:t>
            </a:r>
            <a:r>
              <a:rPr b="0" lang="en-US" sz="2400" spc="-1" strike="noStrike">
                <a:solidFill>
                  <a:srgbClr val="000000"/>
                </a:solidFill>
                <a:latin typeface="Perpetua"/>
              </a:rPr>
              <a:t>, by Gaurav Bhatnagar , Shikha Mehta , Sugata Mitra .</a:t>
            </a:r>
            <a:r>
              <a:rPr b="1" i="1" lang="en-US" sz="2400" spc="-1" strike="noStrike">
                <a:solidFill>
                  <a:srgbClr val="000000"/>
                </a:solidFill>
                <a:latin typeface="Perpetua"/>
              </a:rPr>
              <a:t>2002</a:t>
            </a:r>
            <a:r>
              <a:rPr b="0"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1" i="1" lang="en-US" sz="2400" spc="-1" strike="noStrike">
                <a:solidFill>
                  <a:srgbClr val="000000"/>
                </a:solidFill>
                <a:latin typeface="Perpetua"/>
              </a:rPr>
              <a:t>Multimedia Cartography, by  </a:t>
            </a:r>
            <a:r>
              <a:rPr b="0" lang="en-US" sz="2400" spc="-1" strike="noStrike">
                <a:solidFill>
                  <a:srgbClr val="000000"/>
                </a:solidFill>
                <a:latin typeface="Perpetua"/>
              </a:rPr>
              <a:t>William Cartwright</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ichael P. Peterson , Georg Gartner</a:t>
            </a:r>
            <a:r>
              <a:rPr b="1" i="1" lang="en-US" sz="2400" spc="-1" strike="noStrike">
                <a:solidFill>
                  <a:srgbClr val="000000"/>
                </a:solidFill>
                <a:latin typeface="Perpetua"/>
              </a:rPr>
              <a:t> . 2007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MULTIMEDIA IMAGE and VIDEO PROCESSING,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y Ling Guan , Sun-Yuan Kung ,Jan Larsen.</a:t>
            </a:r>
            <a:r>
              <a:rPr b="1" i="1" lang="en-US" sz="2400" spc="-1" strike="noStrike">
                <a:solidFill>
                  <a:srgbClr val="000000"/>
                </a:solidFill>
                <a:latin typeface="Perpetua"/>
              </a:rPr>
              <a:t>2009</a:t>
            </a: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p:transition>
    <p:dissolve/>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33160" y="380520"/>
            <a:ext cx="7848360" cy="1143000"/>
          </a:xfrm>
          <a:prstGeom prst="rect">
            <a:avLst/>
          </a:prstGeom>
          <a:solidFill>
            <a:srgbClr val="fad9cd"/>
          </a:solid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Multimedia Definition</a:t>
            </a:r>
            <a:r>
              <a:rPr b="1"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53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191D-048F-46D1-86B8-E0E0CA31DAE8}"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34" name=""/>
          <p:cNvSpPr txBox="1"/>
          <p:nvPr/>
        </p:nvSpPr>
        <p:spPr>
          <a:xfrm>
            <a:off x="685800" y="1752480"/>
            <a:ext cx="7772400" cy="373392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define digital multimedia as any combination of text, graphics (still and animated), sound, and motion video delivered to you by a computer. The computer is an intrinsic part of multimedia. All these elements text, graphics, sound, and video are either computer generated, or transmitted through a computer</a:t>
            </a:r>
            <a:r>
              <a:rPr b="0" lang="en-US" sz="2000" spc="-1" strike="noStrike">
                <a:solidFill>
                  <a:srgbClr val="000000"/>
                </a:solidFill>
                <a:latin typeface="Perpetua"/>
              </a:rPr>
              <a:t>.</a:t>
            </a:r>
            <a:endParaRPr b="0" lang="en-US" sz="2000" spc="-1" strike="noStrike">
              <a:solidFill>
                <a:srgbClr val="000000"/>
              </a:solidFill>
              <a:latin typeface="Perpetua"/>
            </a:endParaRPr>
          </a:p>
        </p:txBody>
      </p:sp>
    </p:spTree>
  </p:cSld>
  <p:transition>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9B13-1D46-45D5-BECC-5DB0A2F7B4FA}"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36" name=""/>
          <p:cNvSpPr txBox="1"/>
          <p:nvPr/>
        </p:nvSpPr>
        <p:spPr>
          <a:xfrm>
            <a:off x="456840" y="685800"/>
            <a:ext cx="8031240" cy="5562720"/>
          </a:xfrm>
          <a:prstGeom prst="rect">
            <a:avLst/>
          </a:prstGeom>
          <a:noFill/>
          <a:ln w="0">
            <a:noFill/>
          </a:ln>
        </p:spPr>
        <p:txBody>
          <a:bodyPr anchor="t">
            <a:normAutofit fontScale="99000"/>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word multimedia is a combination derived from multiple and media. The word medium (the singular of media) means a transmission channel. For example, sound is transmitted through the medium of air, or electricity is transmitted through the medium of wires. Similarly, poetry could be considered a medium for transmitting our thoughts. Or for that matter, a painting is a medium for conveying what we observe. Similarly, a Hollywood director uses the medium of movies to tell a story. Multimedia is also a medium</a:t>
            </a:r>
            <a:r>
              <a:rPr b="0" lang="en-US" sz="2800" spc="-1" strike="noStrike">
                <a:solidFill>
                  <a:srgbClr val="000000"/>
                </a:solidFill>
                <a:latin typeface="Perpetua"/>
              </a:rPr>
              <a:t> .</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1268-D0F9-44B5-B0CE-270F68319715}"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38" name=""/>
          <p:cNvSpPr txBox="1"/>
          <p:nvPr/>
        </p:nvSpPr>
        <p:spPr>
          <a:xfrm>
            <a:off x="533160" y="761760"/>
            <a:ext cx="7543800" cy="4800600"/>
          </a:xfrm>
          <a:prstGeom prst="rect">
            <a:avLst/>
          </a:prstGeom>
          <a:noFill/>
          <a:ln w="0">
            <a:noFill/>
          </a:ln>
        </p:spPr>
        <p:txBody>
          <a:bodyPr anchor="t">
            <a:normAutofit fontScale="93000"/>
          </a:bodyPr>
          <a:p>
            <a:pP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important difference between traditional multiple media such as radio and television and digital multimedia is the notion of interactivity. The power of computers allows users to interact with the programs. Since interactivity is such a powerful concept, many experts in the</a:t>
            </a:r>
            <a:endParaRPr b="0" lang="en-US" sz="2800" spc="-1" strike="noStrike">
              <a:solidFill>
                <a:srgbClr val="000000"/>
              </a:solidFill>
              <a:latin typeface="Perpetua"/>
            </a:endParaRPr>
          </a:p>
          <a:p>
            <a:pP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eld of multimedia consider interactivity to be an integral part of multimedia. We will also follow this convention. Thus, whenever we say the word multimedia, you should understand that we are referring to digital, interactive multimedia</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380520"/>
            <a:ext cx="7619760" cy="1143000"/>
          </a:xfrm>
          <a:prstGeom prst="rect">
            <a:avLst/>
          </a:prstGeom>
          <a:solidFill>
            <a:srgbClr val="fad9cd"/>
          </a:solid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ELEMENTS OF MULTIMEDIA</a:t>
            </a:r>
            <a:endParaRPr b="0" lang="en-US" sz="4000" spc="-1" strike="noStrike">
              <a:solidFill>
                <a:srgbClr val="696464"/>
              </a:solidFill>
              <a:latin typeface="Franklin Gothic Book"/>
            </a:endParaRPr>
          </a:p>
        </p:txBody>
      </p:sp>
      <p:sp>
        <p:nvSpPr>
          <p:cNvPr id="54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1699-FC6B-4E3C-868C-E03DA5F2C3BB}"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41" name=""/>
          <p:cNvSpPr txBox="1"/>
          <p:nvPr/>
        </p:nvSpPr>
        <p:spPr>
          <a:xfrm>
            <a:off x="914040" y="1752120"/>
            <a:ext cx="7589880" cy="4496040"/>
          </a:xfrm>
          <a:prstGeom prst="rect">
            <a:avLst/>
          </a:prstGeom>
          <a:noFill/>
          <a:ln w="0">
            <a:noFill/>
          </a:ln>
        </p:spPr>
        <p:txBody>
          <a:bodyPr anchor="t">
            <a:normAutofit fontScale="99000"/>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irst element of multimedia we consider is audio. The word audio is slightly different from sound. Audio consists of the sounds we can hear. This may seem contradictory, but it is well known that humans do not hear all possible sounds. For example, the sound emitted by the dog-whistle is recognized by dogs but not by humans. Audio is one of the most appealing elements of any successful multimedia presentation</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9FD8-D23B-49F3-AAB0-D27CE6A57359}"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43" name=""/>
          <p:cNvSpPr txBox="1"/>
          <p:nvPr/>
        </p:nvSpPr>
        <p:spPr>
          <a:xfrm>
            <a:off x="456840" y="609480"/>
            <a:ext cx="7574040" cy="556272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udio that appears in a multimedia presentation is of two types. It is either computer generated, or recorded and converted into a digital format</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erhaps the most important element of multimedia is the graphic element. Multimedia presentations are predominantly graphics based. Information communicated through pictures is easier to understand and retain</a:t>
            </a:r>
            <a:r>
              <a:rPr b="0" lang="en-US" sz="2800" spc="-1" strike="noStrike">
                <a:solidFill>
                  <a:srgbClr val="000000"/>
                </a:solidFill>
                <a:latin typeface="Perpetua"/>
              </a:rPr>
              <a:t>. </a:t>
            </a: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CAF1-7523-4F05-B15B-04850FA42E19}"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45" name=""/>
          <p:cNvSpPr txBox="1"/>
          <p:nvPr/>
        </p:nvSpPr>
        <p:spPr>
          <a:xfrm>
            <a:off x="685440" y="838080"/>
            <a:ext cx="7589880" cy="548640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raphic elements in a multimedia system could be still pictures (like photographs) converted to digital format with the help of scanners, or generated on the computer. They may be flat (or two-dimensional), such as photographs and paintings, or they may appear solid (or three-dimensional), like sculptures and objects around us. They may be either static graphic elements or animated. Further, animations may be two-dimensional, as in old cartoon films, or three-dimensional</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dissolve/>
    <p:sndAc>
      <p:stSnd>
        <p:snd r:embed="rId1" name="arrow.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C5BD-65E0-4A64-B83C-704E2B879A1E}" type="slidenum">
              <a:rPr b="1" lang="ar-SA" sz="1400" spc="-1" strike="noStrike">
                <a:solidFill>
                  <a:srgbClr val="ffffff"/>
                </a:solidFill>
                <a:latin typeface="Franklin Gothic Book"/>
                <a:ea typeface="Tahoma"/>
              </a:rPr>
              <a:t>&lt;number&gt;</a:t>
            </a:fld>
            <a:endParaRPr b="1" lang="en-US" sz="1400" spc="-1" strike="noStrike">
              <a:solidFill>
                <a:srgbClr val="000000"/>
              </a:solidFill>
              <a:latin typeface="Times New Roman"/>
            </a:endParaRPr>
          </a:p>
        </p:txBody>
      </p:sp>
      <p:sp>
        <p:nvSpPr>
          <p:cNvPr id="547" name=""/>
          <p:cNvSpPr txBox="1"/>
          <p:nvPr/>
        </p:nvSpPr>
        <p:spPr>
          <a:xfrm>
            <a:off x="685440" y="990360"/>
            <a:ext cx="7589880" cy="5562360"/>
          </a:xfrm>
          <a:prstGeom prst="rect">
            <a:avLst/>
          </a:prstGeom>
          <a:noFill/>
          <a:ln w="0">
            <a:noFill/>
          </a:ln>
        </p:spPr>
        <p:txBody>
          <a:bodyPr anchor="t">
            <a:normAutofit/>
          </a:bodyPr>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puter-generated text is another element of multimedia. A few words appearing in a predominantly graphic multimedia system can have a powerful effect. On the Internet, text is used much more than on stand-alone multimedia products, so it takes on an added importance</a:t>
            </a:r>
            <a:r>
              <a:rPr b="0" lang="en-US" sz="2800" spc="-1" strike="noStrike">
                <a:solidFill>
                  <a:srgbClr val="000000"/>
                </a:solidFill>
                <a:latin typeface="Perpetua"/>
              </a:rPr>
              <a:t>.</a:t>
            </a:r>
            <a:endParaRPr b="0" lang="en-US" sz="2800" spc="-1" strike="noStrike">
              <a:solidFill>
                <a:srgbClr val="000000"/>
              </a:solidFill>
              <a:latin typeface="Perpetua"/>
            </a:endParaRPr>
          </a:p>
          <a:p>
            <a:pP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so, text and art can be mixed together in interesting ways to reinforce the message being transmitted. Text can also be animated in interesting ways</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p:transition>
    <p:dissolve/>
    <p:sndAc>
      <p:stSnd>
        <p:snd r:embed="rId1" name="arrow.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0:10:59Z</dcterms:created>
  <dc:creator>dlpd</dc:creator>
  <dc:description/>
  <dc:language>en-US</dc:language>
  <cp:lastModifiedBy>ABBAS</cp:lastModifiedBy>
  <dcterms:modified xsi:type="dcterms:W3CDTF">2013-10-22T07:54:16Z</dcterms:modified>
  <cp:revision>134</cp:revision>
  <dc:subject/>
  <dc:title>Multimedia – An Introduction                                                                                                                                                   Lecture-1</dc:title>
</cp:coreProperties>
</file>